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4377-A58F-4D56-929A-7B6D215DD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ADDA-4075-49DB-B3E9-88128C51F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EBC3-AF1D-4860-9CD4-4ADF71BA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A788-29E9-4F94-9A15-6F3B8D784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4B86-77B4-42C1-B7C0-19814CD9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4ACB-F3D8-4CB9-94D2-D3C91EAF9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AF66-798C-42C0-ADF8-1CAE83866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4A45-E699-4BDD-B7DB-5FB9F7AF4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034F-835C-4593-9D45-EE371E5C5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9A4D-C7C4-45F6-B4E0-C484E4447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75C0-2B48-46A2-AF37-5490AF630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67CC-9F58-4C0B-83E6-E8872CF9E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69A-C556-4EA8-8F40-D034D5C93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D13F-1AA9-4C9A-9BCC-0C0352A9B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3381-BEF9-4ED1-A1C6-34119A288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AFA7-F8C7-4B74-948E-11B1ACBAF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EB49-9E31-42B1-9B74-318F1D898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2046-25BA-48F2-823E-2F6D5DB42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AE30-2A9A-4017-9C78-C8ED5DCBD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3651-49B5-44F3-9F66-67CB3B55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2A09-5650-479E-AA49-C8B167869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28CF-B121-4F79-BD2B-A964423FF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D604-885F-4586-B280-642F99E21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C 26 - JAN 1 CELEBRATION'S NAME COMES FROM A SWAHILI PHRASE MEANING "FIRST FRUIT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OBY–D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HAD A GROUP OF CRIME SOLVERS RIDING IN A VAN PAINTED WITH FLOWER POWER IMAGERY NAMED    "THE MYSTERY MAC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28880" y="4800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  THE 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TRIOTIC SONG'S LYRICS WERE WRITTEN BY KATHARINE LEE BATES AND MUSIC WAS WRITTEN BY SAMUEL 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19040" y="4800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LY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47920" y="762120"/>
            <a:ext cx="624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MERICA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TER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TV ICON HAD MIDDLE NAME MCFEE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14400" y="48006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ABRAHAM LINCOLN BU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A  HO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838080"/>
            <a:ext cx="5486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, DANCER, ACTRESS, AND CIVIL RIGHTS ACTIVIS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330px-Lena_Horne_1955.jpg"/>
          <p:cNvPicPr/>
          <p:nvPr/>
        </p:nvPicPr>
        <p:blipFill>
          <a:blip r:embed="rId1"/>
          <a:stretch/>
        </p:blipFill>
        <p:spPr>
          <a:xfrm>
            <a:off x="5715000" y="533520"/>
            <a:ext cx="3009960" cy="371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SETT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PLANT IS NAMED AFTER THE FIRST U.S. MINISTER TO MEXICO, WHO INTRODUCED IT TO THE  U.S. IN 182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HAD A GROUP OF CRIME SOLVERS RIDING IN A VAN PAINTED WITH FLOWER POWER IMAGERY NAMED    "THE MYSTERY MAC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104840" y="480060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266760" y="7207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T OUT THIS 1971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imagine-500x500.jpg"/>
          <p:cNvPicPr/>
          <p:nvPr/>
        </p:nvPicPr>
        <p:blipFill>
          <a:blip r:embed="rId1"/>
          <a:stretch/>
        </p:blipFill>
        <p:spPr>
          <a:xfrm>
            <a:off x="3276720" y="19810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WANZ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C 26 - JAN 1 CELEBRATION'S NAME COMES FROM A SWAHILI PHRASE MEANING "FIRST FRUIT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676520" y="4267080"/>
            <a:ext cx="5790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EMORATED  WITH  2018  U.S.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TRIOTIC SONG'S LYRICS WERE WRITTEN BY KATHARINE LEE BATES AND MUSIC WAS WRITTEN BY SAMUEL 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MERICA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TV ICON HAD MIDDLE NAME MCFEE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ABRAHAM LINCOLN BU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, DANCER, ACTRESS, AND CIVIL RIGHTS ACTIVIS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330px-Lena_Horne_1955.jpg"/>
          <p:cNvPicPr/>
          <p:nvPr/>
        </p:nvPicPr>
        <p:blipFill>
          <a:blip r:embed="rId1"/>
          <a:stretch/>
        </p:blipFill>
        <p:spPr>
          <a:xfrm>
            <a:off x="5715000" y="533520"/>
            <a:ext cx="3009960" cy="37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PLANT IS NAMED AFTER THE FIRST U.S. MINISTER TO MEXICO, WHO INTRODUCED IT TO THE  U.S. IN 182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T OUT THIS 1971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imagine-500x500.jpg"/>
          <p:cNvPicPr/>
          <p:nvPr/>
        </p:nvPicPr>
        <p:blipFill>
          <a:blip r:embed="rId1"/>
          <a:stretch/>
        </p:blipFill>
        <p:spPr>
          <a:xfrm>
            <a:off x="3124080" y="20574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18:18:36Z</dcterms:created>
  <dc:creator>Jennifer Budzinski</dc:creator>
  <dc:description/>
  <dc:language>en-US</dc:language>
  <cp:lastModifiedBy>Erich Friedman</cp:lastModifiedBy>
  <dcterms:modified xsi:type="dcterms:W3CDTF">2020-08-29T18:15:56Z</dcterms:modified>
  <cp:revision>466</cp:revision>
  <dc:subject/>
  <dc:title>Slide 1</dc:title>
</cp:coreProperties>
</file>