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5E2F-9D00-4784-B9D2-79D167CEA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C15D-59B2-40DE-8F1C-F1F252CAF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68D-FF7B-4CA5-9D97-01BD97C3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3562-B9AD-4D99-B9D8-3DE3C9A7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C92B-EE04-4CC0-83CF-3D0CD01C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E711-3BFB-4117-8338-1AE99A69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FD0C-6A51-4284-8003-E1931F26C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7D3D-04C7-4BCB-80AB-5DA0C1D0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950F-D4C4-4817-9E1B-D4AA843C7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1A3-CE15-4656-9E55-C0100B394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C52-D838-4BBD-9615-0788CAE98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A861-2B41-48F8-91BB-52D7312C4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E675-91EF-4D47-874D-056CB3C90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57E1-624A-4888-BB50-D7D5D8D4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6FC0-67BA-47C7-8D71-F23D7D200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E4E2-52CC-4239-940A-AAA7B637F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2E64-308D-4067-9AE5-8BBC7D19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95FB-E925-4E0B-BF26-C9660689C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F86E-A157-4EAC-BF0A-4A48282A7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70B4-AE1E-4564-875D-B5262035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2BBF-87D1-45D7-83C4-FC622A92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912D-F3A3-4BF9-AD7D-7501DA3F6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3DB4-93D7-4A6B-BEEA-D591B9DD8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 26 - JAN 1 CELEBRATION'S NAME COMES FROM A SWAHILI PHRASE MEANING "FIRST FRUIT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OBY–D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HAD A GROUP OF CRIME SOLVERS RIDING IN A VAN PAINTED WITH FLOWER POWER IMAGERY NAMED    "THE MYSTERY MAC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800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  THE 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SONG'S LYRICS WERE WRITTEN BY KATHARINE LEE BATES AND MUSIC WAS WRITTEN BY SAMUEL 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19040" y="4800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LY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47920" y="762120"/>
            <a:ext cx="624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MERIC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TER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TV ICON HAD MIDDLE NAME MCFEE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ABRAHAM LINCOLN BU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A  H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838080"/>
            <a:ext cx="5486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, DANCER, ACTRESS, AND CIVIL RIGHTS ACTIVIS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330px-Lena_Horne_1955.jpg"/>
          <p:cNvPicPr/>
          <p:nvPr/>
        </p:nvPicPr>
        <p:blipFill>
          <a:blip r:embed="rId1"/>
          <a:stretch/>
        </p:blipFill>
        <p:spPr>
          <a:xfrm>
            <a:off x="5715000" y="533520"/>
            <a:ext cx="3009960" cy="371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SETT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PLANT IS NAMED AFTER THE FIRST U.S. MINISTER TO MEXICO, WHO INTRODUCED IT TO THE  U.S. IN 182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HAD A GROUP OF CRIME SOLVERS RIDING IN A VAN PAINTED WITH FLOWER POWER IMAGERY NAMED    "THE MYSTERY MAC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104840" y="480060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66760" y="7207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THIS 1971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imagine-500x500.jpg"/>
          <p:cNvPicPr/>
          <p:nvPr/>
        </p:nvPicPr>
        <p:blipFill>
          <a:blip r:embed="rId1"/>
          <a:stretch/>
        </p:blipFill>
        <p:spPr>
          <a:xfrm>
            <a:off x="3276720" y="1981080"/>
            <a:ext cx="259056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WANZ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 26 - JAN 1 CELEBRATION'S NAME COMES FROM A SWAHILI PHRASE MEANING "FIRST FRUIT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676520" y="4267080"/>
            <a:ext cx="5790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EMORATED  WITH  2018  U.S.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SONG'S LYRICS WERE WRITTEN BY KATHARINE LEE BATES AND MUSIC WAS WRITTEN BY SAMUEL 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MERICA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TV ICON HAD MIDDLE NAME MCFEE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ABRAHAM LINCOLN BU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5638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, DANCER, ACTRESS, AND CIVIL RIGHTS ACTIVIS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330px-Lena_Horne_1955.jpg"/>
          <p:cNvPicPr/>
          <p:nvPr/>
        </p:nvPicPr>
        <p:blipFill>
          <a:blip r:embed="rId1"/>
          <a:stretch/>
        </p:blipFill>
        <p:spPr>
          <a:xfrm>
            <a:off x="5715000" y="533520"/>
            <a:ext cx="3009960" cy="37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PLANT IS NAMED AFTER THE FIRST U.S. MINISTER TO MEXICO, WHO INTRODUCED IT TO THE  U.S. IN 182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T OUT THIS 1971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imagine-500x500.jpg"/>
          <p:cNvPicPr/>
          <p:nvPr/>
        </p:nvPicPr>
        <p:blipFill>
          <a:blip r:embed="rId1"/>
          <a:stretch/>
        </p:blipFill>
        <p:spPr>
          <a:xfrm>
            <a:off x="3124080" y="205740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8:18:36Z</dcterms:created>
  <dc:creator>Jennifer Budzinski</dc:creator>
  <dc:description/>
  <dc:language>en-US</dc:language>
  <cp:lastModifiedBy>Erich Friedman</cp:lastModifiedBy>
  <dcterms:modified xsi:type="dcterms:W3CDTF">2020-08-29T18:15:56Z</dcterms:modified>
  <cp:revision>466</cp:revision>
  <dc:subject/>
  <dc:title>Slide 1</dc:title>
</cp:coreProperties>
</file>