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087-4BCC-4AC4-B485-9F19876C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A9AB-9A2C-4FA7-8F7E-3AF8DD88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0D8-B889-4222-89E2-12F4553B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F355-43D0-4454-9B54-AD57D0836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197-C222-4B88-A87B-B439D957E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DEA-236A-4F93-A236-669989EB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BB7F-9B17-443E-8986-F0726032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656-2F80-42BB-A356-BE2E654B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FE9B-AD47-4C06-9F99-1C48D45A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D58-D53F-4C27-9EC0-3A60560B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BD4-3636-4C72-8223-5B182C5C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70B-3985-4AC6-8759-6A9866FD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003-EE0E-400B-B6A2-B10CC876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747B-E7B9-479D-88F2-741CE63C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7718-95D0-4F25-AEFB-5B819D21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866-0243-46FB-84AD-6C8CB041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1519-5B15-4F91-AB03-45E648FD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0B20-F37D-44DA-8773-F599FC95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12B-CFC1-47F7-A82A-1F90DD5B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3728-9EBD-4D85-81A0-F694F0D7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F97-7149-41F6-ADD1-465DE159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BCF-1277-4016-B1DD-481243FF2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144-00B2-4225-9F4B-72A9F1D24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 26 - JAN 1 CELEBRATION'S NAME COMES FROM A SWAHILI PHRASE MEANING "FIRST FRUI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BY–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HAD A GROUP OF CRIME SOLVERS RIDING IN A VAN PAINTED WITH FLOWER POWER IMAGERY NAMED    "THE MYSTERY MAC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00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  THE 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SONG'S LYRICS WERE WRITTEN BY KATHARINE LEE BATES AND MUSIC WAS WRITTEN BY SAMUEL 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MERIC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ER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TV ICON HAD MIDDLE NAME MCFEE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ABRAHAM LINCOLN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A  H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838080"/>
            <a:ext cx="5486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, DANCER, ACTRESS, AND CIVIL RIGHTS ACTIVIS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330px-Lena_Horne_1955.jpg"/>
          <p:cNvPicPr/>
          <p:nvPr/>
        </p:nvPicPr>
        <p:blipFill>
          <a:blip r:embed="rId1"/>
          <a:stretch/>
        </p:blipFill>
        <p:spPr>
          <a:xfrm>
            <a:off x="5715000" y="533520"/>
            <a:ext cx="3009960" cy="37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SETT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PLANT IS NAMED AFTER THE FIRST U.S. MINISTER TO MEXICO, WHO INTRODUCED IT TO THE  U.S. IN 182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HAD A GROUP OF CRIME SOLVERS RIDING IN A VAN PAINTED WITH FLOWER POWER IMAGERY NAMED    "THE MYSTERY MAC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104840" y="48006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66760" y="7207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THIS 1971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imagine-500x500.jpg"/>
          <p:cNvPicPr/>
          <p:nvPr/>
        </p:nvPicPr>
        <p:blipFill>
          <a:blip r:embed="rId1"/>
          <a:stretch/>
        </p:blipFill>
        <p:spPr>
          <a:xfrm>
            <a:off x="3276720" y="19810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WANZ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 26 - JAN 1 CELEBRATION'S NAME COMES FROM A SWAHILI PHRASE MEANING "FIRST FRUI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676520" y="4267080"/>
            <a:ext cx="5790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EMORATED  WITH  2018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SONG'S LYRICS WERE WRITTEN BY KATHARINE LEE BATES AND MUSIC WAS WRITTEN BY SAMUEL 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MERIC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TV ICON HAD MIDDLE NAME MCFEE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ABRAHAM LINCOLN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, DANCER, ACTRESS, AND CIVIL RIGHTS ACTIVIS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330px-Lena_Horne_1955.jpg"/>
          <p:cNvPicPr/>
          <p:nvPr/>
        </p:nvPicPr>
        <p:blipFill>
          <a:blip r:embed="rId1"/>
          <a:stretch/>
        </p:blipFill>
        <p:spPr>
          <a:xfrm>
            <a:off x="5715000" y="533520"/>
            <a:ext cx="300996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PLANT IS NAMED AFTER THE FIRST U.S. MINISTER TO MEXICO, WHO INTRODUCED IT TO THE  U.S. IN 182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THIS 1971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imagine-500x500.jpg"/>
          <p:cNvPicPr/>
          <p:nvPr/>
        </p:nvPicPr>
        <p:blipFill>
          <a:blip r:embed="rId1"/>
          <a:stretch/>
        </p:blipFill>
        <p:spPr>
          <a:xfrm>
            <a:off x="3124080" y="20574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8:18:36Z</dcterms:created>
  <dc:creator>Jennifer Budzinski</dc:creator>
  <dc:description/>
  <dc:language>en-US</dc:language>
  <cp:lastModifiedBy>Erich Friedman</cp:lastModifiedBy>
  <dcterms:modified xsi:type="dcterms:W3CDTF">2020-08-29T18:15:56Z</dcterms:modified>
  <cp:revision>466</cp:revision>
  <dc:subject/>
  <dc:title>Slide 1</dc:title>
</cp:coreProperties>
</file>