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163A-729C-4DF9-AC2A-359986193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E3C3-F36B-4EBD-B4F5-D7DA2632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E6E3-88FC-4741-809A-B8DB63E3C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1427-5DB4-440E-A6FF-EEBFA9B7A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C9C0-730C-459B-96C5-97A3C2433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95ED-A841-4117-90D4-F4AB77479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A15F-7515-4359-80F4-3B77B2525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C644-35FF-436D-9509-BB7FA7AD2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DA69-8E36-460B-BEA1-9F644EDE4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5672-116B-497A-984D-E57817558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A7BA-6934-4113-A9AD-604B70B8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0CA8-58CC-420E-9C64-99321CD0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DCE3-667D-4BF9-95C2-957C48807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6BB3-0303-4131-BDF3-353399F53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380F-F0D0-4DBB-A2B5-A11B44EA1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5F86-A3EB-41C9-9313-1C85B848F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7A5-622F-427F-A3AA-10ABC24B1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3FDC-E594-441B-B7EE-C6B998590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27DD-06E6-4FE6-B63B-A12F6A3AB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2050-CEDD-49C7-81FD-8E2D20327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CF88-8B94-4611-9BF8-3202C7C30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10B4-8A08-40EF-B832-E09E79DA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2BA7-938D-4B55-BF6A-35C6BC1B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2, AND WAS QB FOR THE BENGALS, RAIDERS, AND CARDINALS BEFORE RETIRING IN 2017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4468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PER  THE  FRIENDLY  G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2682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.gif"/>
          <p:cNvPicPr/>
          <p:nvPr/>
        </p:nvPicPr>
        <p:blipFill>
          <a:blip r:embed="rId1"/>
          <a:stretch/>
        </p:blipFill>
        <p:spPr>
          <a:xfrm>
            <a:off x="2752560" y="1981080"/>
            <a:ext cx="36388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28880" y="4800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LSON  ROCKEF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19040" y="4800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EARL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DARTH VADER IN "STAR WARS" AND MUFASA IN "THE LION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N  ROCK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COVER ILLUSTRATIONS FOR "THE SATURDAY EVENING POST" FOR ALMOST 5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800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95280" y="762120"/>
            <a:ext cx="6553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ONLY BIG HIT WAS  "BABY COM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JOAN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OES LUCY LIU PLAY ON TV'S "ELEMEN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GAN'S  HER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BOB CRANE AND RICHARD DAWSON AS P.O.W.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C.gif"/>
          <p:cNvPicPr/>
          <p:nvPr/>
        </p:nvPicPr>
        <p:blipFill>
          <a:blip r:embed="rId1"/>
          <a:stretch/>
        </p:blipFill>
        <p:spPr>
          <a:xfrm>
            <a:off x="2654280" y="2027160"/>
            <a:ext cx="3834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0060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S OF GOLF CLUBS, NAMED FOR THE MATERIAL THEY USED TO  BE MADE OF, ARE USED FOR LONG DISTANCE DR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2, AND WAS QB FOR THE BENGALS, RAIDERS, AND CARDINALS BEFORE RETIRING IN 2017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09760" y="426708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GOLFING  G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DARTH VADER IN "STAR WARS" AND MUFASA IN "THE LION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COVER ILLUSTRATIONS FOR "THE SATURDAY EVENING POST" FOR ALMOST 5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ONLY BIG HIT WAS "BABY COME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OES LUCY LIU PLAY ON TV'S "ELEMEN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BOB CRANE AND RICHARD DAWSON AS P.O.W.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S OF GOLF CLUBS, NAMED FOR THE MATERIAL THEY USED TO BE MADE OF, ARE USED FOR LONG DISTANCE DR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6T14:29:47Z</dcterms:created>
  <dc:creator>Jennifer Budzinski</dc:creator>
  <dc:description/>
  <dc:language>en-US</dc:language>
  <cp:lastModifiedBy>Erich Friedman</cp:lastModifiedBy>
  <dcterms:modified xsi:type="dcterms:W3CDTF">2020-08-29T18:17:02Z</dcterms:modified>
  <cp:revision>472</cp:revision>
  <dc:subject/>
  <dc:title>Slide 1</dc:title>
</cp:coreProperties>
</file>