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34A5-89E2-4855-8CFE-EFC839DCC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1DC4-94CD-46B4-A438-8DEA92BC1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30FE-4E00-414E-A999-6B60BE1DA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F796-EEB6-4DB7-9B09-6FFF64E4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A882-7FD3-4279-A6AF-FD8E66913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1738-0D8C-427B-AEEE-380FF8BDC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FFAF-B0BA-4AB3-8A2D-4E05BFF32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1D4D-1EE9-4154-A889-BD2CA2CB9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2296-4246-4CD9-B68A-CCC6A5EF1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91D2-95E7-4DE0-B12A-51DF4BB2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84CB-9584-464A-AB13-81286E6E7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933C-EEB5-4A9D-BCC6-1ED2B1FE0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175B-213D-4CBA-B901-383948217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E67A-904A-4C1D-9EE4-28C3586D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ED3C-39BD-449B-B1DC-98C3160A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080E-6DFE-4C91-B6E1-7015AFE6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30A5-FF31-4C39-9AB0-A27C4C76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20BC-1E48-41EA-A8CD-7A4FE5F96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A981-B924-4E7D-A48D-E55085D9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A50A-3039-4450-B600-3286C1D7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649B-7E28-49D3-A7A9-2D3AC8ACD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39FC-D31F-4867-BCBB-21B337E8F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18CF-D94A-40F7-B6D2-F5E7B5E7E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2, AND WAS QB FOR THE BENGALS, RAIDERS, AND CARDINALS BEFORE RETIRING IN 2017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4468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PER  THE  FRIENDLY  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2682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.gif"/>
          <p:cNvPicPr/>
          <p:nvPr/>
        </p:nvPicPr>
        <p:blipFill>
          <a:blip r:embed="rId1"/>
          <a:stretch/>
        </p:blipFill>
        <p:spPr>
          <a:xfrm>
            <a:off x="2752560" y="1981080"/>
            <a:ext cx="36388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28880" y="4800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ROCKEF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19040" y="4800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EARL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DARTH VADER IN "STAR WARS" AND MUFASA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N  ROCK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COVER ILLUSTRATIONS FOR "THE SATURDAY EVENING POST" FOR ALMOST 5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95280" y="762120"/>
            <a:ext cx="6553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ONLY BIG HIT WAS  "BABY COM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JOAN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OES LUCY LIU PLAY ON TV'S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GAN'S  HER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BOB CRANE AND RICHARD DAWSON AS P.O.W.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.gif"/>
          <p:cNvPicPr/>
          <p:nvPr/>
        </p:nvPicPr>
        <p:blipFill>
          <a:blip r:embed="rId1"/>
          <a:stretch/>
        </p:blipFill>
        <p:spPr>
          <a:xfrm>
            <a:off x="2654280" y="2027160"/>
            <a:ext cx="3834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0060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S OF GOLF CLUBS, NAMED FOR THE MATERIAL THEY USED TO  BE MADE OF, ARE USED FOR LONG DISTANCE DR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2, AND WAS QB FOR THE BENGALS, RAIDERS, AND CARDINALS BEFORE RETIRING IN 2017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09760" y="426708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GOLFING  G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DARTH VADER IN "STAR WARS" AND MUFASA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COVER ILLUSTRATIONS FOR "THE SATURDAY EVENING POST" FOR ALMOST 5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ONLY BIG HIT WAS "BABY COME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OES LUCY LIU PLAY ON TV'S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BOB CRANE AND RICHARD DAWSON AS P.O.W.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S OF GOLF CLUBS, NAMED FOR THE MATERIAL THEY USED TO BE MADE OF, ARE USED FOR LONG DISTANCE DR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6T14:29:47Z</dcterms:created>
  <dc:creator>Jennifer Budzinski</dc:creator>
  <dc:description/>
  <dc:language>en-US</dc:language>
  <cp:lastModifiedBy>Erich Friedman</cp:lastModifiedBy>
  <dcterms:modified xsi:type="dcterms:W3CDTF">2020-08-29T18:17:02Z</dcterms:modified>
  <cp:revision>472</cp:revision>
  <dc:subject/>
  <dc:title>Slide 1</dc:title>
</cp:coreProperties>
</file>