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9AD6-A899-4AE9-9223-E74070096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6A2F-3438-482B-9526-DDCD3F36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C647-E31B-4BF4-A45C-F86DB2925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508B-27DA-490A-A145-1C4D8DA93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6FA7-8A60-47A2-8A26-60A3C6A97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D338-D797-4C1F-8F7B-66F17828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5288-5AB1-4A6B-BB01-2B94D876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CD7D-D63D-4B2F-8F13-D3FB94F03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F820-2814-4DE0-999B-3FDAEABF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1CE8-33D5-4167-B256-4AAD3B29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2F9-489F-4B48-A60B-5A380A982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CC62-E0CC-4014-86DA-C5D58C7A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7D3-D5C1-49CD-A24B-11C92D9A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3CE4-BF59-44C2-B0AE-671AB113D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EC94-C898-4C94-B7C6-C19C157C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B794-24A8-4459-9F05-75E441B74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451-5CD9-44F6-A02B-212B265B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74FE-9F0E-4529-8A2F-707155DC3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971B-96C7-41B2-A0AF-293FF98D5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4CE-3690-4818-8413-826F69DA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8638-10E7-4947-A586-5A4DA5B0E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76FD-E4C3-4539-8EFD-92AF3BBE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3D76-A006-4828-A774-EAF0D08DD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4468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ER  THE  FRIENDLY  GH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682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C.gif"/>
          <p:cNvPicPr/>
          <p:nvPr/>
        </p:nvPicPr>
        <p:blipFill>
          <a:blip r:embed="rId1"/>
          <a:stretch/>
        </p:blipFill>
        <p:spPr>
          <a:xfrm>
            <a:off x="2752560" y="1981080"/>
            <a:ext cx="36388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00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EAR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MAN  ROCK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 "BABY COM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JOA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AN'S  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.gif"/>
          <p:cNvPicPr/>
          <p:nvPr/>
        </p:nvPicPr>
        <p:blipFill>
          <a:blip r:embed="rId1"/>
          <a:stretch/>
        </p:blipFill>
        <p:spPr>
          <a:xfrm>
            <a:off x="2654280" y="2027160"/>
            <a:ext cx="3834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006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 BE MADE OF, ARE USED FOR LONG DISTANCE DRI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ON  PAL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2, AND WAS QB FOR THE BENGALS, RAIDERS, AND CARDINALS BEFORE RETIRING IN 201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09760" y="4267080"/>
            <a:ext cx="6324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GOLFING  G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U.S. VICE PRESIDENT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VOICED DARTH VADER IN "STAR WARS" AND MUFASA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COVER ILLUSTRATIONS FOR "THE SATURDAY EVENING POST" FOR ALMOST 5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'S ONLY BIG HIT WAS "BABY COM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OES LUCY LIU PLAY ON TV'S "ELEMENT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BOB CRANE AND RICHARD DAWSON AS P.O.W.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S OF GOLF CLUBS, NAMED FOR THE MATERIAL THEY USED TO BE MADE OF, ARE USED FOR LONG DISTANCE DRI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4:29:47Z</dcterms:created>
  <dc:creator>Jennifer Budzinski</dc:creator>
  <dc:description/>
  <dc:language>en-US</dc:language>
  <cp:lastModifiedBy>Erich Friedman</cp:lastModifiedBy>
  <dcterms:modified xsi:type="dcterms:W3CDTF">2020-08-29T18:17:02Z</dcterms:modified>
  <cp:revision>472</cp:revision>
  <dc:subject/>
  <dc:title>Slide 1</dc:title>
</cp:coreProperties>
</file>