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C31C-6277-45D8-A239-BDB2C0704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900B-2CC4-46BF-8941-ADE6EDF3E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FEF9-BE27-43E7-9DB1-B61B0365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EB04-5E4B-42EB-A193-A5BF2682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19F9-7829-4667-BDB7-C4C5BDFCB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FEB0-2DD7-4BA5-9259-E49639FDF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54F6-4227-4051-8F0E-0871578ED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D46D-47B2-453D-897C-7A6843C26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6AA-334D-480D-BDCC-A58CD081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F564-CA35-4E77-B5B3-6AF0F081B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3871-17CD-45AC-B8CD-25E053E0C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F8C3-2066-4623-9433-BB5E5E112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3807-A779-438B-81AF-D1D953BA4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6DFF-4D3F-4F60-84ED-CFBC1D58B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EE7-9BA7-43D2-9143-A61F9FDD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A78C-CFDA-4F61-94F7-300CE91DD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B40F-C667-4D39-9D1F-C8BAB0E02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DADC-C73A-4C02-9F56-5D24C964C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7734-70E6-4F90-8856-46B20B170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A8C0-56F7-4D58-9B75-75C9E1074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0718-908A-4074-9BB4-D0F64591C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E093-038A-4DC7-AB61-B1B48D7F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BDF6-09EA-4670-8FE6-AACBF831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PEOPLE COMMON 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conan-obrien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13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68360" y="49737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ZUCKER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mark-zuckerberg-headshot.jpg"/>
          <p:cNvPicPr/>
          <p:nvPr/>
        </p:nvPicPr>
        <p:blipFill>
          <a:blip r:embed="rId1"/>
          <a:stretch/>
        </p:blipFill>
        <p:spPr>
          <a:xfrm>
            <a:off x="2629080" y="1309680"/>
            <a:ext cx="388620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593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ALIE  POR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natalie-portman-sexual-harassment-in-hollywood.jpg"/>
          <p:cNvPicPr/>
          <p:nvPr/>
        </p:nvPicPr>
        <p:blipFill>
          <a:blip r:embed="rId1"/>
          <a:stretch/>
        </p:blipFill>
        <p:spPr>
          <a:xfrm>
            <a:off x="2171880" y="1295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BER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p01bqm0y.jpg"/>
          <p:cNvPicPr/>
          <p:nvPr/>
        </p:nvPicPr>
        <p:blipFill>
          <a:blip r:embed="rId1"/>
          <a:stretch/>
        </p:blipFill>
        <p:spPr>
          <a:xfrm>
            <a:off x="1371600" y="1338120"/>
            <a:ext cx="640080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CRICH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books-crichton-33bdefaef53613c5.jpg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36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DOB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dobbs-1522700829.jpg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  GIRAL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ART_greggiraldo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11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4967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EGRASSE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5" descr="neil-degrasse-tyson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7200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ark-zuckerberg-headshot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830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60360" y="49737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-YO  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Yo-Yo-Ma.jpg"/>
          <p:cNvPicPr/>
          <p:nvPr/>
        </p:nvPicPr>
        <p:blipFill>
          <a:blip r:embed="rId1"/>
          <a:stretch/>
        </p:blipFill>
        <p:spPr>
          <a:xfrm>
            <a:off x="2689200" y="1295280"/>
            <a:ext cx="3765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9356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AN  O'BR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conan-obrien.jpg"/>
          <p:cNvPicPr/>
          <p:nvPr/>
        </p:nvPicPr>
        <p:blipFill>
          <a:blip r:embed="rId1"/>
          <a:stretch/>
        </p:blipFill>
        <p:spPr>
          <a:xfrm>
            <a:off x="2655720" y="1295280"/>
            <a:ext cx="3832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838080" y="4419720"/>
            <a:ext cx="7467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GRADUATES  OF HARVARD  UNIVERSIT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natalie-portman-sexual-harassment-in-hollywood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p01bqm0y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04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ooks-crichton-33bdefaef53613c5.jpg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36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dobbs-1522700829.jpg"/>
          <p:cNvPicPr/>
          <p:nvPr/>
        </p:nvPicPr>
        <p:blipFill>
          <a:blip r:embed="rId1"/>
          <a:stretch/>
        </p:blipFill>
        <p:spPr>
          <a:xfrm>
            <a:off x="990720" y="1295280"/>
            <a:ext cx="73450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RT_greggiraldo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11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neil-degrasse-tyson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483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Yo-Yo-Ma.jpg"/>
          <p:cNvPicPr/>
          <p:nvPr/>
        </p:nvPicPr>
        <p:blipFill>
          <a:blip r:embed="rId1"/>
          <a:stretch/>
        </p:blipFill>
        <p:spPr>
          <a:xfrm>
            <a:off x="2666880" y="1295280"/>
            <a:ext cx="3845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2:06:09Z</dcterms:created>
  <dc:creator>Jennifer Budzinski</dc:creator>
  <dc:description/>
  <dc:language>en-US</dc:language>
  <cp:lastModifiedBy>Erich Friedman</cp:lastModifiedBy>
  <dcterms:modified xsi:type="dcterms:W3CDTF">2020-08-29T18:18:19Z</dcterms:modified>
  <cp:revision>294</cp:revision>
  <dc:subject/>
  <dc:title>Slide 1</dc:title>
</cp:coreProperties>
</file>