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4927-0E2D-46E7-9C86-71B44BDCF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F3E1-B3D5-4174-A2C7-1BA8E8975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529-D126-417C-B203-AD40D7C38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3FC-AF63-4453-B426-E3BB5F75D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B0AB-FDAB-4BA5-88EA-451D712A3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F661-7D30-4DFA-9975-B5A59E1C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A322-BA77-466F-97EB-8F793C68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429B-6A7F-485A-9418-46F606B1C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407C-77E4-48F7-ADB3-EC36547B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1C0A-4FF4-48F8-BBBF-CA6CFC36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BA9D-363B-44AA-9D3C-AAB643BD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0565-29B5-41BC-8FAD-407FF14F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415-E4F6-4E35-B4F8-E1D0B9D9C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9ACA-9938-4B43-AA71-A4790648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6707-8682-4FCB-9903-BE88A257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99C9-CB16-4F94-91D2-4BDF71C6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3D9A-8FB9-46A3-A806-0BB247E3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4F65-9F21-4851-823F-8AD3D40B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4629-3D2C-419D-B693-C97A556A7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0AFC-05AA-45C7-B72A-6FD23FC6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CFF-2299-4BF0-88B8-ED2CCDFB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FBDE-9627-454E-B5AF-145C3860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38C8-1E65-4400-8721-D3ED131B2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EOPLE COMMON 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conan-obrien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13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68360" y="4973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ZUCKER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mark-zuckerberg-headshot.jpg"/>
          <p:cNvPicPr/>
          <p:nvPr/>
        </p:nvPicPr>
        <p:blipFill>
          <a:blip r:embed="rId1"/>
          <a:stretch/>
        </p:blipFill>
        <p:spPr>
          <a:xfrm>
            <a:off x="2629080" y="1309680"/>
            <a:ext cx="388620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93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LIE  POR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natalie-portman-sexual-harassment-in-hollywood.jpg"/>
          <p:cNvPicPr/>
          <p:nvPr/>
        </p:nvPicPr>
        <p:blipFill>
          <a:blip r:embed="rId1"/>
          <a:stretch/>
        </p:blipFill>
        <p:spPr>
          <a:xfrm>
            <a:off x="21718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BER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p01bqm0y.jpg"/>
          <p:cNvPicPr/>
          <p:nvPr/>
        </p:nvPicPr>
        <p:blipFill>
          <a:blip r:embed="rId1"/>
          <a:stretch/>
        </p:blipFill>
        <p:spPr>
          <a:xfrm>
            <a:off x="1371600" y="1338120"/>
            <a:ext cx="640080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RICH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books-crichton-33bdefaef53613c5.jpg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36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OB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dobbs-1522700829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GIRAL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ART_greggiraldo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11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67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EGRASS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neil-degrasse-tyson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7200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rk-zuckerberg-headshot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83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60360" y="49737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-YO 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Yo-Yo-Ma.jpg"/>
          <p:cNvPicPr/>
          <p:nvPr/>
        </p:nvPicPr>
        <p:blipFill>
          <a:blip r:embed="rId1"/>
          <a:stretch/>
        </p:blipFill>
        <p:spPr>
          <a:xfrm>
            <a:off x="2689200" y="1295280"/>
            <a:ext cx="3765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9356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conan-obrien.jpg"/>
          <p:cNvPicPr/>
          <p:nvPr/>
        </p:nvPicPr>
        <p:blipFill>
          <a:blip r:embed="rId1"/>
          <a:stretch/>
        </p:blipFill>
        <p:spPr>
          <a:xfrm>
            <a:off x="2655720" y="1295280"/>
            <a:ext cx="383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838080" y="44197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GRADUATES  OF HARVARD  UNIVERSIT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atalie-portman-sexual-harassment-in-hollywood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01bqm0y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04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ooks-crichton-33bdefaef53613c5.jpg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36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dobbs-1522700829.jpg"/>
          <p:cNvPicPr/>
          <p:nvPr/>
        </p:nvPicPr>
        <p:blipFill>
          <a:blip r:embed="rId1"/>
          <a:stretch/>
        </p:blipFill>
        <p:spPr>
          <a:xfrm>
            <a:off x="990720" y="1295280"/>
            <a:ext cx="7345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RT_greggiraldo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11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neil-degrasse-tys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483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Yo-Yo-Ma.jpg"/>
          <p:cNvPicPr/>
          <p:nvPr/>
        </p:nvPicPr>
        <p:blipFill>
          <a:blip r:embed="rId1"/>
          <a:stretch/>
        </p:blipFill>
        <p:spPr>
          <a:xfrm>
            <a:off x="2666880" y="1295280"/>
            <a:ext cx="3845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2:06:09Z</dcterms:created>
  <dc:creator>Jennifer Budzinski</dc:creator>
  <dc:description/>
  <dc:language>en-US</dc:language>
  <cp:lastModifiedBy>Erich Friedman</cp:lastModifiedBy>
  <dcterms:modified xsi:type="dcterms:W3CDTF">2020-08-29T18:18:19Z</dcterms:modified>
  <cp:revision>294</cp:revision>
  <dc:subject/>
  <dc:title>Slide 1</dc:title>
</cp:coreProperties>
</file>