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227F-A306-4E88-8F59-33E4A6C2B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D7B1-DC7C-4BA7-BEC2-0142C7BDD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7F5A-3C71-4B8F-BE74-577711252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4F4C-154F-4750-89E7-30A5E1A15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225A-C181-433B-96A0-C6892314F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370E-96D6-4460-8388-A6BD87E8D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D347-C8A3-4A60-894C-356F077C0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F117-2B59-4A9C-B32D-512669476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FFCD-99B6-4D04-88E3-0660B2D72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7197-2E36-4980-B561-76789D359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B091-77C9-468B-81AC-787FEAE0E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2E1F-AE42-4320-9C98-6A2766ED2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B7A6-BEB9-43FF-8E27-0F289C315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CAEB-5316-43B8-8461-C1A58E647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11BF-FDE9-4AF7-9A23-13F5CA599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18B6-8BB4-49BC-A284-6DC8B0679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B2C4-BE59-417E-BA7D-6DBCE11F5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3EDC-00EF-4DE2-82B2-3FA83E76C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1E14-F841-43A3-9DE3-1F0C629A6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809A-6A70-4012-8A8E-BD49F386B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2EE8-7A1A-4FF8-8A0C-1694AAA4E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5056-169B-4878-9949-E1F11310E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2BFD-627B-4D4C-BA83-2193759F6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BIOGRAPHICAL ADVENTURE FILM STARRED JASON CLARKE, JAKE GYLLENHAAL, JOSH BROLIN, AND SAM WORTHING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VARIETY OF APPLES IN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ET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AGED HEALTH CARE COMPANY'S NAME BEGINS WITH "A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55640"/>
            <a:ext cx="7619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IRD WOLVERINE FILM THAT CAME OUT IN 2017 STARRING HUGH JACK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TTERH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INTERTWINED BOBSLED ROLLER COASTER AT DISNEY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MCKIN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SSASSINATION LED TO THEODORE ROOSEVELT BECOMING THE 2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GENDARY HEROIC OUTLAW LIVES IN SHERWOOD FOR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NEY  HOU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VOCALIST, SOMETIMES CITED AS THE MOST AWARDED FEMALE SINGER OF ALL TIME, DIED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VARIETY OF APPLES IN JAP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  RANIER  III  OF  MON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47920" y="762120"/>
            <a:ext cx="6248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RACE KELLY'S HUS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BIOGRAPHICAL ADVENTURE FILM STARRED JASON CLARKE, JAKE GYLLENHAAL, JOSH BROLIN, AND SAM WORTHING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09680" y="4343400"/>
            <a:ext cx="4724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AGED HEALTH CARE COMPANY'S NAME BEGINS WITH "A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IRD WOLVERINE FILM THAT CAME OUT IN 2017 STARRING HUGH JACK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INTERTWINED BOBSLED ROLLER COASTER AT DISNEY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SSASSINATION LED TO THEODORE ROOSEVELT BECOMING THE 2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GENDARY HEROIC OUTLAW LIVES IN SHERWOOD FOR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VOCALIST, SOMETIMES CITED AS THE MOST AWARDED FEMALE SINGER OF ALL TIME, DIED IN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62040" y="76212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RACE KELLY'S HUS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3T20:49:58Z</dcterms:created>
  <dc:creator>Jennifer Budzinski</dc:creator>
  <dc:description/>
  <dc:language>en-US</dc:language>
  <cp:lastModifiedBy>Erich Friedman</cp:lastModifiedBy>
  <dcterms:modified xsi:type="dcterms:W3CDTF">2020-08-29T18:19:06Z</dcterms:modified>
  <cp:revision>406</cp:revision>
  <dc:subject/>
  <dc:title>Slide 1</dc:title>
</cp:coreProperties>
</file>