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D9A-CFE1-4CEC-9159-7A90AFF7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DCF0-D45F-445F-B496-9FE0F074C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6B45-B156-4D80-9BE4-80E30110F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6692-F853-4FDE-8D0E-8B830A8C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A037-F8A3-4D9C-B835-01338981C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22E72-1E27-48AD-BE9F-A6E84A16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E0C6-784A-463C-BDEF-9C188ECC6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E35-E6F6-4E42-98CC-E302A09BA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6F36-A852-4148-BEA6-EA498BBC6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24A-7D7D-46D6-86F9-9122E5BC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739C-A613-488A-8AB8-92CA3246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AB96-7173-49BC-B1DB-182F91D3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4756-F840-490F-ADAC-7A8C8E56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3D8E-6B8D-440A-8A2A-8BCD30F2C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ABB9-4650-4225-9C1A-7751F9A26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4808-BF24-496C-BC9A-8F54229F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9CF2-A1FB-4393-A0E1-F29F76F49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7D5C-8DF3-4F07-A22A-2290CE10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C70D-B527-4CA6-8B61-46657C765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6C28-6639-40D0-8888-6B024EB0C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1688-B938-4F6B-B712-1058BFDD0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9A9F-47AE-4006-9525-A09BD985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E6C7-5D71-4319-B8CC-C6C5F1566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IOGRAPHICAL ADVENTURE FILM STARRED JASON CLARKE, JAKE GYLLENHAAL, JOSH BROLIN, AND SAM WORTHING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VARIETY OF APPLES IN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T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D HEALTH CARE COMPANY'S NAME BEGINS WITH "A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5640"/>
            <a:ext cx="7619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WOLVERINE FILM THAT CAME OUT IN 2017 STARRING HUGH JACK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TTER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TWINED BOBSLED ROLLER COASTER AT DISNEY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CKI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SSASSINATION LED TO THEODORE ROOSEVELT BECOMING THE 2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HEROIC OUTLAW LIVES IN SHERWOOD FOR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NEY  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VOCALIST, SOMETIMES CITED AS THE MOST AWARDED FEMALE SINGER OF ALL TIME, DIED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VARIETY OF APPLES IN JA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RANIER  III  OF  MON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ACE KELLY'S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BIOGRAPHICAL ADVENTURE FILM STARRED JASON CLARKE, JAKE GYLLENHAAL, JOSH BROLIN, AND SAM WORTH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09680" y="4343400"/>
            <a:ext cx="4724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D HEALTH CARE COMPANY'S NAME BEGINS WITH "A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THIRD WOLVERINE FILM THAT CAME OUT IN 2017 STARRING HUGH JACK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INTERTWINED BOBSLED ROLLER COASTER AT DISNEY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SSASSINATION LED TO THEODORE ROOSEVELT BECOMING THE 2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GENDARY HEROIC OUTLAW LIVES IN SHERWOOD FOR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VOCALIST, SOMETIMES CITED AS THE MOST AWARDED FEMALE SINGER OF ALL TIME, DIED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ACE KELLY'S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3T20:49:58Z</dcterms:created>
  <dc:creator>Jennifer Budzinski</dc:creator>
  <dc:description/>
  <dc:language>en-US</dc:language>
  <cp:lastModifiedBy>Erich Friedman</cp:lastModifiedBy>
  <dcterms:modified xsi:type="dcterms:W3CDTF">2020-08-29T18:19:06Z</dcterms:modified>
  <cp:revision>406</cp:revision>
  <dc:subject/>
  <dc:title>Slide 1</dc:title>
</cp:coreProperties>
</file>