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0141-78B1-43A8-BB53-41AD3933D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4F7-B5D4-4C4F-B46C-B0612F74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388A-84F2-4FF6-840E-031ACAD0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D28-493C-493E-919C-7EBF7F37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CCDF-EA39-4F44-8CDB-50633955C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1494-D038-4C8F-9FA1-C76460773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B94-D79D-4F7D-BC6B-1622D4FD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A4A6-CBAA-457F-935E-9ED7DC50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E36-370A-47F7-87A0-53739435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2040-885E-436D-9BAF-4B362F16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A873-390A-4178-B387-9C95C87B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F5D-6B5A-453A-94E0-AD6273D9E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432C-5587-4CA8-9A95-00E5EBB0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730-9D52-4E34-9BAD-BBD5526F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023-3405-4D7B-B714-96C1221F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5840-43B7-4CD0-B711-5D4CE46F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B55-817E-4BFA-9C45-1616A923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C34C-AD91-46ED-87F6-5D456750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874-77E3-48AB-ADC6-2CBD4533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EC3-C386-4BD7-AEC0-D8BA1CEE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D8E-B9C9-4EED-8453-E9DC5F2E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6B9E-7937-4D41-AE90-9FC09ACB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13E-C6D7-4163-83A7-87460A53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T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TER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CKI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NEY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RANIER  III  OF  MON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09680" y="4343400"/>
            <a:ext cx="4724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0:49:58Z</dcterms:created>
  <dc:creator>Jennifer Budzinski</dc:creator>
  <dc:description/>
  <dc:language>en-US</dc:language>
  <cp:lastModifiedBy>Erich Friedman</cp:lastModifiedBy>
  <dcterms:modified xsi:type="dcterms:W3CDTF">2020-08-29T18:19:06Z</dcterms:modified>
  <cp:revision>406</cp:revision>
  <dc:subject/>
  <dc:title>Slide 1</dc:title>
</cp:coreProperties>
</file>