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B304-62F1-4CEB-ABB4-CB9A6EEE8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1826-520F-42DC-9B45-C77CFCEFD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05D-D4A9-4C8E-B835-A4139068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C794-8F4F-43C6-959F-98D5A703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0A42-62FB-4A82-AC89-069079EA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6376-2BED-4965-A2F2-82BB6DEB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A756-AAF5-4A8B-81E2-F274A1D0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7A0-D5A2-4C35-B909-6F87FB63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250-89B2-4272-8682-5A04A332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866F-09ED-4EB9-8E9C-EFBE5FBB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4219-FE2A-4CC5-9CF2-C4344B845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B0CB-01F4-4B7D-A41D-01BE2DED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C472-AA81-40EE-9CCE-54693F13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2123-50BF-4EC8-B133-F4081EBC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0D9-700C-4C81-8C6A-A3A52582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A345-FFCA-4468-88D5-46ABFA7EA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A703-FCF2-49F8-AF51-17243BB9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522B-812A-464D-BA1D-9D9594E81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C37-0CAC-460D-B89E-7B80BA999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9B6-5550-40BD-A1A9-CA665152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7A3-4AF5-4F95-9EAD-6E433BAF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D841-7A62-4EE0-94D5-2C05D76A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D74F-9425-4987-BA7A-F2680084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WEGIAN GROUP YLVIS HAD A 2013 VIRAL HIT SONG ABOUT WHAT ANIMAL'S SPEE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GEO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61920" y="762120"/>
            <a:ext cx="7220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 IS KNOWN FOR THE YELLOW BORDER ON IT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2049480" y="762120"/>
            <a:ext cx="504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135240" y="2567160"/>
            <a:ext cx="287352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RINITROTOLUEN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RAH  WIN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FRICAN 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17400" y="762120"/>
            <a:ext cx="7907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UPERMARKET IN ORANGE CITY IS PUBLIX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7621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FULLY OPERATIONAL SPACE SHUTTLES WERE BUILT: ENDEAVOR, ATLANTIS, COLUMBIA, CHALLENGE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UNDERGRADUATE MAJOR OF LAWYERS,   AFTER POLI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 IS KNOWN FOR THE YELLOW BORDER ON IT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0160" y="760320"/>
            <a:ext cx="74836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WO 80'S HIT SONGS, WHERE WAS BRUCE SPRINGSTEEN BORN, AND WHERE DID JOHN MELLENCAMP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3760" y="762120"/>
            <a:ext cx="7296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WEGIAN GROUP YLVIS HAD A 2013 VIRAL HIT SONG ABOUT WHAT ANIMAL'S SPE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86000" y="4876920"/>
            <a:ext cx="6372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V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13040" y="761760"/>
            <a:ext cx="531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3102120" y="2567160"/>
            <a:ext cx="2939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RINITROTOLUEN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FRICAN 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UPERMARKET IN ORANGE CITY IS PUBLIX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-52560" y="761760"/>
            <a:ext cx="9249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FULLY OPERATIONAL SPACE SHUTTLES WERE BUILT: ENDEAVOR, ATLANTIS, COLUMBIA, CHALLENG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UNDERGRADUATE MAJOR OF LAWYERS,  AFTER POLI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4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WO 80'S HIT SONGS, WHERE WAS BRUCE SPRINGSTEEN BORN, AND WHERE DID JOHN MELLENCAMP R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00:34:19Z</dcterms:modified>
  <cp:revision>392</cp:revision>
  <dc:subject/>
  <dc:title>Slide 1</dc:title>
</cp:coreProperties>
</file>