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A823-B1E0-4E26-A84C-26AD122C1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E7AC-0A95-4FFC-B582-D8BC627F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4289-241B-4030-AB22-3BBAC2D1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F686-00F4-4EEE-8289-3E9B955E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2766-6BF3-4922-A81C-0D37EFEF6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32A8-C066-4DEE-B23D-A18A4AF7E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755A-82DA-499C-8E76-A69D4FEC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BB7F-5C4F-4977-A1BF-089F31B12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F1E4-203B-4E2A-BECA-601DA2B7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9CF9-7373-4EF0-A271-EB2AE50D7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BF30-37FB-4BCF-A28E-99AA2EF6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CC47-839B-42F0-917E-993B99A63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A83F-812C-4E31-A7E4-9CAE3133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1C4C-0C05-4623-85E5-423F38BBD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19AA-1A7C-4938-A8D6-05EF2CF2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138D-6D4C-4192-88E7-E4856287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316A-A0A6-4F40-8CF7-64B184CB9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4450-F81E-4E93-834D-C9F44FF4B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1F3C-D274-4557-9EDF-38E9422A2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CA61-F762-4701-A6F2-D5262143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B2D5-0231-47A4-8E8B-CFE9F6B90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A27A-6BCD-424F-AB7E-8B4E888ED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5B98-4FA5-4C57-A215-F321414D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WEGIAN GROUP YLVIS HAD A 2013 VIRAL HIT SONG ABOUT WHAT ANIMAL'S SPEE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GEO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61920" y="762120"/>
            <a:ext cx="7220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 IS KNOWN FOR THE YELLOW BORDER ON IT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2049480" y="762120"/>
            <a:ext cx="504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3135240" y="2567160"/>
            <a:ext cx="287352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76160" y="762120"/>
            <a:ext cx="759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RINITROTOLUEN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RAH  WINF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FRICAN AMERICAN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17400" y="762120"/>
            <a:ext cx="7907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SUPERMARKET IN ORANGE CITY IS PUBLIX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7621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FULLY OPERATIONAL SPACE SHUTTLES WERE BUILT: ENDEAVOR, ATLANTIS, COLUMBIA, CHALLENGE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UNDERGRADUATE MAJOR OF LAWYERS,   AFTER POLITICAL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 IS KNOWN FOR THE YELLOW BORDER ON IT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0160" y="760320"/>
            <a:ext cx="74836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WO 80'S HIT SONGS, WHERE WAS BRUCE SPRINGSTEEN BORN, AND WHERE DID JOHN MELLENCAMP 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3760" y="762120"/>
            <a:ext cx="7296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WEGIAN GROUP YLVIS HAD A 2013 VIRAL HIT SONG ABOUT WHAT ANIMAL'S SPE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86000" y="4876920"/>
            <a:ext cx="6372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V 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13040" y="761760"/>
            <a:ext cx="531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3102120" y="2567160"/>
            <a:ext cx="2939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900000" y="76212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RINITROTOLUEN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FRICAN AMERICAN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SUPERMARKET IN ORANGE CITY IS PUBLIX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-52560" y="761760"/>
            <a:ext cx="9249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FULLY OPERATIONAL SPACE SHUTTLES WERE BUILT: ENDEAVOR, ATLANTIS, COLUMBIA, CHALLENGE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UNDERGRADUATE MAJOR OF LAWYERS,  AFTER POLITICAL 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01720" y="762120"/>
            <a:ext cx="754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WO 80'S HIT SONGS, WHERE WAS BRUCE SPRINGSTEEN BORN, AND WHERE DID JOHN MELLENCAMP R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0T00:34:19Z</dcterms:modified>
  <cp:revision>392</cp:revision>
  <dc:subject/>
  <dc:title>Slide 1</dc:title>
</cp:coreProperties>
</file>