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F62C-8122-4C90-A37C-6EF29D0BD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FF80-5039-4DA9-92AE-A751E349E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0138-EAC0-43FB-AB7C-961D122E7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3977-8EB2-434E-B435-C8B814BD8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1B17-8048-4B7A-A069-CB681370C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B22F-0BA2-4AA4-A8A4-52CA2802D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DDFA-3571-499B-ABA3-70EE59C94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C904-29B3-4D53-9AD1-5F856CB2A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828B-5974-493F-A773-0E76A861B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DBF1-703D-4E4E-8C98-227EB59B9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7FBF-FEBE-47A0-B6D6-2298EC02F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AC8E-7D20-4693-AA25-CCC36A768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F9F9-120E-421E-8D68-9202518CE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309E-F22A-49C8-A32A-F56AB16FF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6A87-3C22-4D03-B23D-A86D4BEF8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855C-6A3B-4198-A4BF-013AE7334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0EE2-0333-4ADD-B780-8091E0A74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AAC1-EDEF-446B-81FB-069F609EB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CA3B-1282-40D9-948B-85F6A1858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B36F-4465-4AD8-ABD8-DAC6DB075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4018-6111-4CE1-87A6-063673138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78E9-3B01-4876-95ED-752888848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999C-599A-4E71-96D6-48E99B4F5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995400" y="761760"/>
            <a:ext cx="7153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ORWEGIAN GROUP YLVIS HAD A 2013 VIRAL HIT SONG ABOUT WHAT ANIMAL'S SPEEC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TIONAL  GEOGRAPH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961920" y="762120"/>
            <a:ext cx="7220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GAZINE IS KNOWN FOR THE YELLOW BORDER ON ITS CO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LLM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2049480" y="762120"/>
            <a:ext cx="504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2" descr=""/>
          <p:cNvPicPr/>
          <p:nvPr/>
        </p:nvPicPr>
        <p:blipFill>
          <a:blip r:embed="rId1"/>
          <a:stretch/>
        </p:blipFill>
        <p:spPr>
          <a:xfrm>
            <a:off x="3135240" y="2567160"/>
            <a:ext cx="2873520" cy="2233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76160" y="762120"/>
            <a:ext cx="759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RINITROTOLUENE BETTER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PRAH  WINF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RICHEST AFRICAN AMERICAN IN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17400" y="762120"/>
            <a:ext cx="7907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ARGEST SUPERMARKET IN ORANGE CITY IS PUBLIX.  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SCOV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0" y="762120"/>
            <a:ext cx="9144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 FULLY OPERATIONAL SPACE SHUTTLES WERE BUILT: ENDEAVOR, ATLANTIS, COLUMBIA, CHALLENGER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COMMON UNDERGRADUATE MAJOR OF LAWYERS,   AFTER POLITICAL SCI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23760" y="762120"/>
            <a:ext cx="7296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GAZINE IS KNOWN FOR THE YELLOW BORDER ON ITS CO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.S.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0160" y="760320"/>
            <a:ext cx="748368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TWO 80'S HIT SONGS, WHERE WAS BRUCE SPRINGSTEEN BORN, AND WHERE DID JOHN MELLENCAMP RO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23760" y="762120"/>
            <a:ext cx="72964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ORWEGIAN GROUP YLVIS HAD A 2013 VIRAL HIT SONG ABOUT WHAT ANIMAL'S SPEE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386000" y="4876920"/>
            <a:ext cx="63720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9000"/>
          </a:bodyPr>
          <a:p>
            <a:pPr marL="99360" indent="-99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TV  S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913040" y="761760"/>
            <a:ext cx="5317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HAS THI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3102120" y="2567160"/>
            <a:ext cx="293976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900000" y="762120"/>
            <a:ext cx="73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RINITROTOLUENE BETTER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85760" y="762120"/>
            <a:ext cx="6972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RICHEST AFRICAN AMERICAN IN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ARGEST SUPERMARKET IN ORANGE CITY IS PUBLIX.  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-52560" y="761760"/>
            <a:ext cx="9249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 FULLY OPERATIONAL SPACE SHUTTLES WERE BUILT: ENDEAVOR, ATLANTIS, COLUMBIA, CHALLENGER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65280" y="761760"/>
            <a:ext cx="7813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COMMON UNDERGRADUATE MAJOR OF LAWYERS,  AFTER POLITICAL SCIE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01720" y="762120"/>
            <a:ext cx="7540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TWO 80'S HIT SONGS, WHERE WAS BRUCE SPRINGSTEEN BORN, AND WHERE DID JOHN MELLENCAMP RO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0-08-30T00:34:19Z</dcterms:modified>
  <cp:revision>392</cp:revision>
  <dc:subject/>
  <dc:title>Slide 1</dc:title>
</cp:coreProperties>
</file>