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DF351-2A3C-4628-869E-8A9FA8AB02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94114-6A63-40A4-9868-7FB78970A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40EE3-A244-47EB-BCA3-EE836D758C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71E44-ED4D-484D-A2B5-9F7355E3E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27396-5D65-4D7C-8BBE-33FFB1FF1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8D81D-F95B-4EB7-9280-50C21D1C3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CB434-9B91-4D26-82F0-214B6AE45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FB595-E657-400B-9DE6-C8318C9D4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B62DC-A8C1-4ED9-A62F-C921C3A09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5D833-BE4A-444B-920D-AF8B9E840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B6197-9CC3-47E0-99ED-4200E0F1F2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79B60-0DEA-45E9-B73A-33F39313F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A1FDB-BF41-44DC-982E-66F9DCD16C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ECFBE-31B5-46B9-83A7-4C15953204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235B8-B627-462F-AA1A-7E8E1A700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59D46-F8E6-49D8-B0E6-EE2803444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9E79B-8A1B-4A65-90A6-AECAE0E16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7215C-11DF-40BB-BED8-65358CC31D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AC823-41A5-468C-A833-8132D9D2A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728FC-A41D-4776-8F21-15208D3C8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910DB-1535-4CE8-A566-477E4E5390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84A17-729D-4740-B8DF-C0665BF88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D3035-D969-4234-A19B-A3FB2CED4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914400" y="10666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LL IN THE BLANK MUSIC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 WANT YOUR _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GEORGE MICHAEL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WORD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533520" y="487692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UM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UNDER MY _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HE ROLLING STONES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MMM MMM MMM MMM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CRASH ____ DUMMIES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OPP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343080" y="762120"/>
            <a:ext cx="8458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MAKING FLIPPY _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ALKING HEADS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A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1904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JUMPING JACK _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HE ROLLING STONES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ROLL ____ BEETHOVEN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HE BEATLES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47640" y="762120"/>
            <a:ext cx="78487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HABIT TO BREAK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CHICAGO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914400" y="4800600"/>
            <a:ext cx="7315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SAW THE LIGHT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ODD RUNDGREN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UNDER MY _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HE ROLLING STONES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END OF THE _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RAVELLING WILBURYS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0" y="4876920"/>
            <a:ext cx="91440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43080" y="762120"/>
            <a:ext cx="8458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 WANT YOUR _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GEORGE MICHAEL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609480" y="4876920"/>
            <a:ext cx="7925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"DRIVE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WORD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MMM MMM MMM MMM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CRASH ____ DUMMIES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04920" y="762120"/>
            <a:ext cx="8534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MAKING FLIPPY _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ALKING HEADS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JUMPING JACK _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HE ROLLING STONES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ROLL ____ BEETHOVEN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HE BEATLES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HABIT TO BREAK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CHICAGO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SAW THE LIGHT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ODD RUNDGREN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END OF THE _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TRAVELING WILBURYS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7T18:13:37Z</dcterms:created>
  <dc:creator>Jennifer Budzinski</dc:creator>
  <dc:description/>
  <dc:language>en-US</dc:language>
  <cp:lastModifiedBy>Erich Friedman</cp:lastModifiedBy>
  <dcterms:modified xsi:type="dcterms:W3CDTF">2020-08-30T00:35:26Z</dcterms:modified>
  <cp:revision>449</cp:revision>
  <dc:subject/>
  <dc:title>Slide 1</dc:title>
</cp:coreProperties>
</file>