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C19D-DB8F-4D89-9458-7EF7F3A5B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F60-5330-48C4-AE14-22A1B8D7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148A-9DFC-4401-92A3-44A7F479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849-5701-4FBA-88A7-5A89FAD5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27C-1537-4208-9DAE-3B9B152B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33EB-5EB1-4890-B228-9C57742A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208-82C1-4BD2-939F-D62E5AA38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069-A3CF-457F-BEF2-45300325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AD9-A45F-405D-A66F-8B7F740F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411-6393-4F84-850E-62D35787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7CF-FCA4-43A9-95BE-3329403DC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0A79-4DD5-4804-B273-8C5AE631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450-E6EE-4F53-B425-8D33CA73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D903-9808-4F96-A6A6-B02E3B962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2EA-FB58-4682-9A07-FBF891EC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B2E-FD5E-4030-9A0F-0DC1CE57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A4D-DE97-467E-B43F-371337B3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C53B-8F3B-4C76-A1AB-2B8DFDE0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D23-EC76-4240-95E7-0AC5B689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878D-9CFC-430D-A6ED-FA1C791F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280-42D4-419F-B592-6FDE1E3FD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A480-3655-4884-BC17-9F3114DE6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D96-A81C-43DE-8291-12DF59F0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LING WILBURY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DR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ING WILBURY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8:13:37Z</dcterms:created>
  <dc:creator>Jennifer Budzinski</dc:creator>
  <dc:description/>
  <dc:language>en-US</dc:language>
  <cp:lastModifiedBy>Erich Friedman</cp:lastModifiedBy>
  <dcterms:modified xsi:type="dcterms:W3CDTF">2020-08-30T00:35:26Z</dcterms:modified>
  <cp:revision>449</cp:revision>
  <dc:subject/>
  <dc:title>Slide 1</dc:title>
</cp:coreProperties>
</file>