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A685-B80A-43BE-8997-17DF46B4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D5F1-BD28-4C36-9C0B-7DA95B77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0F6-D8AE-4310-BA5C-580B8C45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A39-7070-45DD-8E33-DFC11DF82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6E3-FEA5-4FD5-8908-8CCE4C3E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D6C7-ECE1-4163-9D9D-635186FC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3AE-4579-4EC0-8940-0BF89567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3827-1369-4889-840B-374BCCB8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769-AFE4-4A32-9BAC-4D9516348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11D1-FFF5-43B2-8AEA-DE2BDC0D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0FCC-FAAF-4C82-88A9-5B3264123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5739-3589-43F5-860D-8D151D769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2819-6A30-49F2-8A8B-46D5C5F2E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95B-35E4-4727-91D3-C028ED8F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D99A-FA16-4F0E-A597-F44B4CB2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74FD-8C71-4EBD-A376-CC5C66D5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8E8D-D73F-4BAE-B3D3-4DE5FB8F3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6265-C681-413C-A33C-98424E04D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06F1-21E1-4785-AC99-A64D66924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9461-74AA-4739-A1B1-06A4F67FB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C724-E8F2-4AC7-8300-869C6560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AE1E-D5BF-4EAC-BA35-B1C242A51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6F85-2B47-4E31-A682-BFBACBA51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MUSIC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NT YOU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EORGE MICHAE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UNDER M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MM MMM MMM MM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ASH ____ DUMMI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ING FLIPP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MPING JACK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 ____ BEETHOVE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BIT TO BREAK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CAGO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AW THE LIGH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DD RUNDGRE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UNDER M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ND OF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RAVELLING WILBURY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NT YOU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EORGE MICHAE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DR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MM MMM MMM MMM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ASH ____ DUMMI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ING FLIPP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MPING JACK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 ____ BEETHOVE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BIT TO BREAK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CAGO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AW THE LIGH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DD RUNDGRE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ND OF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RAVELING WILBURY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8:13:37Z</dcterms:created>
  <dc:creator>Jennifer Budzinski</dc:creator>
  <dc:description/>
  <dc:language>en-US</dc:language>
  <cp:lastModifiedBy>Erich Friedman</cp:lastModifiedBy>
  <dcterms:modified xsi:type="dcterms:W3CDTF">2020-08-30T00:35:26Z</dcterms:modified>
  <cp:revision>449</cp:revision>
  <dc:subject/>
  <dc:title>Slide 1</dc:title>
</cp:coreProperties>
</file>