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A1C1-2684-4283-A7CE-A64FA6B73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75EE-5CBB-42EE-9D9A-EC6FA7C95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53D-DA2D-4389-BC81-0E3A879A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143C-B664-41F4-B126-358BBA7A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6A3B-5242-4818-8CE7-FD7035E5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E269-02B1-431F-88F2-1C3D12AE0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E862-8C13-4FD0-A0B1-2C61CCED3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31E9-5D86-4B39-BA89-DC377922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92A3-80B6-44B2-AD9D-A103BCAA1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06B7-A476-4CDE-B596-C0CDBED55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D50D-7E49-409D-A406-B88D41F7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50CF-281C-4152-9DBB-938F61515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26CD-0389-4A58-AA34-D8351954F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0382-B073-4F54-898B-1B6BB5EAB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E33C-88B2-4513-8401-F36565E6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211-ACC2-4AB2-8371-7A060A9D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B6B2-71CC-4412-BF87-593CDBA22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9066-C89C-45A0-AE1D-8D2A2FEE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3824-62F6-4E03-9DDB-2951423A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0643-0445-4EC8-9390-24D7FDC9D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6D4D-6258-414F-A9E1-6DF62DD1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7B0-5698-43AE-B8B9-C3E469666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3B74-EA9B-4D10-B698-ADE16C5D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DETECTIVE FILM AND 9 SEQUELS STARRED PETER SELL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DAY  AFTER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BANK ROBBERY FILM STARRING AL PACINO WAS NOMINATED FOR 6 OSCARS, AND WON BEST SCREENPL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ISH  CALLED  W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8240"/>
            <a:ext cx="7925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DIAMOND HEIST FILM STARRED KEVIN KLEIN, MICHAEL PALIN, JAMIE LEE CURTIS, AND JOHN CLE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ON  A  HOT  TIN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58 FILM STARRING PAUL NEWMAN, ELIZABETH TAYLOR, AND BURL IVES WAS BASED ON A PULITZER PRIZE-WINNING TENNESSEE WILLIAMS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  OF  THE  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ING CHARLTON HESTON ENDS WITH THE STATUE OF LIBERTY HALF COVERED IN S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  MICE  AN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STARRING BURGESS MEREDITH IS BASED ON A 1937 JOHN STEINBECK NOVEL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CIENCE FICTION &amp; HORROR FILM STARRED JEFF GOLDBLUM AND GEENA DAV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ANIMATED FILM WAS THE HIGHEST GROSSING ANIMATED FILM OF ALL TIME, THOUGH NOW THAT HONOR IS HELD BY ITS 2019 RE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BANK ROBBERY FILM STARRING AL PACINO WAS NOMINATED FOR 6 OSCARS, AND WON BEST SCREENPL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  DUND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IT FILM, AND BOTH ITS SEQUELS, STARRED PAUL HOGAN AS AN AUSSIE IN THE U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N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DETECTIVE FILM AND 9 SEQUELS STARRED PETER SEL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DIAMOND HEIST FILM STARRED KEVIN KLEIN, MICHAEL PALIN, JAMIE LEE CURTIS, AND JOHN CLE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58 FILM STARRING PAUL NEWMAN, ELIZABETH TAYLOR, AND BURL IVES WAS BASED ON A PULITZER PRIZE-WINNING TENNESSEE WILLIAMS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ING CHARLTON HESTON ENDS WITH THE STATUE OF LIBERTY HALF COVERED IN S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STARRING BURGESS MEREDITH IS BASED ON A 1937 JOHN STEINBECK NOVEL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CIENCE FICTION &amp; HORROR FILM STARRED JEFF GOLDBLUM AND GEENA DAV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ANIMATED FILM WAS THE HIGHEST GROSSING ANIMATED FILM OF ALL TIME, THOUGH NOW THAT HONOR IS HELD BY ITS 2019 RE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IT FILM, AND BOTH ITS SEQUELS, STARRED PAUL HOGAN AS AN AUSSIE IN THE U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9:46:25Z</dcterms:created>
  <dc:creator>Jennifer Budzinski</dc:creator>
  <dc:description/>
  <dc:language>en-US</dc:language>
  <cp:lastModifiedBy>Erich Friedman</cp:lastModifiedBy>
  <dcterms:modified xsi:type="dcterms:W3CDTF">2020-08-24T13:21:08Z</dcterms:modified>
  <cp:revision>375</cp:revision>
  <dc:subject/>
  <dc:title>Slide 1</dc:title>
</cp:coreProperties>
</file>