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6DC0-764C-474B-A681-2046578DB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0752-7CE3-40A7-AF78-172D8C55B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C633-403F-441B-8CD1-71F9F77D0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D74E-AE93-4C9E-A4E8-9E930FAF2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E237-5A45-4131-819D-9B4CBE870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424E-9FAF-477D-9AFF-EE81C088B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A3F2-979B-4861-9D06-B08833B85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EE90-5CED-4A7C-B834-7F52F96DF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EBA3-B2ED-4B53-AE8C-5EAE76DB2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7D80-4044-40B9-BDCC-5594F9A8C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F5D9-C2CB-4835-AFEE-5CAD2BA30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0A24-73F4-46B1-9950-FBDF26376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A3B5-F184-4238-AC97-3FA07F5A0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051A-3B95-4E90-A30F-E98BE98AD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525C-21AC-4088-A34B-77D40925E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A530-E8F2-404D-9385-839755CB7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DC47-AB12-47F6-8077-30F619DD5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C0FB-0FAC-401F-B96B-E0C94951E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8C3E-0E3F-4ADD-B39B-66FF034A2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E540-AFBA-4997-947F-48688EFB3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FEAA-1E1C-452E-B78E-C4F6449AB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9F27-D481-4E2C-8A47-26ED3EBF1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4D2D-A05A-4B40-8345-7DB2515B0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DETECTIVE FILM AND 9 SEQUELS STARRED PETER SELL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G  DAY  AFTERN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BANK ROBBERY FILM STARRING AL PACINO WAS NOMINATED FOR 6 OSCARS, AND WON BEST SCREENPLA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FISH  CALLED  W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8240"/>
            <a:ext cx="792504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DIAMOND HEIST FILM STARRED KEVIN KLEIN, MICHAEL PALIN, JAMIE LEE CURTIS, AND JOHN CLE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9276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  ON  A  HOT  TIN  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58 FILM STARRING PAUL NEWMAN, ELIZABETH TAYLOR, AND BURL IVES WAS BASED ON A PULITZER PRIZE-WINNING TENNESSEE WILLIAMS PL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ET  OF  THE  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68580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STARRING CHARLTON HESTON ENDS WITH THE STATUE OF LIBERTY HALF COVERED IN S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F  MICE  AND  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9 FILM STARRING BURGESS MEREDITH IS BASED ON A 1937 JOHN STEINBECK NOVEL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SCIENCE FICTION &amp; HORROR FILM STARRED JEFF GOLDBLUM AND GEENA DAV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IO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ANIMATED FILM WAS THE HIGHEST GROSSING ANIMATED FILM OF ALL TIME, THOUGH NOW THAT HONOR IS HELD BY ITS 2019 REM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BANK ROBBERY FILM STARRING AL PACINO WAS NOMINATED FOR 6 OSCARS, AND WON BEST SCREENPLA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CODILE  DUND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HIT FILM, AND BOTH ITS SEQUELS, STARRED PAUL HOGAN AS AN AUSSIE IN THE U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INK  PAN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DETECTIVE FILM AND 9 SEQUELS STARRED PETER SELL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8769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DIAMOND HEIST FILM STARRED KEVIN KLEIN, MICHAEL PALIN, JAMIE LEE CURTIS, AND JOHN CLE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58 FILM STARRING PAUL NEWMAN, ELIZABETH TAYLOR, AND BURL IVES WAS BASED ON A PULITZER PRIZE-WINNING TENNESSEE WILLIAMS PL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STARRING CHARLTON HESTON ENDS WITH THE STATUE OF LIBERTY HALF COVERED IN S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2396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9 FILM STARRING BURGESS MEREDITH IS BASED ON A 1937 JOHN STEINBECK NOVEL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SCIENCE FICTION &amp; HORROR FILM STARRED JEFF GOLDBLUM AND GEENA DAV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ANIMATED FILM WAS THE HIGHEST GROSSING ANIMATED FILM OF ALL TIME, THOUGH NOW THAT HONOR IS HELD BY ITS 2019 REM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HIT FILM, AND BOTH ITS SEQUELS, STARRED PAUL HOGAN AS AN AUSSIE IN THE US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19:46:25Z</dcterms:created>
  <dc:creator>Jennifer Budzinski</dc:creator>
  <dc:description/>
  <dc:language>en-US</dc:language>
  <cp:lastModifiedBy>Erich Friedman</cp:lastModifiedBy>
  <dcterms:modified xsi:type="dcterms:W3CDTF">2020-08-24T13:21:08Z</dcterms:modified>
  <cp:revision>375</cp:revision>
  <dc:subject/>
  <dc:title>Slide 1</dc:title>
</cp:coreProperties>
</file>