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1DED-B8F1-4565-9ED0-1453B789E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F668-B351-49AD-9445-A7302FF08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A4E4-509B-4BB1-9ECB-919C0598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5FC8-E76B-4C18-B0F6-C72F90F2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9B6D-490A-4201-A063-D3790223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F48F-4C63-4B54-8F5D-ECFA954E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6E53-962F-4905-8C90-AA35FAE6C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0EB-4E92-4E95-A091-B468F8887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EDD6-5B87-4317-8492-76C89DA86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7794-3732-457C-A214-79E50A84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E76B-2E41-48D8-BB27-FA986490B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12A8-09FC-4879-869F-F158D2EFD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74F7-419C-4CA1-B20A-356CB70E1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5ACA-F8A1-4BB5-B1C7-421FEC8B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7267-BAF3-4627-8254-3D81EB8F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572-7957-4E0E-9A5E-7691D85E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BD82-5BE4-44D1-8009-C97EB9374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638F-6009-435D-986B-0B33EC800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E97-559A-4587-BBB3-871771C4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002A-D962-49A5-92C7-F688930F0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85CC6-C164-4843-A482-FD4B4DCA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2D4A-94E5-41E7-9222-47208D6CA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0505-6AF3-41EB-917B-BD295FE02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DETECTIVE FILM AND 9 SEQUELS STARRED PETER SELL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DAY  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BANK ROBBERY FILM STARRING AL PACINO WAS NOMINATED FOR 6 OSCARS, AND WON BEST SCREENPL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ISH  CALLED  W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8240"/>
            <a:ext cx="7925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DIAMOND HEIST FILM STARRED KEVIN KLEIN, MICHAEL PALIN, JAMIE LEE CURTIS, AND JOHN CLE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ON  A  HOT  TI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58 FILM STARRING PAUL NEWMAN, ELIZABETH TAYLOR, AND BURL IVES WAS BASED ON A PULITZER PRIZE-WINNING TENNESSEE WILLIAMS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OF  THE  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ING CHARLTON HESTON ENDS WITH THE STATUE OF LIBERTY HALF COVERED IN 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MICE  AN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STARRING BURGESS MEREDITH IS BASED ON A 1937 JOHN STEINBECK NOVE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CIENCE FICTION &amp; HORROR FILM STARRED JEFF GOLDBLUM AND GEENA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ANIMATED FILM WAS THE HIGHEST GROSSING ANIMATED FILM OF ALL TIME, THOUGH NOW THAT HONOR IS HELD BY ITS 2019 RE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BANK ROBBERY FILM STARRING AL PACINO WAS NOMINATED FOR 6 OSCARS, AND WON BEST SCREENPL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  DUND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IT FILM, AND BOTH ITS SEQUELS, STARRED PAUL HOGAN AS AN AUSSIE IN THE U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N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DETECTIVE FILM AND 9 SEQUELS STARRED PETER SEL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DIAMOND HEIST FILM STARRED KEVIN KLEIN, MICHAEL PALIN, JAMIE LEE CURTIS, AND JOHN CLE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58 FILM STARRING PAUL NEWMAN, ELIZABETH TAYLOR, AND BURL IVES WAS BASED ON A PULITZER PRIZE-WINNING TENNESSEE WILLIAMS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STARRING CHARLTON HESTON ENDS WITH THE STATUE OF LIBERTY HALF COVERED IN S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STARRING BURGESS MEREDITH IS BASED ON A 1937 JOHN STEINBECK NOVE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CIENCE FICTION &amp; HORROR FILM STARRED JEFF GOLDBLUM AND GEENA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ANIMATED FILM WAS THE HIGHEST GROSSING ANIMATED FILM OF ALL TIME, THOUGH NOW THAT HONOR IS HELD BY ITS 2019 RE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IT FILM, AND BOTH ITS SEQUELS, STARRED PAUL HOGAN AS AN AUSSIE IN THE U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19:46:25Z</dcterms:created>
  <dc:creator>Jennifer Budzinski</dc:creator>
  <dc:description/>
  <dc:language>en-US</dc:language>
  <cp:lastModifiedBy>Erich Friedman</cp:lastModifiedBy>
  <dcterms:modified xsi:type="dcterms:W3CDTF">2020-08-24T13:21:08Z</dcterms:modified>
  <cp:revision>375</cp:revision>
  <dc:subject/>
  <dc:title>Slide 1</dc:title>
</cp:coreProperties>
</file>