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B08F-433A-49C3-B664-D9429C94E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6B4D-DEBF-481D-861D-8EE53B456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4172-211E-46C9-95C7-0AD104275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8A02-C4BA-423E-AF44-06D8FCE58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E279-5754-41B4-B664-3ACF75ABC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6C34-28ED-4930-809C-C64F31A40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03B5-D0A2-4637-BA7B-1AAF0364C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0AE8-79F3-4704-97C7-5616C3C9B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BE72-15B6-42A8-B8C8-D3A0E507A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B9CA-6D85-415B-A59C-DB04BAF76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B159-406E-4057-80C2-D13C40872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CAD0-64E1-4A86-9D88-599B4FB31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3636-D4BA-416C-93BC-5A928F251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9887-E147-44CF-9011-2192F7A19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ADA0-834B-4B40-B1CA-0776A1C3F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955D-16D7-4D7B-814C-3AB987FBC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D412-0EB3-4E8D-985E-A39576AF7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725F-2209-47A6-A6C8-7D676FF3B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4A6F-AF97-438B-8C4A-92145B088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1A12-580A-46F6-9FCE-3283068EE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0E71-7F70-42CF-8F79-E8FC10164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F99C-97F1-408E-8FB2-65FADFFA2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84D0-6AA6-4A1A-86F1-35EA18C1D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81160" y="1523880"/>
            <a:ext cx="6781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'S MUSIC IS FEATURED ON THE TV SHOW "CSI" AND ALL ITS VARIOUS SPINOFF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OL  CH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ITH INITIALS C.C. STARRED IN THE MUSICALS "HELLO, DOLLY!" AND "GENTLEMEN PREFER BLOND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LA  FITZGERA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FRICAN-AMERICAN WOMAN TO WIN A GRAMMY, AND WAS KNOWN AS "THE FIRST LADY OF SO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UBBY  CHE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WITH INITIALS C.C. POPULARIZED THE SONG "THE TWI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304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824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RELEASED "THRILLER", THE BEST-SELLING ALBUM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BENN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SIGNATURE SONG IS "I LEFT MY HEART IN SAN FRANCISC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Z  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19040" y="762120"/>
            <a:ext cx="83059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AND IS FRANK BEARD THE ONLY MEMBER WHO DOES NOT HAVE A BE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, ORIGINALLY FROM IRELAND, HAS WON MORE GRAMMY AWARDS THAN ANY OTHER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ITH INITIALS C.C. STARRED IN THE MUSICALS "HELLO, DOLLY!" AND "GENTLEMEN PREFER BLOND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LLING  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28880" y="762120"/>
            <a:ext cx="7086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BAND HAD 4 OF THE TOP 5 HIGHEST-GROSSING CONCERT TOURS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'S MUSIC IS FEATURED ON THE TV SHOW "CSI" AND ALL ITS VARIOUS SPINOFF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09760" y="4343400"/>
            <a:ext cx="6324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PERFORMED  AT  THE  SUPER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FRICAN-AMERICAN WOMAN TO WIN A GRAMMY, AND WAS KNOWN AS "THE FIRST LADY OF SO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WITH INITIALS C.C. POPULARIZED THE SONG "THE TWI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RELEASED "THRILLER", THE BEST-SELLING ALBUM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SIGNATURE SONG IS "I LEFT MY HEART IN SAN FRANCISC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AND IS FRANK BEARD THE ONLY MEMBER WHO DOES NOT HAVE A BE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, ORIGINALLY FROM IRELAND, HAS WON MORE GRAMMY AWARDS THAN ANY OTHER 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BAND HAD 4 OF THE TOP 5 HIGHEST-GROSSING CONCERT TOURS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8T20:37:12Z</dcterms:created>
  <dc:creator>Jennifer Budzinski</dc:creator>
  <dc:description/>
  <dc:language>en-US</dc:language>
  <cp:lastModifiedBy>Erich Friedman</cp:lastModifiedBy>
  <dcterms:modified xsi:type="dcterms:W3CDTF">2020-08-30T00:36:16Z</dcterms:modified>
  <cp:revision>384</cp:revision>
  <dc:subject/>
  <dc:title>Slide 1</dc:title>
</cp:coreProperties>
</file>