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F126-BC67-46FB-925E-5F0E4A9B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0297-2EC9-441E-BE38-5A3FE6F6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9645-2279-459A-BCF4-FC85F87F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6876-42C6-46F9-AFAC-3FEA6E46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AD7A-BCA2-483C-8DF9-BC0FED68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B585-6850-41E1-97FA-F557F2153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621E-FBE8-4BC4-BB95-9B56544F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666A-0AD2-4F40-B692-4D348DE0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0E57-D6A1-46DF-9691-4292271B0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64FD-9FDD-499F-A9FA-BEBDE378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F1E7-D030-4822-A92D-0034A6E4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82B-426F-478B-B32D-6E01D18B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97D-6FC4-445C-8178-9EB725FA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2A01-4A4F-4221-8F7D-93664342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18AF-8FAA-49D1-937F-5EC5F9A31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8FD7-CCB8-407E-9424-D9618618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5355-BF5A-4EC4-A2E5-2669FE36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F9A8-8065-4D73-94E7-A28CCD03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D58-2741-494E-B408-8C77124F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4F4B-090E-4EB8-987F-FD7CC51E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A20-DA2B-4909-B03E-EFAF9EE7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6EB0-0636-4FBA-B93C-3ABD602B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A615-3A0A-4B6F-89FB-55B97102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MUSIC IS FEATURED ON THE TV SHOW "CSI" AND ALL ITS VARIOUS SPIN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CH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C.C. STARRED IN THE MUSICALS "HELLO, DOLLY!" AND "GENTLEMEN PREFER BLOND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WOMAN TO WIN A GRAMMY, AND WAS KNOWN AS "THE FIRST LADY OF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BBY  CH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ITH INITIALS C.C. POPULARIZED THE SONG "THE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824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RELEASED "THRILLER", THE BEST-SELLING ALBUM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SONG IS "I LEFT MY HEART IN SAN FRANCIS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Z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ND IS FRANK BEARD THE ONLY MEMBER WHO DOES NOT HAVE A BE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ORIGINALLY FROM IRELAND, HAS WON MORE GRAMMY AWARDS THAN ANY OTHER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C.C. STARRED IN THE MUSICALS "HELLO, DOLLY!" AND "GENTLEMEN PREFER BLOND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BAND HAD 4 OF THE TOP 5 HIGHEST-GROSSING CONCERT TOUR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MUSIC IS FEATURED ON THE TV SHOW "CSI" AND ALL ITS VARIOUS SPIN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PERFORMED  AT  THE  SUPER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WOMAN TO WIN A GRAMMY, AND WAS KNOWN AS "THE FIRST LADY OF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ITH INITIALS C.C. POPULARIZED THE SONG "THE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RELEASED "THRILLER", THE BEST-SELLING ALBUM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SONG IS "I LEFT MY HEART IN SAN FRANCIS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ND IS FRANK BEARD THE ONLY MEMBER WHO DOES NOT HAVE A BE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ORIGINALLY FROM IRELAND, HAS WON MORE GRAMMY AWARDS THAN ANY OTHER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BAND HAD 4 OF THE TOP 5 HIGHEST-GROSSING CONCERT TOUR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20:37:12Z</dcterms:created>
  <dc:creator>Jennifer Budzinski</dc:creator>
  <dc:description/>
  <dc:language>en-US</dc:language>
  <cp:lastModifiedBy>Erich Friedman</cp:lastModifiedBy>
  <dcterms:modified xsi:type="dcterms:W3CDTF">2020-08-30T00:36:16Z</dcterms:modified>
  <cp:revision>384</cp:revision>
  <dc:subject/>
  <dc:title>Slide 1</dc:title>
</cp:coreProperties>
</file>