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CE00-2C9D-4F1B-A737-80D66E3F7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AA2D-B6D7-4230-8F49-E26F26CDB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8B67-8A68-4FC7-B56E-F33B4BA13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9A18-8841-4DBC-9CD9-1059322EB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5278-CFF0-429E-8A67-693E0CC2A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ACB8-B1EA-478C-AC06-A706ED5B0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82FD-2757-48F3-B3EC-4974446AB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9D5C-2E65-4C74-BEC5-FB7FB4699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7453-836F-4EB8-A2AA-2AE8A4EB0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BBD2-1F50-4BB2-B417-F694C17A7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EB2E-89F0-4C88-8ABA-F5E5B6FD8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6A63-767C-4D13-9975-7E25F7700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6E72-D05F-4FCE-8CB2-F3D70AE54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DA77-CFBD-497F-ADFD-C7EA02F4A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B9D8-FFF8-49B8-90EF-B806ED76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34ED-C075-4949-A94F-F1E3B7191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18F0-B2A7-4195-8D4D-B9E5C8609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5367-5D1A-4880-855F-CDF8F993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D1D6-BBB5-45C5-8575-7942C2733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A391-7342-4181-A7ED-8FA489D3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A94D-C151-4B2C-BDDE-9A51A1BCC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8D5E-15B9-4280-9C50-601EA0397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3DE2-CE4B-4FE0-A1B2-DDE4AE8AE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523880"/>
            <a:ext cx="6781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'S MUSIC IS FEATURED ON THE TV SHOW "CSI" AND ALL ITS VARIOUS SPINOF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  CH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INITIALS C.C. STARRED IN THE MUSICALS "HELLO, DOLLY!" AND "GENTLEMEN PREFER BLOND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A  FITZG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WOMAN TO WIN A GRAMMY, AND WAS KNOWN AS "THE FIRST LADY OF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BBY  CHE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ITH INITIALS C.C. POPULARIZED THE SONG "THE TW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824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RELEASED "THRILLER", THE BEST-SELLING ALBUM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BEN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IGNATURE SONG IS "I LEFT MY HEART IN SAN FRANCISC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Z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ND IS FRANK BEARD THE ONLY MEMBER WHO DOES NOT HAVE A BE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, ORIGINALLY FROM IRELAND, HAS WON MORE GRAMMY AWARDS THAN ANY OTHER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INITIALS C.C. STARRED IN THE MUSICALS "HELLO, DOLLY!" AND "GENTLEMEN PREFER BLOND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BAND HAD 4 OF THE TOP 5 HIGHEST-GROSSING CONCERT TOUR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'S MUSIC IS FEATURED ON THE TV SHOW "CSI" AND ALL ITS VARIOUS SPINOF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343400"/>
            <a:ext cx="6324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PERFORMED  AT  THE  SUPER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WOMAN TO WIN A GRAMMY, AND WAS KNOWN AS "THE FIRST LADY OF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WITH INITIALS C.C. POPULARIZED THE SONG "THE TW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 RELEASED "THRILLER", THE BEST-SELLING ALBUM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IGNATURE SONG IS "I LEFT MY HEART IN SAN FRANCISC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ND IS FRANK BEARD THE ONLY MEMBER WHO DOES NOT HAVE A BE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, ORIGINALLY FROM IRELAND, HAS WON MORE GRAMMY AWARDS THAN ANY OTHER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BAND HAD 4 OF THE TOP 5 HIGHEST-GROSSING CONCERT TOUR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20:37:12Z</dcterms:created>
  <dc:creator>Jennifer Budzinski</dc:creator>
  <dc:description/>
  <dc:language>en-US</dc:language>
  <cp:lastModifiedBy>Erich Friedman</cp:lastModifiedBy>
  <dcterms:modified xsi:type="dcterms:W3CDTF">2020-08-30T00:36:16Z</dcterms:modified>
  <cp:revision>384</cp:revision>
  <dc:subject/>
  <dc:title>Slide 1</dc:title>
</cp:coreProperties>
</file>