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EF50-BF82-4166-BF89-09F747BFA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CB9-8B50-4876-AC79-3845BD20C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88A0-0334-4E89-8099-CFA961E2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A213-6E88-4CD5-83CE-4FF828963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2CB4-6475-471F-8A30-94366760E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148D-CF1B-4FE3-BCED-A8DE60CAE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D148-BE3E-4FB2-91C5-CFCC936A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7F14-D4A5-472D-B42A-27FFC7DE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C203-9B99-4D9B-B032-C973BAF56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3D2A-8798-42E8-A8D8-DDC3B25B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8B49-1DD7-4F36-971F-5CA80C6E2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4DF0-F42D-44F0-B883-BA9D16DE5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E5B-9FDF-4006-9B6B-C5B73B084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A98A-5985-422B-8229-C66CC004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7519-5780-4779-BC70-C910F7740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0801-DEC8-4251-8C4A-FA67D0CF5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B82-FCA3-4F63-B296-42AB891D8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5360-3EA6-4C33-A2FB-D623A9FA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AE99-4707-47A5-B03A-DA040D22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6E0-1AA6-4062-A414-7120688BE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EB14-E459-4410-8285-C6E83A990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A629-56BE-4B35-92E2-964CB130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C15B-46D1-49EC-967D-1DC546B61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OFF PETER, PAUL &amp; MARY'S FIRST ALBUM WON A GRAMMY FOR BEST FOLK RECOR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S  ON  A 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, WHILE HE WAS FILMING THE MOVIE "PACIFIC FLIGHT 121", GOT THE NAME CHANGED 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W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VODKA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GSAW  PUZZ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OF THESE WERE MAPS OF THE BRITISH EMPIRE CUT INTO PIECES.  WHAT DO WE CALL THEM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1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E  FOR  BANKRUPT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INVOKE CHAPTER 7 OF TITLE 11 OF THE U.S. CODE, WHAT HAVE YOU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WITH  THE  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KING OF DIAMONDS PLAYING CARD SOMETIMES KNOWN AS, WHICH RHYMES WITH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LL,  BABY,  DR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CAMPAIGN SLOGAN ABOUT PETROLEUM AND GAS DID SARAH PALIN USE IN HER VP DEB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K  THE  KN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28 GERMAN SONG "DIE MORITAT VON MACKIE MESSER" IS KNOWN AS WHAT SONG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MUEL L. JACKSON, WHILE HE WAS FILMING THE MOVIE "PACIFIC FLIGHT 121", GOT THE NAME CHANGED 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ME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2016 DEMOCRATIC PARTY NOMINEE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384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F  I  HAD  A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16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OFF PETER, PAUL &amp; MARY'S FIRST ALBUM WON A GRAMMY FOR BEST FOLK RECOR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VODKA AND ORANGE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OF THESE WERE MAPS OF THE BRITISH EMPIRE CUT INTO PIECES.  WHAT DO WE CALL THEM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INVOKE CHAPTER 7 OF TITLE 11 OF THE U.S. CODE, WHAT HAVE YOU D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KING OF DIAMONDS PLAYING CARD SOMETIMES KNOWN AS, WHICH RHYMES WITH "ONE-EYED JAC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CAMPAIGN SLOGAN ABOUT PETROLEUM AND GAS DID SARAH PALIN USE IN HER VP DEB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28 GERMAN SONG "DIE MORITAT VON MACKIE MESSER" IS KNOWN AS WHAT SONG IN ENGLISH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AME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2016 DEMOCRATIC PARTY NOMINEE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8:25:13Z</dcterms:created>
  <dc:creator>Jennifer Budzinski</dc:creator>
  <dc:description/>
  <dc:language>en-US</dc:language>
  <cp:lastModifiedBy>Erich Friedman</cp:lastModifiedBy>
  <dcterms:modified xsi:type="dcterms:W3CDTF">2020-08-30T00:37:50Z</dcterms:modified>
  <cp:revision>375</cp:revision>
  <dc:subject/>
  <dc:title>Slide 1</dc:title>
</cp:coreProperties>
</file>