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9C1A0-24A7-4AC7-BB39-CBB51F6754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4EBFD-4C13-4578-AA1B-5C03854E11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EB9AF-8DE9-4F29-9532-2C61AD86EC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1323E-CE4E-4CE6-8124-5C1E8D277C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D6441-71CE-4CC2-A118-58CC9348E8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AD6F7-B01E-4A53-B7CA-DD9C3D8BA7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50D0C-C7F0-40F5-BD7C-D6B156835F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6ED9E-0AC3-4C0A-B622-227BE1E713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E300A-0164-456B-9162-AFDE5A84AA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6A912-3135-48DB-94E6-22421894DA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BFF19-30B6-4656-8024-22AD4F6379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3116C-BA04-497F-AFCE-D54C45C451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19B8D-5F3B-4E7B-A8BC-3DA1118AF4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19333-B9CE-4BBE-989A-2B449D3E3F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00E09-9B26-4105-B10F-EB2E4ECC85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D6CFD-4751-4B84-9AC0-D8F0AABCB0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836AE-7962-4B8D-9C85-A696A72CC3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82751-E6A5-4C20-B711-661C486727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A44CE-EAD6-40CC-B5A5-42A19BB4B5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D3738-2D6C-4BEF-8C54-BE27A9D8C1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C3DED-CCA1-406A-A0EE-613904E825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78445-191D-478A-BE68-B0B8485B43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2F0F7-9D0D-4B09-8052-9BE5A03FD8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600200" y="1523880"/>
            <a:ext cx="5943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304920" y="761760"/>
            <a:ext cx="85341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IT SONG OFF PETER, PAUL &amp; MARY'S FIRST ALBUM WON A GRAMMY FOR BEST FOLK RECORDI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NAKES  ON  A  PLA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457200" y="762120"/>
            <a:ext cx="83818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AMUEL L. JACKSON, WHILE HE WAS FILMING THE MOVIE "PACIFIC FLIGHT 121", GOT THE NAME CHANGED TO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8808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CREWDRI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685800" y="762120"/>
            <a:ext cx="7772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IXED DRINK CONTAINS VODKA AND ORANGE JUI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IGSAW  PUZZ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028880" y="762120"/>
            <a:ext cx="7086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FIRST OF THESE WERE MAPS OF THE BRITISH EMPIRE CUT INTO PIECES.  WHAT DO WE CALL THEM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5136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ILE  FOR  BANKRUPT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495360" y="762120"/>
            <a:ext cx="8153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F YOU INVOKE CHAPTER 7 OF TITLE 11 OF THE U.S. CODE, WHAT HAVE YOU DO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MAN  WITH  THE  A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952560" y="762120"/>
            <a:ext cx="72388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KING OF DIAMONDS PLAYING CARD SOMETIMES KNOWN AS, WHICH RHYMES WITH "ONE-EYED JACK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RILL,  BABY,  DRI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495360" y="762120"/>
            <a:ext cx="815328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EPUBLICAN CAMPAIGN SLOGAN ABOUT PETROLEUM AND GAS DID SARAH PALIN USE IN HER VP DEBA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CK  THE  KNIF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800280" y="762120"/>
            <a:ext cx="75438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1928 GERMAN SONG "DIE MORITAT VON MACKIE MESSER" IS KNOWN AS WHAT SONG IN ENGLISH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AMUEL L. JACKSON, WHILE HE WAS FILMING THE MOVIE "PACIFIC FLIGHT 121", GOT THE NAME CHANGED TO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RNIE  SAND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838080" y="762120"/>
            <a:ext cx="74678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CAME IN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FOR THE 2016 DEMOCRATIC PARTY NOMINEE FOR PRESID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93840" y="4876920"/>
            <a:ext cx="8381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F  I  HAD  A  HAMM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431640" y="762120"/>
            <a:ext cx="83059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IT SONG OFF PETER, PAUL &amp; MARY'S FIRST ALBUM WON A GRAMMY FOR BEST FOLK RECORD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914400" y="4876920"/>
            <a:ext cx="7315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NAMES  OF  TOO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IXED DRINK CONTAINS VODKA AND ORANGE JUIC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028880" y="762120"/>
            <a:ext cx="7086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FIRST OF THESE WERE MAPS OF THE BRITISH EMPIRE CUT INTO PIECES.  WHAT DO WE CALL THEM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F YOU INVOKE CHAPTER 7 OF TITLE 11 OF THE U.S. CODE, WHAT HAVE YOU DON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876240" y="723960"/>
            <a:ext cx="73915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KING OF DIAMONDS PLAYING CARD SOMETIMES KNOWN AS, WHICH RHYMES WITH "ONE-EYED JACK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EPUBLICAN CAMPAIGN SLOGAN ABOUT PETROLEUM AND GAS DID SARAH PALIN USE IN HER VP DEBAT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6197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1928 GERMAN SONG "DIE MORITAT VON MACKIE MESSER" IS KNOWN AS WHAT SONG IN ENGLISH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CAME IN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FOR THE 2016 DEMOCRATIC PARTY NOMINEE FOR PRESIDE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17T18:25:13Z</dcterms:created>
  <dc:creator>Jennifer Budzinski</dc:creator>
  <dc:description/>
  <dc:language>en-US</dc:language>
  <cp:lastModifiedBy>Erich Friedman</cp:lastModifiedBy>
  <dcterms:modified xsi:type="dcterms:W3CDTF">2020-08-30T00:37:50Z</dcterms:modified>
  <cp:revision>375</cp:revision>
  <dc:subject/>
  <dc:title>Slide 1</dc:title>
</cp:coreProperties>
</file>