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FEA1-B7EA-4F70-BF67-23E2EA0EA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E0E6-B43D-43B8-855B-CEDCDBEC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5DF8-E7DE-4F62-8B07-B28D3CFA2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857-AD49-41DB-9990-B3E4FA7E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F8D-8300-47E3-AB07-1542A076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6736-3A4A-42AA-A5E4-1A654EFE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8DAC-04E0-4EA4-870C-020D3FCBB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8EA-A822-451F-BEC9-17DAF27F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0DA7-BB86-4EEA-824B-7E9C1E701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3818-7411-4B62-A454-E2FF77F4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8612-2E87-471C-8C15-993073F5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19A8-7F9D-4F5C-BEFD-01602EA1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6EFA-6846-4D79-BB99-BC56B718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0C13-FF4F-487C-B462-0B19056A0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F3EC-8D3A-49A2-B886-D8AFDBE8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5DA-010D-4356-A9F4-6BF9DAFD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981-89DB-477C-811F-45BFC0ED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6563-7265-496C-85C7-23F83E5D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3B1-1433-429F-946C-61D6AD06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825E-1A4C-4D62-A993-B23007C0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D48C-7A4E-4294-AD42-6EDD4983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104-8F35-4A00-B342-45872CCE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066-AE05-45A6-9645-B7FD5C8A5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OFF PETER, PAUL &amp; MARY'S FIRST ALBUM WON A GRAMMY FOR BEST FOLK RECOR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S  ON  A 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, WHILE HE WAS FILMING THE MOVIE "PACIFIC FLIGHT 121", GOT THE NAME CHANGED 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W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VODKA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GSAW  PUZZ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OF THESE WERE MAPS OF THE BRITISH EMPIRE CUT INTO PIECES.  WHAT DO WE CALL THEM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1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E  FOR  BANKRUPT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INVOKE CHAPTER 7 OF TITLE 11 OF THE U.S. CODE, WHAT HAVE YOU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WITH  THE  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KING OF DIAMONDS PLAYING CARD SOMETIMES KNOWN AS, WHICH RHYMES WITH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LL,  BABY,  DR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CAMPAIGN SLOGAN ABOUT PETROLEUM AND GAS DID SARAH PALIN USE IN HER VP DEB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K  THE  KN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28 GERMAN SONG "DIE MORITAT VON MACKIE MESSER" IS KNOWN AS WHAT SONG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, WHILE HE WAS FILMING THE MOVIE "PACIFIC FLIGHT 121", GOT THE NAME CHANGED 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ME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2016 DEMOCRATIC PARTY NOMINEE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384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F  I  HAD  A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16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OFF PETER, PAUL &amp; MARY'S FIRST ALBUM WON A GRAMMY FOR BEST FOLK RECOR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VODKA AND ORANGE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OF THESE WERE MAPS OF THE BRITISH EMPIRE CUT INTO PIECES.  WHAT DO WE CALL THEM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INVOKE CHAPTER 7 OF TITLE 11 OF THE U.S. CODE, WHAT HAVE YOU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KING OF DIAMONDS PLAYING CARD SOMETIMES KNOWN AS, WHICH RHYMES WITH "ONE-EYED JAC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CAMPAIGN SLOGAN ABOUT PETROLEUM AND GAS DID SARAH PALIN USE IN HER VP DEB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28 GERMAN SONG "DIE MORITAT VON MACKIE MESSER" IS KNOWN AS WHAT SONG IN ENGLISH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ME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2016 DEMOCRATIC PARTY NOMINEE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8:25:13Z</dcterms:created>
  <dc:creator>Jennifer Budzinski</dc:creator>
  <dc:description/>
  <dc:language>en-US</dc:language>
  <cp:lastModifiedBy>Erich Friedman</cp:lastModifiedBy>
  <dcterms:modified xsi:type="dcterms:W3CDTF">2020-08-30T00:37:50Z</dcterms:modified>
  <cp:revision>375</cp:revision>
  <dc:subject/>
  <dc:title>Slide 1</dc:title>
</cp:coreProperties>
</file>