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AAD5-E3B4-47C6-B10D-AADD2D409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BB11-E657-4B14-A7D5-FE650588C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D524-9889-4B85-9E90-D5E2DC0FA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4BD8-9F7B-4509-A774-A5749A06D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444A-0BC4-42D6-ADD8-DA30E8C66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E3DB-E9C4-4088-B5A4-CF6A40089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44B5-10E3-4ED5-B7C6-E275412B2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08B3-513A-4591-880D-24091707D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E049-6633-4197-A250-2C4D2A77E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610E-21E5-40C6-AC8D-BC6202BA5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1306-5037-4C0E-BE35-2535BC6EB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4B60-F2B9-4AD3-B4FB-FB1073890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CB24-FF3B-484D-81E9-81265EC9E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C659-24A2-4AEF-BBDF-5AB87C3A9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D093-D7CF-4E8D-A392-05F1BC208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E13F-D3F5-4EF7-AA4A-09FFCAC24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5490-962B-4BFA-B4BE-227606153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BF0F-ACFF-49C1-A387-1F51FB330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A080-67A2-490A-8841-CE214389E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B337-CBC1-401C-AC15-36039B7BB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3239-361C-4AC0-867D-5933DADFB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BBE8-0A90-4A1A-A9B3-1E3A6C082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84FB-39CF-401D-924D-F805CE442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7-1983 CATCHER FOR THE CINCINNATI REDS WAS A 14-TIME  ALL-STAR SELE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CTRIC  C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266760" y="762120"/>
            <a:ext cx="8610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HUMANE ALTERNATIVE" TO HANGING WAS INVENTED BY A BUFFALO DENTIST IN 188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MM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A STAND OF HARDWOOD TREES THAT FORM AN ECOLOGICAL ISLAND IN A CONTRASTING ECOSYSTE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D  OF  RO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FILM STARS CHRISTIAN SLATER AS A FLORIST WHO SENDS MARY STUART MASTERSON FLOWERS ANONYMOUS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NIGHTS  OF  THE  ROUND  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257480" y="749160"/>
            <a:ext cx="6629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MEMBERS   OF THE LEGENDARY FELLOWSHIP OF THE KING ARTHUR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SK  S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WHAT PRESCIENT 1957 SPENCER TRACY AND KATHARINE HEPBURN FILM ARE WORKERS WORRIED ABOUT BEING REPLACED BY COMPUTE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LLOW  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52560" y="762120"/>
            <a:ext cx="7238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9 FILM STARS ROCK HUDSON, DORIS DAY, AND TONY RANDALL IN A LOVE TRI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OL  PIGE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-WORD SLANG PHRASE FOR POLICE INFORMANT MIGHT COME FROM THE NAME OF A BIRD DEC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HUMANE ALTERNATIVE" TO HANGING WAS INVENTED BY A BUFFALO DENTIST IN 188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TTOMAN  EMP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266760" y="76212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YNASTY CONTROLLED MUCH OF SOUTHEAST EUROPE, WESTERN ASIA AND NORTH AFRICA BETWEEN THE 1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AND EARLY 1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NY  BE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4300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7-1983 CATCHER FOR THE CINCINNATI REDS WAS A 14-TIME ALL-STAR SELE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409760" y="4876920"/>
            <a:ext cx="632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PLACES  TO  S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A STAND OF HARDWOOD TREES THAT FORM AN ECOLOGICAL ISLAND IN A CONTRASTING ECOSYSTEM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FILM STARS CHRISTIAN SLATER AS A FLORIST WHO SENDS MARY STUART MASTERSON FLOWERS ANONYMOUS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MEMBERS   OF THE LEGENDARY FELLOWSHIP OF THE KING ARTHUR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WHAT PRESCIENT 1957 SPENCER TRACY AND KATHARINE HEPBURN FILM ARE WORKERS WORRIED ABOUT BEING REPLACED BY COMPUTER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9 FILM STARS ROCK HUDSON, DORIS DAY, AND TONY RANDALL IN A LOVE TRIANG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-WORD SLANG PHRASE FOR POLICE INFORMANT MIGHT COME FROM THE NAME OF A BIRD DECO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YNASTY CONTROLLED MUCH OF SOUTHEAST EUROPE, WESTERN ASIA AND NORTH AFRICA BETWEEN THE 1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EARLY 1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1T09:19:07Z</dcterms:created>
  <dc:creator>Jennifer Budzinski</dc:creator>
  <dc:description/>
  <dc:language>en-US</dc:language>
  <cp:lastModifiedBy>Erich Friedman</cp:lastModifiedBy>
  <dcterms:modified xsi:type="dcterms:W3CDTF">2020-08-30T09:18:49Z</dcterms:modified>
  <cp:revision>460</cp:revision>
  <dc:subject/>
  <dc:title>Slide 1</dc:title>
</cp:coreProperties>
</file>