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40C2F-7302-4A2B-B305-9ECA0B94C0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CCD64-5AD0-4E3D-8FA3-01BC2F55E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CDA5-71A1-492C-9EB8-94ABC7C98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517DA-4A0D-43E9-9709-8F00D9035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17DA2-8786-4AF3-9BFA-7B815E6FB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E4588-673F-4E80-894F-64B18E319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F02FD-615E-410E-835E-5CCC63E49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02457-1DBB-406B-9E94-B2B91A8CE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9BEAE-7D2B-4B35-B154-8CCB180F1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07FA4-4FBC-4F0D-AE4F-112435399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F827A-C544-42F8-A1DD-6B15BE1AE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FCFCE-EC8C-4EF4-B202-72408F5B6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6F6B1-CCC2-458D-B95E-ADA6A5021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6D5A7-40E9-43A0-A515-9E50DAED0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886A3-D2BA-4F3A-A6ED-7962FBBEC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6306B-D2DB-45A9-9851-AD3283E7B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296B6-8BC4-40F8-BAD4-25D8FDD57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C85CB-7C04-468B-BB4E-7D68EA3D1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EEFE0-2D29-4450-B4F5-DBCA9C86B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20A9D-0A13-4A24-AEEC-3F314F60C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8212F-3A50-475F-906E-84F60763E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8B49B-6611-4276-AFB9-5A6CDDFCB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34352-9C81-4171-B9C1-2624090F8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7-1983 CATCHER FOR THE CINCINNATI REDS WAS A 14-TIME  ALL-STAR SELEC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ECTRIC  CH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266760" y="762120"/>
            <a:ext cx="8610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HUMANE ALTERNATIVE" TO HANGING WAS INVENTED BY A BUFFALO DENTIST IN 188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MM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RM FOR A STAND OF HARDWOOD TREES THAT FORM AN ECOLOGICAL ISLAND IN A CONTRASTING ECOSYSTE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D  OF  RO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85800" y="76212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6 FILM STARS CHRISTIAN SLATER AS A FLORIST WHO SENDS MARY STUART MASTERSON FLOWERS ANONYMOUS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NIGHTS  OF  THE  ROUND  T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257480" y="749160"/>
            <a:ext cx="6629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RE MEMBERS   OF THE LEGENDARY FELLOWSHIP OF THE KING ARTHUR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SK  S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WHAT PRESCIENT 1957 SPENCER TRACY AND KATHARINE HEPBURN FILM ARE WORKERS WORRIED ABOUT BEING REPLACED BY COMPUTE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LLOW  TA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52560" y="762120"/>
            <a:ext cx="7238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9 FILM STARS ROCK HUDSON, DORIS DAY, AND TONY RANDALL IN A LOVE TRIANG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OOL  PIGE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-WORD SLANG PHRASE FOR POLICE INFORMANT MIGHT COME FROM THE NAME OF A BIRD DECO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HUMANE ALTERNATIVE" TO HANGING WAS INVENTED BY A BUFFALO DENTIST IN 188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TTOMAN  EMP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266760" y="762120"/>
            <a:ext cx="8610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YNASTY CONTROLLED MUCH OF SOUTHEAST EUROPE, WESTERN ASIA AND NORTH AFRICA BETWEEN THE 1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AND EARLY 1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NY  BEN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43000" y="762120"/>
            <a:ext cx="6858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7-1983 CATCHER FOR THE CINCINNATI REDS WAS A 14-TIME ALL-STAR SELEC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409760" y="4876920"/>
            <a:ext cx="6324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PLACES  TO  S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RM FOR A STAND OF HARDWOOD TREES THAT FORM AN ECOLOGICAL ISLAND IN A CONTRASTING ECOSYSTEM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6 FILM STARS CHRISTIAN SLATER AS A FLORIST WHO SENDS MARY STUART MASTERSON FLOWERS ANONYMOUS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RE MEMBERS   OF THE LEGENDARY FELLOWSHIP OF THE KING ARTHUR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WHAT PRESCIENT 1957 SPENCER TRACY AND KATHARINE HEPBURN FILM ARE WORKERS WORRIED ABOUT BEING REPLACED BY COMPUTER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9 FILM STARS ROCK HUDSON, DORIS DAY, AND TONY RANDALL IN A LOVE TRIANG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-WORD SLANG PHRASE FOR POLICE INFORMANT MIGHT COME FROM THE NAME OF A BIRD DECO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266760" y="76212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YNASTY CONTROLLED MUCH OF SOUTHEAST EUROPE, WESTERN ASIA AND NORTH AFRICA BETWEEN THE 1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D EARLY 1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1T09:19:07Z</dcterms:created>
  <dc:creator>Jennifer Budzinski</dc:creator>
  <dc:description/>
  <dc:language>en-US</dc:language>
  <cp:lastModifiedBy>Erich Friedman</cp:lastModifiedBy>
  <dcterms:modified xsi:type="dcterms:W3CDTF">2020-08-30T09:18:49Z</dcterms:modified>
  <cp:revision>460</cp:revision>
  <dc:subject/>
  <dc:title>Slide 1</dc:title>
</cp:coreProperties>
</file>