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3C21-F3B9-43C9-BAE2-0B38AE264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8C98-841F-4C67-B97F-141B2F4BC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C714-433E-463F-B2BB-6D06C9F80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D11D-29F2-4E8A-B338-39E823BE8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DFE6-66F3-4161-AA96-A3D707BCC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2F3D-BE90-4817-B44A-CC0C537D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1860-2208-46BC-A8E3-99FC02B32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13A9-4580-4E6D-9148-C33F8385A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FED7-AEB3-413B-B5CE-F8E19768F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4E07-325B-4831-B4B3-9B3CA23DD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48F2-B1A9-40C1-9B01-609A2C597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0A95-0E48-469D-9775-227E19C91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5E83-9747-4672-8619-22F07511D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B23F-CD04-44A6-977C-6BC9C7BB5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E42F-23B0-4945-9B1D-CFF6047CA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BF15-F7D2-449B-89D8-ADDC87AAE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4EE2-5927-43D6-A183-5FC707166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A571-1E7F-4AF0-B280-A451F09C0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6FA8-20D4-4AAD-84CD-61F59C974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BF9A-C764-410F-8A82-1C5D4F2B9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BBA5-6234-4A41-86D4-0143C8A36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F8A8-1E01-428E-9A2E-6BC2A3725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E160-60F9-4389-ACEE-EE93719C7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-1983 CATCHER FOR THE CINCINNATI REDS WAS A 14-TIME  ALL-STAR S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 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HUMANE ALTERNATIVE" TO HANGING WAS INVENTED BY A BUFFALO DENTIST IN 18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M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STAND OF HARDWOOD TREES THAT FORM AN ECOLOGICAL ISLAND IN A CONTRASTING ECOSYST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D  OF  R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S CHRISTIAN SLATER AS A FLORIST WHO SENDS MARY STUART MASTERSON FLOWERS ANONYMOUS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S  OF  THE  ROUND 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57480" y="74916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MEMBERS   OF THE LEGENDARY FELLOWSHIP OF THE KING ARTHU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K  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PRESCIENT 1957 SPENCER TRACY AND KATHARINE HEPBURN FILM ARE WORKERS WORRIED ABOUT BEING REPLACED BY COMPUT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LOW 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 STARS ROCK HUDSON, DORIS DAY, AND TONY RANDALL IN A LOVE TRI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OL  PIG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WORD SLANG PHRASE FOR POLICE INFORMANT MIGHT COME FROM THE NAME OF A BIRD DEC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HUMANE ALTERNATIVE" TO HANGING WAS INVENTED BY A BUFFALO DENTIST IN 18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OMAN  EMP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YNASTY CONTROLLED MUCH OF SOUTHEAST EUROPE, WESTERN ASIA AND NORTH AFRICA BETWEEN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AND EARLY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B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-1983 CATCHER FOR THE CINCINNATI REDS WAS A 14-TIME ALL-STAR S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8769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PLACES  TO  S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STAND OF HARDWOOD TREES THAT FORM AN ECOLOGICAL ISLAND IN A CONTRASTING ECOSYSTE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S CHRISTIAN SLATER AS A FLORIST WHO SENDS MARY STUART MASTERSON FLOWERS ANONYMOUS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MEMBERS   OF THE LEGENDARY FELLOWSHIP OF THE KING ARTHU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PRESCIENT 1957 SPENCER TRACY AND KATHARINE HEPBURN FILM ARE WORKERS WORRIED ABOUT BEING REPLACED BY COMPUTER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 STARS ROCK HUDSON, DORIS DAY, AND TONY RANDALL IN A LOVE TRIA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WORD SLANG PHRASE FOR POLICE INFORMANT MIGHT COME FROM THE NAME OF A BIRD DEC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YNASTY CONTROLLED MUCH OF SOUTHEAST EUROPE, WESTERN ASIA AND NORTH AFRICA BETWEEN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EARLY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09:19:07Z</dcterms:created>
  <dc:creator>Jennifer Budzinski</dc:creator>
  <dc:description/>
  <dc:language>en-US</dc:language>
  <cp:lastModifiedBy>Erich Friedman</cp:lastModifiedBy>
  <dcterms:modified xsi:type="dcterms:W3CDTF">2020-08-30T09:18:49Z</dcterms:modified>
  <cp:revision>460</cp:revision>
  <dc:subject/>
  <dc:title>Slide 1</dc:title>
</cp:coreProperties>
</file>