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245A-25EF-49A4-8FED-63DC8D4FB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D237-B665-484F-8B60-CFDD3E043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DC30-449B-4F2B-BB9F-B7EC2B2E4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081A-0EAB-43D3-BD65-03601E3D3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3EC9-5A88-4374-9A57-4159679E8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82E0-0BD5-40CF-8936-CB041B752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CF4C-C90C-4DB5-96BB-ADF6266B6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4B15-AEB3-4FFA-8A72-903E106CF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72BB-5B19-4535-BF8F-0B4209C65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31A6-AC00-4203-8B3A-B068A41F1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543C-5678-4914-AA08-28D3B4AE0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3A69-2D33-463C-9AB4-AF70E3C08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0CF8-7AD7-48AD-AA40-F680497F4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7D7C-9D03-4844-AA9B-56A8CDE27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9900-9779-4B8F-9B7F-707BA6CE4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A987-79E6-456E-83A9-18B502EC0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FEA8-CF5C-4765-AFA2-AD061865F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9E2F-276B-42E0-847A-A2412D770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1077-C679-4A55-9137-9EC3DF56F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57CD-2978-4BEF-B898-B37846A61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9982-C23E-4D8C-8D80-31A05E14A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419D-F998-4133-BBA9-19A35BA70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797F-84F4-43AB-9478-F5A62D73A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ERMAN WORD FOR "TW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INXS'S BEST-SELLING ALBUM, CONTAINING THE HIT SONGS "DEVIL INSIDE", "NEW SENSATION", AND "NEED YOU TO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BATSMAN IN CRICKET CALL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SHORTCUTS  CONTROL+X ON A PC OR COMMAND+X ON A MAC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RY O'HARA'S NOVEL "MY FRIEND FLICKA", WHAT KIND OF ANIMAL IS FLICK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ABOUT THE DRUG TRADE STARRED JOHNNY DEPP AND PENÉLOPE CRU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G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PROTAGONISTS OF WILLIAM GOLDING'S "LORD OF THE FLIES" WERE RALPH, JACK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URALLY OCCURRING SUBSTANCE HAS A MOHS HARDNESS OF 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INXS'S BEST-SELLING ALBUM, CONTAINING THE HIT SONGS "DEVIL INSIDE", "NEW SENSATION", AND "NEED YOU TO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588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ICH U.S. COIN WAS WASHINGTON CROSSING THE DELAWARE DEPI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W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ERMAN WORD FOR "TW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BAC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BATSMAN IN CRICKET CALL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SHORTCUTS  CONTROL+X ON A PC OR COMMAND+X ON A MAC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RY O'HARA'S NOVEL "MY FRIEND FLICKA", WHAT KIND OF ANIMAL IS FLICK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ABOUT THE DRUG TRADE STARRED JOHNNY DEPP AND PENÉLOPE CRU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PROTAGONISTS OF WILLIAM GOLDING'S "LORD OF THE FLIES" WERE RALPH, JACK,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URALLY OCCURRING SUBSTANCE HAS A MOHS HARDNESS OF 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ICH U.S. COIN WAS WASHINGTON CROSSING THE DELAWARE DEPIC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0T12:49:33Z</dcterms:created>
  <dc:creator>Jennifer Budzinski</dc:creator>
  <dc:description/>
  <dc:language>en-US</dc:language>
  <cp:lastModifiedBy>Erich Friedman</cp:lastModifiedBy>
  <dcterms:modified xsi:type="dcterms:W3CDTF">2020-08-30T09:18:20Z</dcterms:modified>
  <cp:revision>459</cp:revision>
  <dc:subject/>
  <dc:title>Slide 1</dc:title>
</cp:coreProperties>
</file>