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B8E-5295-491D-9D7B-0F18CAD33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DC1-5DB3-4CDD-9D2F-587AA198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4D4E-298C-4F57-AB7C-BCDBA382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F4F1-D5CC-417A-9822-3FF26D36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C32E-3938-4B76-A54A-03E8D607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89E1-DB27-405F-B8AB-FCB2E515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49A-DE88-4333-BBB4-54E15091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C54-51CF-4EFE-A24D-29C15FA0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EE81-9D49-4594-A24A-3611B354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A15-79C2-4783-B58D-608B74EC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84DC-D1FD-4102-89F5-B62779F7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2E36-60B1-44A2-872A-9BFF03D93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872C-B51F-420C-A547-ADA4D0BC4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DFC-18B6-4672-B070-95773EF43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B8ED-9764-49F0-A8DD-0249DDC6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DCF9-1D30-4178-B6DA-4C30E56A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F82A-9596-4600-9BC3-EFF76D478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F558-98FE-4264-9BC3-02CF8324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A009-A203-4C2F-8831-DE8EACC0D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762-47A6-408F-8948-7C051E0C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7E92-AEB4-489A-9F7F-A041A99F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A52D-A863-421C-B1D1-8BFE823D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97E1-80F6-4939-A6B7-068FA7EF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TW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INXS'S BEST-SELLING ALBUM, CONTAINING THE HIT SONGS "DEVIL INSIDE", "NEW SENSATION", AND "NEED YOU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BATSMAN IN CRICKET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 CONTROL+X ON A PC OR COMMAND+X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Y O'HARA'S NOVEL "MY FRIEND FLICKA", WHAT KIND OF ANIMAL IS FLIC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THE DRUG TRADE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PROTAGONISTS OF WILLIAM GOLDING'S "LORD OF THE FLIES" WERE RALPH, JACK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LY OCCURRING SUBSTANCE HAS A MOHS HARDNESS OF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INXS'S BEST-SELLING ALBUM, CONTAINING THE HIT SONGS "DEVIL INSIDE", "NEW SENSATION", AND "NEED YOU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588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U.S. COIN WAS WASHINGTON CROSSING THE DELAWARE DEPI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W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TW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BATSMAN IN CRICKET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 CONTROL+X ON A PC OR COMMAND+X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Y O'HARA'S NOVEL "MY FRIEND FLICKA", WHAT KIND OF ANIMAL IS FLIC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THE DRUG TRADE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PROTAGONISTS OF WILLIAM GOLDING'S "LORD OF THE FLIES" WERE RALPH, JACK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LY OCCURRING SUBSTANCE HAS A MOHS HARDNESS OF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U.S. COIN WAS WASHINGTON CROSSING THE DELAWARE DEPI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2:49:33Z</dcterms:created>
  <dc:creator>Jennifer Budzinski</dc:creator>
  <dc:description/>
  <dc:language>en-US</dc:language>
  <cp:lastModifiedBy>Erich Friedman</cp:lastModifiedBy>
  <dcterms:modified xsi:type="dcterms:W3CDTF">2020-08-30T09:18:20Z</dcterms:modified>
  <cp:revision>459</cp:revision>
  <dc:subject/>
  <dc:title>Slide 1</dc:title>
</cp:coreProperties>
</file>