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4484-7296-4EE3-BCB5-9F5619DEA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CDD8-C40A-4A14-9DB6-68DC499D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D53-A33B-43DF-90BD-D482F4F3E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8A65F-CCF4-4D7F-B686-ACCA5CD2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0F44-3B88-42F0-B789-585EE7E44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8F87-9C9D-46B9-8E8E-3326396E8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B92A-7D12-4E15-A35D-4D6FBF5F0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6AF1-8AA8-41B9-A2BF-5285426C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6E82-5A46-4AD6-B9C9-383EDA82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E3CC-41FD-428D-9074-C6F6733A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8250-39FE-4F6D-A80D-CF435C95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1847-80C0-42CB-A8E6-1C5066002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205E-EAF6-484C-8311-BD24CAD46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5CCF-9CDD-4DF3-B075-E1C64D41C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4299-3D3C-4FA3-B7BF-29F05AACB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F62C-8DF8-413F-B674-464BA100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4D04-4E86-487E-AA92-1EB691352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E0CB-D03F-4BDB-9BCD-8B756147B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5DD0-2C64-4BB8-A370-5FEDF638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B569-6B0F-4C3F-9E5E-669B8F19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CD85-171F-4F45-913B-DC7A33E2F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E505-AA37-4D1D-9FA3-F4AD4B566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258B-524E-457A-B48F-0A3A587C9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TW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INXS'S BEST-SELLING ALBUM, CONTAINING THE HIT SONGS "DEVIL INSIDE", "NEW SENSATION", AND "NEED YOU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BATSMAN IN CRICKET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 CONTROL+X ON A PC OR COMMAND+X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Y O'HARA'S NOVEL "MY FRIEND FLICKA", WHAT KIND OF ANIMAL IS FLIC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THE DRUG TRADE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PROTAGONISTS OF WILLIAM GOLDING'S "LORD OF THE FLIES" WERE RALPH, JACK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LY OCCURRING SUBSTANCE HAS A MOHS HARDNESS OF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INXS'S BEST-SELLING ALBUM, CONTAINING THE HIT SONGS "DEVIL INSIDE", "NEW SENSATION", AND "NEED YOU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588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U.S. COIN WAS WASHINGTON CROSSING THE DELAWARE DEPI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W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TW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BATSMAN IN CRICKET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 CONTROL+X ON A PC OR COMMAND+X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Y O'HARA'S NOVEL "MY FRIEND FLICKA", WHAT KIND OF ANIMAL IS FLIC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THE DRUG TRADE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PROTAGONISTS OF WILLIAM GOLDING'S "LORD OF THE FLIES" WERE RALPH, JACK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LY OCCURRING SUBSTANCE HAS A MOHS HARDNESS OF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U.S. COIN WAS WASHINGTON CROSSING THE DELAWARE DEPI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2:49:33Z</dcterms:created>
  <dc:creator>Jennifer Budzinski</dc:creator>
  <dc:description/>
  <dc:language>en-US</dc:language>
  <cp:lastModifiedBy>Erich Friedman</cp:lastModifiedBy>
  <dcterms:modified xsi:type="dcterms:W3CDTF">2020-08-30T09:18:20Z</dcterms:modified>
  <cp:revision>459</cp:revision>
  <dc:subject/>
  <dc:title>Slide 1</dc:title>
</cp:coreProperties>
</file>