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9475-FE75-404F-812A-16CBFB510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BFF-DFC8-4F14-81F1-12DDE549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DD2D-8E06-49EE-A81C-3176C154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8A5-F9DD-463D-A983-51F91F08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B6D-AA3A-4C9C-81FC-B8538045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E26-F66D-45EC-B746-59032F69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8C2-94B3-4BCF-BB99-FD7681EA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DF2-1EEF-4AD2-B1D4-D7C15BED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5A5-4DEE-4A23-BE32-D576E3306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75D-7D36-442C-ACDC-8A5A56D0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274-1CDE-4CE3-B8E7-30A154F7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32CC-EC69-4E65-BA71-DE51E0EE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A52-3F05-4BB0-B37D-E2E92319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20BA-E2B6-4DA5-9241-D58309E2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325-B03A-4736-86DA-2A1DD03D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2CF-2496-478F-ADD4-BF633A72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D11-E1B2-45E5-BCA0-58C07F5F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9FC4-9DF7-4FAC-9434-39E1D0FD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232-4775-4D34-A656-EBE69430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758A-8883-4045-8024-22D52FFC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D4F-8ABC-42F3-A6CE-8011F621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9AE4-7920-45EB-9365-5EB90989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1EF8-1D3C-42D9-B234-533A1AFB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'REILLY  AUTOMO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Y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47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267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0:24:16Z</dcterms:created>
  <dc:creator>Jennifer Budzinski</dc:creator>
  <dc:description/>
  <dc:language>en-US</dc:language>
  <cp:lastModifiedBy>Erich Friedman</cp:lastModifiedBy>
  <dcterms:modified xsi:type="dcterms:W3CDTF">2020-08-30T09:19:22Z</dcterms:modified>
  <cp:revision>464</cp:revision>
  <dc:subject/>
  <dc:title>Slide 1</dc:title>
</cp:coreProperties>
</file>