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E86E-8EA0-408E-8198-97027F7C4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A5BF-C129-4861-9ECB-1A623B7C1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EA7B-2B60-41E0-B763-56D5CF83B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1AB6-24E5-48E8-8FEC-C4C6F7BE3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E61D-6FB2-47BB-9447-A9A8B4540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5901-388C-4739-863D-A2D90640F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DD46-4B97-4947-8B39-AE006D441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DD55-AEA4-4F26-831D-B417C8D7B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E9B9-58CC-462B-89B1-728078E28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C124-8955-4F19-A32E-BC2FD3C8A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B265-83EB-4943-B28A-FECCD61FB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A468-9D62-485D-9084-4B5C7EDEB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041F-4735-4F69-AB37-5D60AC464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DB1E-6537-4F8C-864F-2CAD1A94E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3949-B21D-441C-8EA9-3CF2512AC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3265-8E00-4F7F-A6C7-23777244A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7FFB-CF44-4F53-9965-45495B39A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9B06-3AA8-43AB-BCFD-8D87F3E3D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DD01-5A68-416B-BB9C-B9A463824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8894-D18A-4773-B455-67018FD58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1A61-0FF7-4C9E-91C5-8C9F9A905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211D-DF46-437D-809A-ADC645999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A21F-2329-415A-A344-FB8B59FD9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ABBREVIATION FOR THE DAY KNOWN IN MANY COUNTRIES AS "OLD YEAR'S DAY" OR "SAINT SYLVESTER'S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LLARY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U.S. SECRETARY OF STATE 2009-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LL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WASHINGTON STATE UNIVERSITY LOCATED, ONLY 8 MILES FROM MOSCOW, IDAHO, HOME TO THE UNIVERSITY OF IDA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'REILLY  AUTOMO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LARGEST AUTO PARTS RETAILER IN THE U.S., AFTER AUTOZONE AND ADVANCE AUTO P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EY  JOEL  O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STARRED IN "PAY IT FORWARD", "A.I. ARTIFICIAL INTELLIGENCE", AND "THE SIXTH SEN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THUR  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LLROOM DANCER FOUNDED THE MOST FAMOUS DANCE STUDIO CH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DLEY  COO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ILVER LININGS PLAYBOOK" AND "AMERICAN SNIP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ELL  3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STOCK MARKET INDEX CONTAINS THOUSANDS OF THE LARGEST COMPANIE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U.S. SECRETARY OF STATE 2009-20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RLY  G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477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ORMAL NAME FOR THE ENTRANCE TO HEAVEN COMES FROM REVELATION 21:2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ABBREVIATION FOR THE DAY KNOWN IN MANY COUNTRIES AS "OLD YEAR'S DAY" OR "SAINT SYLVESTER'S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1600" y="42670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PEOPLE  NAMED 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WASHINGTON STATE UNIVERSITY LOCATED, ONLY 8 MILES FROM MOSCOW, IDAHO, HOME TO THE UNIVERSITY OF IDAHO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LARGEST AUTO PARTS RETAILER IN THE U.S., AFTER AUTOZONE AND ADVANCE AUTO P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STARRED IN "PAY IT FORWARD", "A.I. ARTIFICIAL INTELLIGENCE", AND "THE SIXTH SEN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LLROOM DANCER FOUNDED THE MOST FAMOUS DANCE STUDIO CH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ILVER LININGS PLAYBOOK" AND "AMERICAN SNIP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STOCK MARKET INDEX CONTAINS THOUSANDS OF THE LARGEST COMPANIES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ORMAL NAME FOR THE ENTRANCE TO HEAVEN COMES FROM REVELATION 21:2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1T10:24:16Z</dcterms:created>
  <dc:creator>Jennifer Budzinski</dc:creator>
  <dc:description/>
  <dc:language>en-US</dc:language>
  <cp:lastModifiedBy>Erich Friedman</cp:lastModifiedBy>
  <dcterms:modified xsi:type="dcterms:W3CDTF">2020-08-30T09:19:22Z</dcterms:modified>
  <cp:revision>464</cp:revision>
  <dc:subject/>
  <dc:title>Slide 1</dc:title>
</cp:coreProperties>
</file>