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7AF4-C9BA-4F7F-AF21-7F523D542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0150-76DA-4696-99E1-B2123495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5586-62DF-4A13-A9C3-EFC6C61CF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C687-7B8D-45FF-9FE7-EFCBD177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4049-FBEC-44D1-8FA1-DAF157861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D7A-5949-4A0B-B88A-D3C42E947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7361-0DE9-4E58-A32B-1A8723B7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4E6-1A6A-4062-9AD1-C4ABD0099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15DC-BFE6-4DCA-9868-F9AE8FB32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C0A6-58BE-4F33-AF53-239431581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9505-04CF-4496-B066-FC34C1197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7404-F881-4CA5-AAAF-CB8FED1C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75C-7CD0-45BF-A59F-5184A219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61FE-9828-41CC-9496-115027E0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26D4-C65F-4C7B-91E2-C0FC56E13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ECE6-F793-491F-8344-F17A67FF9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FF96-4968-42AC-8287-EA899B3F3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1541-8632-47FA-A4D5-7C133AB56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8BF3-9640-400F-A1D9-6D7A0DFFB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21A4-B3C0-40C6-B12E-16F2F44C9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D105-D47C-4025-A7EC-3E786BBF3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8EF9-2FD3-445B-A86D-DABF9C62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E90F-3885-40CB-9546-998EC4F1B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BBREVIATION FOR THE DAY KNOWN IN MANY COUNTRIES AS "OLD YEAR'S DAY" OR "SAINT SYLVESTER'S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SECRETARY OF STATE 2009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WASHINGTON STATE UNIVERSITY LOCATED, ONLY 8 MILES FROM MOSCOW, IDAHO, HOME TO THE UNIVERSITY OF IDAH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'REILLY  AUTOMO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LARGEST AUTO PARTS RETAILER IN THE U.S., AFTER AUTOZONE AND ADVANCE AUTO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A.I. ARTIFICIAL INTELLIGENCE", AND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ROOM DANCER FOUNDED THE MOST FAMOUS DANCE STUDIO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LE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LVER LININGS PLAYBOOK" AND "AMERICAN SNI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3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TOCK MARKET INDEX CONTAINS THOUSANDS OF THE LARGEST COMPANI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SECRETARY OF STATE 2009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Y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47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L NAME FOR THE ENTRANCE TO HEAVEN COMES FROM REVELATION 21: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BBREVIATION FOR THE DAY KNOWN IN MANY COUNTRIES AS "OLD YEAR'S DAY" OR "SAINT SYLVESTER'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267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WASHINGTON STATE UNIVERSITY LOCATED, ONLY 8 MILES FROM MOSCOW, IDAHO, HOME TO THE UNIVERSITY OF IDAH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LARGEST AUTO PARTS RETAILER IN THE U.S., AFTER AUTOZONE AND ADVANCE AUTO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A.I. ARTIFICIAL INTELLIGENCE", AND "THE SIXTH S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ROOM DANCER FOUNDED THE MOST FAMOUS DANCE STUDIO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LVER LININGS PLAYBOOK" AND "AMERICAN SNIP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TOCK MARKET INDEX CONTAINS THOUSANDS OF THE LARGEST COMPANI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ORMAL NAME FOR THE ENTRANCE TO HEAVEN COMES FROM REVELATION 21: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0:24:16Z</dcterms:created>
  <dc:creator>Jennifer Budzinski</dc:creator>
  <dc:description/>
  <dc:language>en-US</dc:language>
  <cp:lastModifiedBy>Erich Friedman</cp:lastModifiedBy>
  <dcterms:modified xsi:type="dcterms:W3CDTF">2020-08-30T09:19:22Z</dcterms:modified>
  <cp:revision>464</cp:revision>
  <dc:subject/>
  <dc:title>Slide 1</dc:title>
</cp:coreProperties>
</file>