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C0B5-D1AD-4131-9182-313394DB0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84B5-F7D6-4B84-81FE-0580DA9B4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5EE-5626-4AD1-895E-2173B4E0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2A2C-5192-4F7B-90F3-9342B7055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8DFA-70F7-4B3F-AB61-C1EE13835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E2E-6722-4F27-974A-64EC9C9D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F7AA-88FE-4BC9-A0EC-23458B72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B412-23D7-4880-8FB3-82B2972C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89E7-C2C1-4C83-8068-71A06EDA3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2286-6BD3-44CC-B584-9BD77969B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4286-4B22-47D2-B1F9-94FC7FF4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953F-46CD-46A2-B6BC-5B1721D06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4082-EC68-45D2-A695-5AF2C699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E75-4ECC-48DD-AB62-F12B6D69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2E02-29C4-4569-9D35-D4E2F806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E0AD-C5ED-4261-9BEC-4AA4C135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4D9D-4491-488A-9315-D2D5F5C5B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B1EA-C7AA-4672-ACF0-B7245CD8F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8067-34F2-4016-BBED-FCE8B075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0840-7613-4D5A-84AB-2CAD968A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AC10-25B2-46D8-A67D-E56084E4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79CE-73C2-412D-B048-7F403499E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8FD0-3E02-4619-A31D-26BA63EFB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MERICAN POET WHO WROTE "FIRE AND 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(BLIT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EAD POLITICAL CORRESPONDENT OF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ORIOLANUS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PLAYED BY DONALD SUTHERLAND IN 4 "HUNGER GA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SO WHAT", "RAISE YOUR GLASS", AND "JUST GIVE ME A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THE GAS COMPANY B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24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GROWN IN EVERY U.S. STATE IS THE FIRST TO RIPEN EACH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PROTAGONIST OF JACK LONDON'S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GRAIN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EAD POLITICAL CORRESPONDENT OF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0760" y="762120"/>
            <a:ext cx="7239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#1 ALBUM CONTAINED THE HIT SONGS "OLD MAN" AND "HEART OF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)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MERICAN POET WHO WROTE "FIRE AND 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14240" y="4876920"/>
            <a:ext cx="771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FULL  MO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PLAYED BY DONALD SUTHERLAND IN 4 "HUNGER GA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SO WHAT", "RAISE YOUR GLASS", AND "JUST GIVE ME A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THE GAS COMPANY B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GROWN IN EVERY U.S. STATE IS THE FIRST TO RIPEN EACH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PROTAGONIST OF JACK LONDON'S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GRAIN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#1 ALBUM CONTAINED THE HIT SONGS "OLD MAN" AND "HEART OF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2:29:53Z</dcterms:created>
  <dc:creator>Jennifer Budzinski</dc:creator>
  <dc:description/>
  <dc:language>en-US</dc:language>
  <cp:lastModifiedBy>Erich Friedman</cp:lastModifiedBy>
  <dcterms:modified xsi:type="dcterms:W3CDTF">2020-08-30T09:20:04Z</dcterms:modified>
  <cp:revision>425</cp:revision>
  <dc:subject/>
  <dc:title>Slide 1</dc:title>
</cp:coreProperties>
</file>