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5E48-02DF-4D48-99F5-C77F58729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B9B0-33CC-4455-B4F1-F33445CD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48A6-157F-40BD-AE79-9FA093A4D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0752-B31B-4369-810C-FA7C33C7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B5CB-3A46-47FE-B2EA-1575EE81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EC5E-F7FE-470B-876E-035A7FCF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953C-8F1A-4B40-851B-8A54D62D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73EC-BAB1-4B80-95AB-F89742596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A22E-B16C-4AB9-A324-B51258F09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9782-FF80-4D26-B241-7A8CCA481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B1D2-1E4D-40E2-A352-EF20FE200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87BE-4058-4B65-9FAB-21D99AD63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4AE1-A622-45F8-B3B0-84BD463B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9F8A-95FD-49E8-A089-1826205F9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CFB2-DE96-4878-9142-FCFEB3814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9BBB-8324-41FA-8E4C-57B525291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F576-FFD1-43F1-A8EF-2CB369BC3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61A2-1BBD-4BE0-8566-A6B8AAE0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27AA-A8D0-4042-92CF-62DC9C92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B2D9-2E2E-4A01-B75A-2D7F33E2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DCCF-DFFE-437E-B8C8-4B06E84FE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6543-B084-4982-B846-D96B2E8B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35D2-F136-450C-B75C-4B5E3CBA8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MERICAN POET WHO WROTE "FIRE AND 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  (BLITZ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EAD POLITICAL CORRESPONDENT OF C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ORIOLANUS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PLAYED BY DONALD SUTHERLAND IN 4 "HUNGER GAM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SO WHAT", "RAISE YOUR GLASS", AND "JUST GIVE ME A RE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THE GAS COMPANY B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524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GROWN IN EVERY U.S. STATE IS THE FIRST TO RIPEN EACH 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PROTAGONIST OF JACK LONDON'S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GRAIN OF WISCON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EAD POLITICAL CORRESPONDENT OF C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0760" y="762120"/>
            <a:ext cx="7239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#1 ALBUM CONTAINED THE HIT SONGS "OLD MAN" AND "HEART OF G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)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MERICAN POET WHO WROTE "FIRE AND 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14240" y="4876920"/>
            <a:ext cx="771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FULL  MO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PLAYED BY DONALD SUTHERLAND IN 4 "HUNGER GAM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SO WHAT", "RAISE YOUR GLASS", AND "JUST GIVE ME A RE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THE GAS COMPANY B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GROWN IN EVERY U.S. STATE IS THE FIRST TO RIPEN EACH SP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PROTAGONIST OF JACK LONDON'S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GRAIN OF WISCON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#1 ALBUM CONTAINED THE HIT SONGS "OLD MAN" AND "HEART OF G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2:29:53Z</dcterms:created>
  <dc:creator>Jennifer Budzinski</dc:creator>
  <dc:description/>
  <dc:language>en-US</dc:language>
  <cp:lastModifiedBy>Erich Friedman</cp:lastModifiedBy>
  <dcterms:modified xsi:type="dcterms:W3CDTF">2020-08-30T09:20:04Z</dcterms:modified>
  <cp:revision>425</cp:revision>
  <dc:subject/>
  <dc:title>Slide 1</dc:title>
</cp:coreProperties>
</file>