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B136-1E8E-4334-A68F-6BD90DF0F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68FB-A092-4F98-8991-F835CEED1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99BB-76F6-46A0-9ABF-6919E5809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156F-EB46-4BA5-8461-BF15DE201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E51B-D82C-4EDF-81C0-96FCE4BD9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DD7D-B6DF-4266-8593-63A6245A4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1C5F-A6E4-4011-BB76-6CBC1CE15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D9CC-3BD7-4CE4-8F49-B2B1F2B70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E4EB-E8C0-4AE3-8E39-FC4453D2E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AEE1-FFBB-47F9-94EA-72D3EAE8D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EDA7-61BC-48D5-AF69-FB140D492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28EA-7072-4BC0-9FC7-A96CD0CD1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31EC-6B54-43A8-921C-5B232DEA7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2A77-98F0-45F3-B75D-B16EEE9E9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7D16-7F9B-435D-8CD9-FB8A68839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5F69-B704-4D40-8E7E-23B275E5E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B8AC-8186-4FAE-83A9-EEB0B5790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7F78-2DDC-4E35-8C68-8AB5E1997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60A7-F766-478C-B385-613781BB1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37EF-AB90-4509-ABE5-173DF31A6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DB9D-493A-4F32-A819-171F511D6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532E-7BCE-40CB-A7F3-067590663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4210-4C57-4B13-96BF-01E726628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MERICAN POET WHO WROTE "FIRE AND 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LF  (BLITZ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LEAD POLITICAL CORRESPONDENT OF CN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CORIOLANUS)  S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RESIDENT PLAYED BY DONALD SUTHERLAND IN 4 "HUNGER GAME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04840" y="762120"/>
            <a:ext cx="6934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HITS "SO WHAT", "RAISE YOUR GLASS", AND "JUST GIVE ME A REAS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GO FOR THE GAS COMPANY B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WB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524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GROWN IN EVERY U.S. STATE IS THE FIRST TO RIPEN EACH SPR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DOG PROTAGONIST OF JACK LONDON'S "THE CALL OF THE W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GRAIN OF WISCONS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LEAD POLITICAL CORRESPONDENT OF CN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V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0760" y="762120"/>
            <a:ext cx="7239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IL YOUNG #1 ALBUM CONTAINED THE HIT SONGS "OLD MAN" AND "HEART OF GO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ROBERT)  FR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MERICAN POET WHO WROTE "FIRE AND 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14240" y="4876920"/>
            <a:ext cx="7715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KNAMES  OF  FULL  MO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RESIDENT PLAYED BY DONALD SUTHERLAND IN 4 "HUNGER GAMES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HITS "SO WHAT", "RAISE YOUR GLASS", AND "JUST GIVE ME A REAS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GO FOR THE GAS COMPANY B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GROWN IN EVERY U.S. STATE IS THE FIRST TO RIPEN EACH SPR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DOG PROTAGONIST OF JACK LONDON'S "THE CALL OF THE WI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GRAIN OF WISCONS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IL YOUNG #1 ALBUM CONTAINED THE HIT SONGS "OLD MAN" AND "HEART OF GO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6T12:29:53Z</dcterms:created>
  <dc:creator>Jennifer Budzinski</dc:creator>
  <dc:description/>
  <dc:language>en-US</dc:language>
  <cp:lastModifiedBy>Erich Friedman</cp:lastModifiedBy>
  <dcterms:modified xsi:type="dcterms:W3CDTF">2020-08-30T09:20:04Z</dcterms:modified>
  <cp:revision>425</cp:revision>
  <dc:subject/>
  <dc:title>Slide 1</dc:title>
</cp:coreProperties>
</file>