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E111-5302-474B-A48E-13A398872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B9C5-E07D-4350-8329-BABA78BEE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C45D-33CF-4BD5-B0A2-C8E74E44A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1BC7-442A-4CE1-9EEB-4477F2CF1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C700-C076-40CF-8EE5-7D756F413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C598-6CB4-47D4-8248-97E1AD276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7DCD-087B-466C-B819-664AD864C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6B2E-5A31-41ED-A947-3FEEEE3EF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B157-1326-4A48-A16F-5D2D247B2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B8F6-F0D7-4169-9F84-6C0F24AF6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BD0B-835A-4040-92E9-D4BDD86FB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6EC8-2B0E-470A-8A02-DC2A81E48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80A2-59CE-47EB-BE7F-C7EFD5857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B7BD-5303-4A94-B269-D107E269D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4202-EB63-41F2-9E4C-B15572271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6058-5E6A-4D0A-940A-BD7D734E6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70AC-AC42-4940-8DD3-5BD5E73BA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9B01-318D-40BF-8651-7C97EB259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28B7-0C26-4EE1-AFFD-728808A71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680C-C87C-44FB-BCDE-915C06A92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C7D6-116A-48F1-866B-7D4CB93A3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96DD-9725-46F7-9154-590509FAC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AC8A-E85D-472F-95D4-9796DB858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CMAN GHOSTS ARE NAMED INKY, BLINKY, CLYDE,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MOST VALUABLE METAL, AFTER RHODIUM AND PLATIN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600200" y="762120"/>
            <a:ext cx="5943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RONT OF A SHIP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62120"/>
            <a:ext cx="6934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CARD IS SOMETIMES CALLED A 3×5 CARD BECAUSE THAT IS A COMMON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ICHAEL JACKSON'S SECOND BEST-SELLING ALBUM, AFTER "THRILL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TONIC SOLID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INTERJECTION HAS BEEN USED FOR OVER 100 YEARS TO WARN PEOPLE IN THE PATH OF A 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ITISH NOBILITY, WHAT IS THE TITLE OF THE WIFE OF A L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MOST VALUABLE METAL, AFTER RHODIUM AND PLATIN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OY ROGERS' HO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CMAN GHOSTS ARE NAMED INKY, BLINKY, CLYDE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343400"/>
            <a:ext cx="6096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FING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RONT OF A SHIP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CARD IS SOMETIMES CALLED A 3×5 CARD BECAUSE THAT IS A COMMON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ICHAEL JACKSON'S SECOND BEST-SELLING ALBUM, AFTER "THRILL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TONIC SOLIDS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INTERJECTION HAS BEEN USED FOR OVER 100 YEARS TO WARN PEOPLE IN THE PATH OF A 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47600" y="762120"/>
            <a:ext cx="7048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ITISH NOBILITY, WHAT IS THE TITLE OF THE WIFE OF A L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OY ROGERS' HO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6T12:02:21Z</dcterms:created>
  <dc:creator>Jennifer Budzinski</dc:creator>
  <dc:description/>
  <dc:language>en-US</dc:language>
  <cp:lastModifiedBy>Erich Friedman</cp:lastModifiedBy>
  <dcterms:modified xsi:type="dcterms:W3CDTF">2020-08-30T09:28:54Z</dcterms:modified>
  <cp:revision>424</cp:revision>
  <dc:subject/>
  <dc:title>Slide 1</dc:title>
</cp:coreProperties>
</file>