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AFA5-615C-4484-A0F8-73C1CEE1B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EDCE-C5C2-4159-B435-1F591D5F5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E7D2-9789-4CEF-BF1C-26D92AF17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1239-3EA9-4B7F-88F0-AB3C42BEC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9521-7223-4586-A69B-F8EF389E6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4739-21EF-46B9-8B9E-1EC2EC98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6C77-E7E9-4F5D-B56F-30CAAF4ED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9CAA-6DC0-49A5-A988-E971C5403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F6CE-D8BE-4942-A758-C3B94DE8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73EB-2FEF-4C8C-904E-8AAB06C0D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81A5-1185-4B9A-9EFD-0035B2004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88CF-68FE-4FE0-893F-EFC91E77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F0E7-998F-448A-B108-5486F96CD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24DF-0F3C-4545-82FE-090FAAC50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A75C-5A35-40BF-A9F4-746A58F45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A034-2359-44A2-96CD-C1342F5A6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5EA3-816A-4F0E-8B2C-408C21AF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FC88-3DA4-41ED-AE22-603867BD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46A5-F39F-4D0B-81C5-36C9C3FC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D96D-79AC-493B-B591-8D120FFD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7B85-A0D7-4F9E-A47A-758626A56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66F5-1034-4E4F-843E-4F9F5B640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3C4C-79AE-4B06-8C79-B5B82EE7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CMAN GHOSTS ARE NAMED INKY, BLINKY, CLYDE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VALUABLE METAL, AFTER RHODIUM AND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00200" y="762120"/>
            <a:ext cx="5943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RONT OF A SHIP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ARD IS SOMETIMES CALLED A 3×5 CARD BECAUSE THAT IS A COMMO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CHAEL JACKSON'S SECOND BEST-SELLING ALBUM, AFTER "THRIL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TERJECTION HAS BEEN USED FOR OVER 100 YEARS TO WARN PEOPLE IN THE PATH OF A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NOBILITY, WHAT IS THE TITLE OF THE WIFE OF A L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 MOST VALUABLE METAL, AFTER RHODIUM AND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CMAN GHOSTS ARE NAMED INKY, BLINKY, CLYDE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FING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RONT OF A SHIP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ARD IS SOMETIMES CALLED A 3×5 CARD BECAUSE THAT IS A COMMO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CHAEL JACKSON'S SECOND BEST-SELLING ALBUM, AFTER "THRIL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TERJECTION HAS BEEN USED FOR OVER 100 YEARS TO WARN PEOPLE IN THE PATH OF A 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NOBILITY, WHAT IS THE TITLE OF THE WIFE OF A L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2:02:21Z</dcterms:created>
  <dc:creator>Jennifer Budzinski</dc:creator>
  <dc:description/>
  <dc:language>en-US</dc:language>
  <cp:lastModifiedBy>Erich Friedman</cp:lastModifiedBy>
  <dcterms:modified xsi:type="dcterms:W3CDTF">2020-08-30T09:28:54Z</dcterms:modified>
  <cp:revision>424</cp:revision>
  <dc:subject/>
  <dc:title>Slide 1</dc:title>
</cp:coreProperties>
</file>