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80B5-5A99-407F-87FF-C2921940C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AC69-56B6-4584-BA5B-F2E6BF229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C665-F45B-4B54-8BB4-C2652CF23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63CF-B1D6-448C-8068-918C78E7D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EEAF-B0DC-4623-A449-F7145920A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2162-ADCE-4A89-A809-FAFF81D96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4E1A-2467-40D8-8BF2-5B83C2768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C1B9-E651-494E-A72F-9EEDF9BDD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3622-41A6-48B4-8880-3614957C8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34E4-5AD2-47EC-B556-2DD09768F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7597-031D-4036-AE5B-3521CCF1F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AD6A-9058-45CF-AB51-5F2C9A29C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212F-77B3-4BAF-AF54-BA67E2D3D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B990-2313-4B58-B4FF-92223F0D2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63A6-A063-4FA7-8306-C9452C9C7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D638-B7B0-4383-ACA6-8A4E5459E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7C4B-CC5D-4356-A87D-5FD027B95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44D2-9BF2-437A-9B17-1D5728FDC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2E75-B072-4B57-AB81-14BD65856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B5A0-891F-44B4-B2E4-B4598FEE3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2D6D-CBA9-4AC6-A9B3-39775B137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226F-33D5-4022-9873-01401315F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61E0-FE87-4B86-B97B-9A3BA0699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CMAN GHOSTS ARE NAMED INKY, BLINKY, CLYDE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OST VALUABLE METAL, AFTER RHODIUM AND PLATI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600200" y="762120"/>
            <a:ext cx="5943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RONT OF A SHIP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CARD IS SOMETIMES CALLED A 3×5 CARD BECAUSE THAT IS A COMMON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ICHAEL JACKSON'S SECOND BEST-SELLING ALBUM, AFTER "THRIL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TONIC SOLID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INTERJECTION HAS BEEN USED FOR OVER 100 YEARS TO WARN PEOPLE IN THE PATH OF A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ITISH NOBILITY, WHAT IS THE TITLE OF THE WIFE OF A L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OST VALUABLE METAL, AFTER RHODIUM AND PLATIN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OY ROGERS' 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CMAN GHOSTS ARE NAMED INKY, BLINKY, CLYDE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343400"/>
            <a:ext cx="6096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FING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RONT OF A SHIP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CARD IS SOMETIMES CALLED A 3×5 CARD BECAUSE THAT IS A COMMON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ICHAEL JACKSON'S SECOND BEST-SELLING ALBUM, AFTER "THRILL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TONIC SOLID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INTERJECTION HAS BEEN USED FOR OVER 100 YEARS TO WARN PEOPLE IN THE PATH OF A 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47600" y="762120"/>
            <a:ext cx="704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ITISH NOBILITY, WHAT IS THE TITLE OF THE WIFE OF A L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OY ROGERS' 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6T12:02:21Z</dcterms:created>
  <dc:creator>Jennifer Budzinski</dc:creator>
  <dc:description/>
  <dc:language>en-US</dc:language>
  <cp:lastModifiedBy>Erich Friedman</cp:lastModifiedBy>
  <dcterms:modified xsi:type="dcterms:W3CDTF">2020-08-30T09:28:54Z</dcterms:modified>
  <cp:revision>424</cp:revision>
  <dc:subject/>
  <dc:title>Slide 1</dc:title>
</cp:coreProperties>
</file>