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53671-BD89-4B77-89AC-33F1D37D4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EC47-5336-4C5F-9A13-0345B61F9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86DA8-F6CA-4C12-947D-EF0FC49D9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04E49-2A97-4558-8BA5-40824110A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737B-2C22-4BE4-8052-74A6682FF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2BCD-D002-44C0-A761-16271728D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77426-44C6-4426-B316-087CBC117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1717-7305-46DE-B310-04DEC4CC5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D87D7-E10B-4BCD-8245-29D38F98A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76A8-1E0C-4187-9BB9-6D60C62C0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D7E34-1B44-40DD-94C4-7082B8AA4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9E5D-D9C2-4F84-91AB-EDB35AE3B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514F7-6C17-4856-AB25-9A34DF0B7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06156-98BB-4F82-AD11-560915AA0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34BF-F503-4347-A35C-FDDE2075C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26B9-A55D-4EDE-ABB2-E2FB22FAB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36EB2-BA1D-4A7E-9AD1-A2C6877E6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D1B7-35A8-43C7-B22F-8B1795C929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413C-9E53-432C-9A49-3AF330BAF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177D-9A34-415C-96DA-36F034302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D870-92E9-442A-A875-2FD8836A9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FBE5-704B-4476-BDC6-55C2D3E52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BA019-CCB5-4BB4-8DA4-29999DA5C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95280" y="990360"/>
            <a:ext cx="6553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LLEGE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52600" y="762120"/>
            <a:ext cx="8038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VERSITY, NAMED FOR A LARGE BODY OF WATER, IS LOCATED 20 MILES WEST OF PORTLAND IN FOREST GROVE, OREG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CHOOL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BURN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LARGEST UNIVERSITY IN ALABAMA, AFTER THE UNIVERSITY OF ALABAM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600200" y="4876920"/>
            <a:ext cx="60958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EMSON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UNIVERSITY IN SOUTH CAROLINA, AFTER THE UNIVERSITY OF SOUTH CAROLIN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INCETON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04920" y="762120"/>
            <a:ext cx="853416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VY LEAGUE SCHOOL IS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LDEST U.S. COLLEGE, AND HAS THE LARGEST ENDOWMENT PER STU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XAS  SOUTHERN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LARGEST HISTORICALLY BLACK UNIVERSITY, AFTER NORTH CAROLINA  A&amp;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IVERSITY  OF  MISSOU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PUBLIC UNIVERSITY WEST OF THE MISSISSIPPI RIVER, ESTABLISHED IN 183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0" y="4876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SU  (LOUISIANA  STATE  UNIVERSIT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257480" y="762120"/>
            <a:ext cx="6629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UNIVERSITY LOCATED IN BATON ROU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IVERSITY  OF  MEMPH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57200" y="762120"/>
            <a:ext cx="8229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HOOL USED TO BE CALLED "WEST TENNESSEE STATE UNIVERSI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LARGEST UNIVERSITY IN ALABAMA, AFTER THE UNIVERSITY OF ALABAM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NNESSEE  STATE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RGEST 4-YEAR UNIVERSITY IN NASHVILLE, AFTER VANDERBIL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CIFIC  UNIVERS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571680" y="762120"/>
            <a:ext cx="8001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NIVERSITY, NAMED FOR A LARGE BODY OF WATER, IS LOCATED 20 MILES WEST OF PORTLAND IN FOREST GROVE, OREG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600200" y="4343400"/>
            <a:ext cx="5867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SPORTS  TEAMS  ARE  THE  TIG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SCHOOL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95360" y="7617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LARGEST UNIVERSITY IN SOUTH CAROLINA, AFTER THE UNIVERSITY OF SOUTH CAROLIN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69720" y="762120"/>
            <a:ext cx="84045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VY LEAGUE SCHOOL IS THE 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LDEST U.S. COLLEGE, AND HAS THE LARGEST ENDOWMENT PER STU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SECOND LARGEST HISTORICALLY BLACK UNIVERSITY, AFTER NORTH CAROLINA  A&amp;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PUBLIC UNIVERSITY WEST OF THE MISSISSIPPI RIVER, ESTABLISHED IN 183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219320" y="761760"/>
            <a:ext cx="6705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UNIVERSITY LOCATED IN BATON ROUG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HOOL USED TO BE CALLED "WEST TENNESSEE STATE UNIVERSI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RGEST 4-YEAR UNIVERSITY IN NASHVILLE, AFTER VANDERBIL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9T14:08:32Z</dcterms:created>
  <dc:creator>Jennifer Budzinski</dc:creator>
  <dc:description/>
  <dc:language>en-US</dc:language>
  <cp:lastModifiedBy>Erich Friedman</cp:lastModifiedBy>
  <dcterms:modified xsi:type="dcterms:W3CDTF">2020-08-30T09:29:36Z</dcterms:modified>
  <cp:revision>432</cp:revision>
  <dc:subject/>
  <dc:title>Slide 1</dc:title>
</cp:coreProperties>
</file>