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F72F-0CF9-4A60-AE65-7755727F3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8649-759D-48E9-A326-0FDF756D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A7B0-D308-4D3E-9216-758D77FFB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8893-6DA7-4284-9266-D7ABE2AA0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2E07-CDB1-4CB7-B2DE-CDE307275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F8CA-5C30-4AC3-BC3F-C483B19D5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A593-B962-4499-8F5F-130A57DE1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4419-A8E5-4E4D-81EA-F0429087A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4C56-387F-41F1-BE43-5EE694387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E57A-61B8-4D17-BF43-D293B0495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77B4-495D-4E3B-89E5-E06605778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79BC-CA6C-474B-9B2C-775F529D6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498E-AA3D-4329-82E8-8A4BB3EEA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B5B3-D4BE-40F6-863A-4784CB577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7A53-3640-4804-BF5E-44F4D809F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CF2D-35A0-4D1A-8CC1-C3EAB04C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8C03-6314-406A-ACC8-01A0D1285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E9A0-1BC2-4E0D-A57F-BA8B4D231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F323-803C-41F5-9A94-A2B5DC785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04F8-F785-4746-B257-D3ED3CF45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045A-3A1F-40CE-B838-8703D8385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24D5-E710-41F8-8E58-46834A7EF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BB24-747B-40D4-AC54-50EFEE700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LEGE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, NAMED FOR A LARGE BODY OF WATER, IS LOCATED 20 MILES WEST OF PORTLAND IN FOREST GROVE, OREG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CHOOL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BUR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UNIVERSITY IN ALABAMA, AFTER THE UNIVERSITY OF ALA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MSO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NIVERSITY IN SOUTH CAROLINA, AFTER THE UNIVERSITY OF SOUTH CAROL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TO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U.S. COLLEGE, AND HAS THE LARGEST ENDOWMENT PER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S  SOUTHER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HISTORICALLY BLACK UNIVERSITY, AFTER NORTH CAROLINA  A&amp;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ERSITY  OF  MISSOU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UBLIC UNIVERSITY WEST OF THE MISSISSIPPI RIVER, ESTABLISHED IN 183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0" y="4876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SU  (LOUISIANA  STATE  UNIVERS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NIVERSITY LOCATED IN BATON ROU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ERSITY  OF  MEMP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 USED TO BE CALLED "WEST TENNESSEE STATE UNIVERS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UNIVERSITY IN ALABAMA, AFTER THE UNIVERSITY OF ALAB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STAT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ST 4-YEAR UNIVERSITY IN NASHVILLE, AFTER VANDERBI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IFIC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, NAMED FOR A LARGE BODY OF WATER, IS LOCATED 20 MILES WEST OF PORTLAND IN FOREST GROVE, OREG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00200" y="434340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SPORTS  TEAMS  ARE  THE  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CHOOL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NIVERSITY IN SOUTH CAROLINA, AFTER THE UNIVERSITY OF SOUTH CAROL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9720" y="762120"/>
            <a:ext cx="8404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U.S. COLLEGE, AND HAS THE LARGEST ENDOWMENT PER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HISTORICALLY BLACK UNIVERSITY, AFTER NORTH CAROLINA  A&amp;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UBLIC UNIVERSITY WEST OF THE MISSISSIPPI RIVER, ESTABLISHED IN 183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NIVERSITY LOCATED IN BATON ROU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 USED TO BE CALLED "WEST TENNESSEE STATE UNIVERS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ST 4-YEAR UNIVERSITY IN NASHVILLE, AFTER VANDERBI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4:08:32Z</dcterms:created>
  <dc:creator>Jennifer Budzinski</dc:creator>
  <dc:description/>
  <dc:language>en-US</dc:language>
  <cp:lastModifiedBy>Erich Friedman</cp:lastModifiedBy>
  <dcterms:modified xsi:type="dcterms:W3CDTF">2020-08-30T09:29:36Z</dcterms:modified>
  <cp:revision>432</cp:revision>
  <dc:subject/>
  <dc:title>Slide 1</dc:title>
</cp:coreProperties>
</file>