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EC7D-3A35-4D90-B0D1-28750A62A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DAC0-815B-4392-BEE6-EEC9B80A9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6E7C-12E2-499D-BFE9-A67C14760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A9D6-4C79-4686-AEBB-92AE8E3B2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6C17-9251-434D-9BB9-FB245EC9E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ED87-D1DF-440D-904A-0230B67BE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356F-B4E2-428D-9E4D-CC049A31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7274-8477-4BCC-96A9-75C9EFC5E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28B2-0D34-41C8-AFDE-6EB6545F9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3C67-B805-4F19-A613-B88B6D5F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D1FA-C378-48EB-B456-853D6D73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6D6D-8E55-4C90-A66B-3253C4E57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B5CB-2A6C-405C-A771-6B2B5DF6A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4D89-83C0-46A7-8B33-DCCE8D80F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BFC4-74A0-4BE1-A444-BA493368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D2C8-D85B-412C-B8FC-69309500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5C4E-D5B3-4C51-8462-7D16F0F7C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06A0-0F8C-40E1-B694-2CBAD7FC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A8B7-6AF5-4B59-A2FA-3E4BB6085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8FF6-7418-4B80-81FA-D7E3C792F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B600-8503-449B-B463-AF308E168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DEF7-B898-4044-979F-E9DB8F9C9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887F-389E-4F73-9998-A8FCA32D9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LEGE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, NAMED FOR A LARGE BODY OF WATER, IS LOCATED 20 MILES WEST OF PORTLAND IN FOREST GROVE, OREG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CHOOL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BUR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NIVERSITY IN ALABAMA, AFTER THE UNIVERSITY OF ALA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MSO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NIVERSITY IN SOUTH CAROLINA, AFTER THE UNIVERSITY OF SOUTH CAROL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TO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U.S. COLLEGE, AND HAS THE LARGEST ENDOWMENT P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  SOUTHER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HISTORICALLY BLACK UNIVERSITY, AFTER NORTH CAROLINA  A&amp;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ERSITY  OF  MISSOU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UBLIC UNIVERSITY WEST OF THE MISSISSIPPI RIVER, ESTABLISHED IN 183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0" y="4876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SU  (LOUISIANA  STATE  UNIVERS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BATON ROU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ERSITY  OF  MEMP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USED TO BE CALLED "WEST TENNESSEE STATE UNIVERS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NIVERSITY IN ALABAMA, AFTER THE UNIVERSITY OF ALAB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STAT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ST 4-YEAR UNIVERSITY IN NASHVILLE, AFTER VANDERBI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IFIC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, NAMED FOR A LARGE BODY OF WATER, IS LOCATED 20 MILES WEST OF PORTLAND IN FOREST GROVE, OREG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434340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SPORTS  TEAMS  ARE  THE  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CHOOL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NIVERSITY IN SOUTH CAROLINA, AFTER THE UNIVERSITY OF SOUTH CAROL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9720" y="762120"/>
            <a:ext cx="8404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U.S. COLLEGE, AND HAS THE LARGEST ENDOWMENT P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HISTORICALLY BLACK UNIVERSITY, AFTER NORTH CAROLINA  A&amp;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UBLIC UNIVERSITY WEST OF THE MISSISSIPPI RIVER, ESTABLISHED IN 183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BATON ROU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USED TO BE CALLED "WEST TENNESSEE STATE UNIVERS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ST 4-YEAR UNIVERSITY IN NASHVILLE, AFTER VANDERBI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4:08:32Z</dcterms:created>
  <dc:creator>Jennifer Budzinski</dc:creator>
  <dc:description/>
  <dc:language>en-US</dc:language>
  <cp:lastModifiedBy>Erich Friedman</cp:lastModifiedBy>
  <dcterms:modified xsi:type="dcterms:W3CDTF">2020-08-30T09:29:36Z</dcterms:modified>
  <cp:revision>432</cp:revision>
  <dc:subject/>
  <dc:title>Slide 1</dc:title>
</cp:coreProperties>
</file>