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8D3E-2022-4453-8986-9B47C8AD5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AC32-7932-467E-B6D9-7D2DB7677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3459-B758-4A3A-8BA3-20BA5D15D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2462-3A03-492F-9E48-596113B02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DBE0-62A8-4647-8F37-154A790C5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9BB6-5078-47CE-AA37-D08B53E20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8011-5A4E-4382-8830-AEF0CDD9D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9A90-85E2-4B88-A786-7F02BD5D7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2D20-E453-4737-A2C5-A69DAF375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5774-A702-47F9-8EC5-234E5E17E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C17F-CD47-40E9-A7B4-C3B056DE4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AE6E-180E-4D7A-8691-E5C73F855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75FC-AA95-4C0E-BBCD-806780EC6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B013-9FE1-4FAA-92B5-4703F86EE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DD65-1177-415F-A0C0-729C484F2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6C6F-C3EB-4FC8-9926-BCA9A7E08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375B-5171-44C2-A54A-C02D4D092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A47A-E188-4C3E-A1D6-FF2B9EB76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E92A-98BC-4FD4-8E9F-A71007806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597E-067C-4DE3-BE1C-2ACEAA366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B163-BB3F-4039-9B5D-6A1D6CEE8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C6E9-2546-40CE-BC1E-290B848D2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4CFF-2A7C-465D-8056-5B3564CDC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 OF "AMERICAN IDO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RIGINAL SHELDON SCALE FOR GRADING THE CONDITION OF COINS, WHAT WAS THE HIGHEST R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219320" y="4876920"/>
            <a:ext cx="670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OF  THE JU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 CARTOON BASED ON TARZAN HAD A THEME SONG CONTAINING THE LYRICS "AHHHHHH, WATCH OUT FOR THAT TREE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REL  AND  HAR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LL-ESTABLISHED ACTORS BECAME A SLAPSTICK COMEDY TEAM IN 1927, APPEARING TOGETHER IN 107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ANING  MYR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HOST LIVES IN THE FIRST-FLOOR GIRLS' BATHROOM AT HOGW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KENYA'S LARGEST EX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CH OF THE ARMED FORCES HAS A RANK CALLED "CORPORAL SPECIALIST 4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ERS  FOR  HIL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NAME OF THE GROUP OF LIBERTARIAN SEX WORKERS IN THE 2016 ELECTION, AFTER BEING KNOWN AS    "PIMPIN' FOR PAUL" IN 2012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RIGINAL SHELDON SCALE FOR GRADING THE CONDITION OF COINS, WHAT WAS THE HIGHEST RA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EST  WHIT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57160" y="762120"/>
            <a:ext cx="7429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      IN "THE CRYING GAME", "BIRD", AND "THE BUTL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LLY  CLAR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 OF "AMERICAN ID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SHADES  OF  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 CARTOON BASED ON TARZAN HAD A THEME SONG CONTAINING THE LYRICS "AHHHHHH, WATCH OUT FOR THAT TREE!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LL-ESTABLISHED ACTORS BECAME A SLAPSTICK COMEDY TEAM IN 1927, APPEARING TOGETHER IN 107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HOST LIVES IN THE FIRST-FLOOR GIRLS' BATHROOM AT HOGW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KENYA'S LARGEST EX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CH OF THE ARMED FORCES HAS A RANK CALLED "CORPORAL SPECIALIST 4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NAME OF THE GROUP OF LIBERTARIAN SEX WORKERS IN THE 2016 ELECTION, AFTER BEING KNOWN AS    "PIMPIN' FOR PAUL" IN 2012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      IN "THE CRYING GAME", "BIRD", AND "THE BUTL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0T16:53:42Z</dcterms:created>
  <dc:creator>Jennifer Budzinski</dc:creator>
  <dc:description/>
  <dc:language>en-US</dc:language>
  <cp:lastModifiedBy>Erich Friedman</cp:lastModifiedBy>
  <dcterms:modified xsi:type="dcterms:W3CDTF">2020-08-30T09:30:11Z</dcterms:modified>
  <cp:revision>432</cp:revision>
  <dc:subject/>
  <dc:title>Slide 1</dc:title>
</cp:coreProperties>
</file>