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E49C-3B6B-426B-ACDB-7C4C7DB68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C476-5BE1-48F3-B344-44D52F9C1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B4BE-5F5D-420D-941F-C57003DA0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BA28-EA1A-43B7-AA89-F424AFB9A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3D66-D905-452F-AB9F-57516F78B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B6CA-047D-4400-AC40-86B1585A9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64C7-E158-4ED8-BFF1-1C5701CE6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36FF-A096-4E85-B85C-BDDB443EB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3861-8208-47E1-AA5E-78CD45324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73B3-E8A0-4330-A8C4-17B4C9EFD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4F57-6004-4FD2-89A1-CB3E8136E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5BAA-AA7F-4292-9466-EA1E29D70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2954-7CAE-4BCF-B276-CD5B09170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5C1B-8CEC-4A0D-9D2F-35706D55A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39ED-79CA-4788-BA06-10265F6C2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5D86-F7AC-405A-87E8-FA81BD325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BA91-1AFA-4CF0-BBC7-3131913B2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65AB-6D8A-4213-8A48-D3F518057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F8F0-FD55-4EE6-B6B3-2B5623D95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2C59-B7D5-43A3-99E7-0BCC486EE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0E9E-B140-4B4F-98A3-93E706D2F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5BED-D6C3-417A-894F-097B55D76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49DA-6BC2-4F02-869F-7F777EC1C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OF "AMERICAN ID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RIGINAL SHELDON SCALE FOR GRADING THE CONDITION OF COINS, WHAT WAS THE HIGHEST R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219320" y="4876920"/>
            <a:ext cx="670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OF  THE JU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CARTOON BASED ON TARZAN HAD A THEME SONG CONTAINING THE LYRICS "AHHHHHH, WATCH OUT FOR THAT TREE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REL  AND  HAR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LL-ESTABLISHED ACTORS BECAME A SLAPSTICK COMEDY TEAM IN 1927, APPEARING TOGETHER IN 107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ANING  MYR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HOST LIVES IN THE FIRST-FLOOR GIRLS' BATHROOM AT HOGW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KENYA'S LARGEST EX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CH OF THE ARMED FORCES HAS A RANK CALLED "CORPORAL SPECIALIST 4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ERS  FOR  HIL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NAME OF THE GROUP OF LIBERTARIAN SEX WORKERS IN THE 2016 ELECTION, AFTER BEING KNOWN AS    "PIMPIN' FOR PAUL" IN 2012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RIGINAL SHELDON SCALE FOR GRADING THE CONDITION OF COINS, WHAT WAS THE HIGHEST RA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EST  WHIT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57160" y="762120"/>
            <a:ext cx="7429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      IN "THE CRYING GAME", "BIRD", AND "THE BUTL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Y  CLAR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OF "AMERICAN ID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SHADES  OF  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CARTOON BASED ON TARZAN HAD A THEME SONG CONTAINING THE LYRICS "AHHHHHH, WATCH OUT FOR THAT TREE!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LL-ESTABLISHED ACTORS BECAME A SLAPSTICK COMEDY TEAM IN 1927, APPEARING TOGETHER IN 107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HOST LIVES IN THE FIRST-FLOOR GIRLS' BATHROOM AT HOGW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KENYA'S LARGEST EX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CH OF THE ARMED FORCES HAS A RANK CALLED "CORPORAL SPECIALIST 4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NAME OF THE GROUP OF LIBERTARIAN SEX WORKERS IN THE 2016 ELECTION, AFTER BEING KNOWN AS    "PIMPIN' FOR PAUL" IN 2012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      IN "THE CRYING GAME", "BIRD", AND "THE BUTL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0T16:53:42Z</dcterms:created>
  <dc:creator>Jennifer Budzinski</dc:creator>
  <dc:description/>
  <dc:language>en-US</dc:language>
  <cp:lastModifiedBy>Erich Friedman</cp:lastModifiedBy>
  <dcterms:modified xsi:type="dcterms:W3CDTF">2020-08-30T09:30:11Z</dcterms:modified>
  <cp:revision>432</cp:revision>
  <dc:subject/>
  <dc:title>Slide 1</dc:title>
</cp:coreProperties>
</file>