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31A7-8830-4406-B975-65B1DB51F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C29F-A404-4D64-B250-FECE943F3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66C4-F85A-45AF-AF39-22F05BF4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568E-A9A1-4CBA-8F11-058EBFF80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0058-4EE0-4B51-A7F6-513F147C3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1519-8861-4F77-8D36-EE68222E6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A41A-0D0E-4406-8DCA-04CDBA55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393A-B851-4F2E-92D4-78D720A4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551-A187-4253-84A4-7AC553BC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6C1F-0791-4191-BE40-A1D5B95F1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B43B-E575-4D52-8A3A-37D506945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CE61-6C53-48B9-9C8D-9B6B3F3C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C309-444C-4B0A-83B8-3B806A9E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42F0-D31F-4068-A2DD-093033407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6711-6287-4499-B1F9-D7F874404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F58-4D92-4493-8A8C-D36B525ED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0CFD-8421-441A-80F5-CC4A30C97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40EC-2A46-4466-887A-347806FE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B4C2-647E-4A9A-9383-7D852BEA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DDDD-A8E9-4955-8BA5-8C482F26B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4252-A40A-46CA-BD5A-AE70E3CF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575A-5897-4B6F-85CB-8E6FA4A0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2A1A-BAD5-4733-9D18-0B9BB5DF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SHELDON SCALE FOR GRADING THE CONDITION OF COINS, WHAT WAS THE HIGHEST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F  THE JU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CARTOON BASED ON TARZAN HAD A THEME SONG CONTAINING THE LYRICS "AHHHHHH, WATCH OUT FOR THAT TREE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L  AND  H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ESTABLISHED ACTORS BECAME A SLAPSTICK COMEDY TEAM IN 1927, APPEARING TOGETHER IN 1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NING  MY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HOST LIVES IN THE FIRST-FLOOR GIRLS' BATHROOM AT HOGW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FORCES HAS A RANK CALLED "CORPORAL SPECIALIST 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ERS  FOR  HIL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GROUP OF LIBERTARIAN SEX WORKERS IN THE 2016 ELECTION, AFTER BEING KNOWN AS    "PIMPIN' FOR PAUL" IN 201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SHELDON SCALE FOR GRADING THE CONDITION OF COINS, WHAT WAS THE HIGHEST R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ST  WHIT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   IN "THE CRYING GAME", "BIRD", AND "THE BUT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SHADES  OF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CARTOON BASED ON TARZAN HAD A THEME SONG CONTAINING THE LYRICS "AHHHHHH, WATCH OUT FOR THAT TREE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ESTABLISHED ACTORS BECAME A SLAPSTICK COMEDY TEAM IN 1927, APPEARING TOGETHER IN 1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HOST LIVES IN THE FIRST-FLOOR GIRLS' BATHROOM AT HOGW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FORCES HAS A RANK CALLED "CORPORAL SPECIALIST 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GROUP OF LIBERTARIAN SEX WORKERS IN THE 2016 ELECTION, AFTER BEING KNOWN AS    "PIMPIN' FOR PAUL" IN 2012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   IN "THE CRYING GAME", "BIRD", AND "THE BUT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6:53:42Z</dcterms:created>
  <dc:creator>Jennifer Budzinski</dc:creator>
  <dc:description/>
  <dc:language>en-US</dc:language>
  <cp:lastModifiedBy>Erich Friedman</cp:lastModifiedBy>
  <dcterms:modified xsi:type="dcterms:W3CDTF">2020-08-30T09:30:11Z</dcterms:modified>
  <cp:revision>432</cp:revision>
  <dc:subject/>
  <dc:title>Slide 1</dc:title>
</cp:coreProperties>
</file>