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3F13-E081-436B-969D-FDFB5441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AAAE-F006-4A0B-A91E-0545A1E5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E1C0-BDF6-4D90-BDEF-273FF232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C4A1-A812-4306-A3DA-8EB66D4F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65F-2A8A-4EFE-924F-9B02362E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15E-0694-4697-AFFB-8987365C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5767-AD6A-42C5-AA87-C0A87975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642-B7D3-4C39-A2D6-A46B67B3F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D3C7-0B8B-463E-A9EB-268D0E26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F5D8-6DF4-464F-B920-59B2264C9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AE7-0EF0-4619-8B16-FCD77DCA1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C40D-4CA4-4C65-861E-EFCC5848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60A-BF03-4E30-9558-C9A38EACF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1C4C-3B63-4B08-ACD2-69B5DEE9B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A28-7982-47A9-A1AF-D0A493055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129-5E76-4771-A085-77431CC2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C470-DEC4-474B-BA1A-C24F1819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F4C6-9C1D-4327-A2B4-20AB6140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EB11-1268-4F90-B64A-022E64A6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6B2A-ACE4-4959-A07F-FA1476CBE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8449-C291-4D13-A4A0-8EAA6396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B431-7902-45DE-9B23-57AF957BC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F851-87DF-4CDC-9614-1DFED587E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ATIONAL LEAGUE DIVISION CONTAINS THE REDS AND CU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NE  MANS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AJOR AMERICAN ACTRESS TO HAVE A NUDE STARRING ROLE IN    A HOLLYWOOD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UNPOWERED VEHICLE OR A SHORT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POPULATION, NORTH OR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HOTOGRAPHED BRID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EXPLORER FIRST CROSSED PANAMA TO SEE THE PACIF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343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  CASE  OF  DR  JEKYLL  AND  MR  HY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THIC NOVELLA BY ROBERT LOUIS STEVENSON WAS THE BASIS OF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SPANNED FROM 201 MILLION BC TO 145 MILLION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AJOR AMERICAN ACTRESS TO HAVE A NUDE STARRING ROLE IN    A HOLLYWOOD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JACK JUMP OVER IN A FAMOUS NURSERY RHY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ATIONAL LEAGUE DIVISION CONTAINS THE REDS AND CU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UNPOWERED VEHICLE OR A SHORT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38400" y="762120"/>
            <a:ext cx="6667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POPULATION, NORTH OR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HOTOGRAPHED BRID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EXPLORER FIRST CROSSED PANAMA TO SEE THE PACIF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THIC NOVELLA BY ROBERT LOUIS STEVENSON WAS THE BASIS OF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SPANNED FROM 201 MILLION BC TO 145 MILLION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JACK JUMP OVER IN A FAMOUS NURSERY RHY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8:15:11Z</dcterms:created>
  <dc:creator>Jennifer Budzinski</dc:creator>
  <dc:description/>
  <dc:language>en-US</dc:language>
  <cp:lastModifiedBy>Erich Friedman</cp:lastModifiedBy>
  <dcterms:modified xsi:type="dcterms:W3CDTF">2020-08-30T09:30:54Z</dcterms:modified>
  <cp:revision>432</cp:revision>
  <dc:subject/>
  <dc:title>Slide 1</dc:title>
</cp:coreProperties>
</file>