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7A2C-5B93-4EA3-A08A-5D51D54FB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F339-54BA-4BC0-826C-EC4B28D03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3F95-9152-462C-91DF-8B658DD33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E892-6267-4838-9E5A-133FA6C78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1BA1-30A6-477A-B9B7-2C61F402B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A05E-E59A-41B9-B970-5B7366E85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E6C4-7204-45CE-93E6-AB2D2C1F1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C7E4-260E-4E22-B8DF-7FDD9048C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5471-3D36-45E1-BABC-89D5A91DB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015F-AFF6-447F-9D03-7DB0C149D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B416-A06F-43A1-83B9-3A3C92914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B39F-5317-484E-82A7-45F3BB3DC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4917-D525-4D7D-BA3F-829451A0F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7700-71C6-41E4-9E00-1A42B6818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864D-B83C-4319-A5EF-F5383DFFE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864D-ADDD-4AE6-84F9-EF2DF9B7C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361C-50C8-4BB9-AC93-6EA8B46A2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EEA6-4BEF-4E3A-AD35-FB8F2F874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C791-C4BC-4DC1-9DC5-20567962B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8F56-670A-4308-8003-4D42C4BB6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798A-70A6-4C7E-AB62-13127068D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D152-8C63-4C30-BE47-83975DB9C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3414-88B2-4BE9-9112-0F1AF4B10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ATIONAL LEAGUE DIVISION CONTAINS THE REDS AND CUB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YNE  MANS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MAJOR AMERICAN ACTRESS TO HAVE A NUDE STARRING ROLE IN    A HOLLYWOOD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A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N UNPOWERED VEHICLE OR A SHORT VIDE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95280" y="762120"/>
            <a:ext cx="6553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A HIGHER POPULATION, NORTH OR SOUTH DAKO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EN  G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HOTOGRAPHED BRIDGE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SCO  NÚÑEZ  DE  BALBO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ANISH EXPLORER FIRST CROSSED PANAMA TO SEE THE PACIFIC OC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34340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ANGE  CASE  OF  DR  JEKYLL  AND  MR  HY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OTHIC NOVELLA BY ROBERT LOUIS STEVENSON WAS THE BASIS OF 8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RAS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OLOGIC PERIOD SPANNED FROM 201 MILLION BC TO 145 MILLION B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MAJOR AMERICAN ACTRESS TO HAVE A NUDE STARRING ROLE IN    A HOLLYWOOD PIC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DLEST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JACK JUMP OVER IN A FAMOUS NURSERY RHY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NT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ATIONAL LEAGUE DIVISION CONTAINS THE REDS AND CUB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43000" y="487692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P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N UNPOWERED VEHICLE OR A SHORT VIDE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38400" y="762120"/>
            <a:ext cx="6667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A HIGHER POPULATION, NORTH OR SOUTH DAKO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HOTOGRAPHED BRIDGE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ANISH EXPLORER FIRST CROSSED PANAMA TO SEE THE PACIFIC OCE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OTHIC NOVELLA BY ROBERT LOUIS STEVENSON WAS THE BASIS OF 8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OLOGIC PERIOD SPANNED FROM 201 MILLION BC TO 145 MILLION B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295280" y="76212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JACK JUMP OVER IN A FAMOUS NURSERY RHY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9T18:15:11Z</dcterms:created>
  <dc:creator>Jennifer Budzinski</dc:creator>
  <dc:description/>
  <dc:language>en-US</dc:language>
  <cp:lastModifiedBy>Erich Friedman</cp:lastModifiedBy>
  <dcterms:modified xsi:type="dcterms:W3CDTF">2020-08-30T09:30:54Z</dcterms:modified>
  <cp:revision>432</cp:revision>
  <dc:subject/>
  <dc:title>Slide 1</dc:title>
</cp:coreProperties>
</file>