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C2D56-17E8-4852-8EAF-C5E0C0DA2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96B1-1197-4093-968F-77E661514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347A-2C73-476D-BDEC-03E4DA0B4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2A51-2D97-4D28-82F0-CEBE8C121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D10B-678F-4008-92E7-3888E255E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7E3A-D4B2-4984-B9AB-D548E934B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BBCC-919A-4D2A-8514-AFFD89F89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6396-E7D1-4201-B3E0-5FAF82847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D806-FC80-44C0-A4DC-DC7DE8671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B56E-F20C-49C2-80BE-00D6D19C8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B1B4-7B4A-4F4F-8FCA-DFAB6E134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6D50-4660-45DC-BC5E-06A5069DD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8145-9824-41AD-ACE5-601A467B8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D2D6-0508-4D23-A6A4-CF949BE18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AE06-A7BB-4CC3-8903-BD0716D6D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2C48-C405-4B19-A01B-97B8E6524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B993-F08A-41CF-9F6E-341EB120C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B7C2-1363-4920-963A-D65F92866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122E-6BED-4554-8096-518135010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E4E6-7096-4D7D-B70C-070C4CF68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1B9A-FB11-4D6F-8537-DF39E641F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56BC-6314-4D41-9FE7-C3BDABC17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D0BD-49F3-4E2C-AC25-6C0409F75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ATIONAL LEAGUE DIVISION CONTAINS THE REDS AND CU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YNE  MANS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MAJOR AMERICAN ACTRESS TO HAVE A NUDE STARRING ROLE IN    A HOLLYWOOD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N UNPOWERED VEHICLE OR A SHORT VIDE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HIGHER POPULATION, NORTH OR SOUTH DAK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EN  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HOTOGRAPHED BRIDG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SCO  NÚÑEZ  DE  BALBO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EXPLORER FIRST CROSSED PANAMA TO SEE THE PACIFIC OC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34340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NGE  CASE  OF  DR  JEKYLL  AND  MR  HY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THIC NOVELLA BY ROBERT LOUIS STEVENSON WAS THE BASIS OF 8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RAS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LOGIC PERIOD SPANNED FROM 201 MILLION BC TO 145 MILLION 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MAJOR AMERICAN ACTRESS TO HAVE A NUDE STARRING ROLE IN    A HOLLYWOOD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LE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JACK JUMP OVER IN A FAMOUS NURSERY RHY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ATIONAL LEAGUE DIVISION CONTAINS THE REDS AND CU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487692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N UNPOWERED VEHICLE OR A SHORT VIDE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38400" y="762120"/>
            <a:ext cx="6667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HIGHER POPULATION, NORTH OR SOUTH DAK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HOTOGRAPHED BRIDG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ANISH EXPLORER FIRST CROSSED PANAMA TO SEE THE PACIFIC OC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THIC NOVELLA BY ROBERT LOUIS STEVENSON WAS THE BASIS OF 8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LOGIC PERIOD SPANNED FROM 201 MILLION BC TO 145 MILLION B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JACK JUMP OVER IN A FAMOUS NURSERY RHY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9T18:15:11Z</dcterms:created>
  <dc:creator>Jennifer Budzinski</dc:creator>
  <dc:description/>
  <dc:language>en-US</dc:language>
  <cp:lastModifiedBy>Erich Friedman</cp:lastModifiedBy>
  <dcterms:modified xsi:type="dcterms:W3CDTF">2020-08-30T09:30:54Z</dcterms:modified>
  <cp:revision>432</cp:revision>
  <dc:subject/>
  <dc:title>Slide 1</dc:title>
</cp:coreProperties>
</file>