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ACD2-D636-4CF3-B8F1-AB9AEDE81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6ECF-FAC5-4234-89E2-0401AF7E2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6827-BBB0-4ADE-BBE3-94105E4AE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F713-B56D-41F0-84C0-C525150B3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BD87-9564-4303-AEA2-796FEF07D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A4CD-2B8E-4767-8C3C-C34E2E3A7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3CA4-2A93-4350-9E61-97B4977F9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BCBC-CC6D-446D-8D57-7880C5D5B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8F6A-00B9-417E-AC1D-A1C01EEE5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C90B-5FA7-4682-A378-032E47725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A34D-3C72-499A-9C4F-3DF9EAA72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0A35-6035-4748-85C3-8588FCA70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658C-33EF-4FA4-8039-2BAE1B341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89AA-E84C-407B-B71D-B59019508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1B7B-3C46-495F-81EA-960D0483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74D1-34A8-4FEB-B4B0-28413D945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70C6-D76E-4002-897A-7860781CD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065F-E442-443E-9CE4-586D8086A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6900-0F1F-4656-B235-C3413BDC0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B7E2-25EE-4DC2-B0C2-AB9B498CD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5DFD-B2D2-47EC-9CE9-7228B13FA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F85C-5BD2-45A8-987E-11CFB9004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83B2-E128-4892-90B0-F30C58F4A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MMON PHRASE ORIGINATED WITH ST. AMBROSE, WHO FASTED IN A CITY HE WAS VISITING BECAUSE EVERYONE ELSE THERE WAS DOING S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HIA  L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CTRESS WAS THE FIRST TO WIN AN OSCAR FOR ACTING IN A FOREIGN FILM ("TWO WOMEN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SSELS  SPRO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brussel-sprouts.jpg"/>
          <p:cNvPicPr/>
          <p:nvPr/>
        </p:nvPicPr>
        <p:blipFill>
          <a:blip r:embed="rId1"/>
          <a:stretch/>
        </p:blipFill>
        <p:spPr>
          <a:xfrm>
            <a:off x="2541600" y="1978200"/>
            <a:ext cx="4060800" cy="290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8484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VING 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47640" y="7650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OSER WROTE "GOD BLESS AMERICA" AND "THERE'S NO BUSINESS LIKE SHOW BUS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SCOW  ON  THE  HU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FILM STARRED ROBIN WILLIAMS AS AN EASTERN BLOC MUSICIAN WHO DEFECTS TO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CKHOLM  SYND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23960" y="74628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EELINGS OF AFFECTION OR SYMPATHY FOR A CAPTO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71680" y="7621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N "ROMEO AND JULIET" WAS JULIET EXPECTED TO MAR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  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UILT IN 1830, DISMANTLED IN 1967, AND RELOCATED AND REBUILT IN LAKE HAVASU, ARIZONA IN 1971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CTRESS WAS THE FIRST TO WIN AN OSCAR FOR ACTING IN A FOREIGN FILM ("TWO WOMEN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83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NNA  SAU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A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libbyviennabbq2.jpg"/>
          <p:cNvPicPr/>
          <p:nvPr/>
        </p:nvPicPr>
        <p:blipFill>
          <a:blip r:embed="rId1"/>
          <a:stretch/>
        </p:blipFill>
        <p:spPr>
          <a:xfrm>
            <a:off x="2971800" y="1984320"/>
            <a:ext cx="3200400" cy="28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33440" y="4343400"/>
            <a:ext cx="64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IN  ROME,              DO  AS  THE  ROMANS 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MMON PHRASE ORIGINATED WITH ST. AMBROSE, WHO FASTED IN A CITY HE WAS VISITING BECAUSE EVERYONE ELSE THERE WAS DOING S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380880" y="48769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EUROPEAN  CA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brussel-sprouts.jpg"/>
          <p:cNvPicPr/>
          <p:nvPr/>
        </p:nvPicPr>
        <p:blipFill>
          <a:blip r:embed="rId1"/>
          <a:stretch/>
        </p:blipFill>
        <p:spPr>
          <a:xfrm>
            <a:off x="2541600" y="2057400"/>
            <a:ext cx="406080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OSER WROTE "GOD BLESS AMERICA" AND "THERE'S NO BUSINESS LIKE SHOW BUS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FILM STARRED ROBIN WILLIAMS AS AN EASTERN BLOC MUSICIAN WHO DEFECTS TO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EELINGS OF AFFECTION OR SYMPATHY FOR A CAPTO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N "ROMEO AND JULIET" WAS JULIET EXPECTED TO MAR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UILT IN 1830, DISMANTLED IN 1967, AND RELOCATED AND REBUILT IN LAKE HAVASU, ARIZONA IN 1971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A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libbyviennabbq2.jpg"/>
          <p:cNvPicPr/>
          <p:nvPr/>
        </p:nvPicPr>
        <p:blipFill>
          <a:blip r:embed="rId1"/>
          <a:stretch/>
        </p:blipFill>
        <p:spPr>
          <a:xfrm>
            <a:off x="2971800" y="2057400"/>
            <a:ext cx="3200400" cy="289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20:48:35Z</dcterms:created>
  <dc:creator>Jennifer Budzinski</dc:creator>
  <dc:description/>
  <dc:language>en-US</dc:language>
  <cp:lastModifiedBy>Erich Friedman</cp:lastModifiedBy>
  <dcterms:modified xsi:type="dcterms:W3CDTF">2020-08-24T13:25:16Z</dcterms:modified>
  <cp:revision>398</cp:revision>
  <dc:subject/>
  <dc:title>Slide 1</dc:title>
</cp:coreProperties>
</file>