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C114-C1C2-4353-93E3-359737599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58E-8269-4C14-8795-79EB37A0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361A-ACF0-42D6-B00E-2FE4E908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BDB2-1D3E-49F7-9276-65C0315E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3DAB-0E56-46FC-8742-A5E77EC87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4C6-3BD7-415D-ADF2-3549F2C5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8523-574D-47F5-BF6A-7C8D39AB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7F7-3728-4683-A9BA-354C4246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1C1F-8EBE-417E-99CE-B2A4A0F9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4CCB-429F-42EE-B6A2-9BA0147C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A9C9-68E5-495C-A899-273D0E5A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BF0-0A5B-4AC9-9067-F04664BF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574D-9E06-4381-BF56-62AA925C3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B7A9-D59C-4D5E-8216-19AA60D8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9F79-8339-40EE-892B-AC7D251E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7F6C-BF81-4D96-AEF7-FEACCDB6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56FC-B972-482C-97BD-55B694E2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204A-E4BD-496C-B918-6EA0249AE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36C-865D-401B-BB2B-85058B0A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B301-1D67-4208-9089-49E39192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4705-BEE6-4189-947A-1A524CBDB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5550-E895-43B3-B4CF-6BA66143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77E3-6C92-4285-A684-DE284C4F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A  L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CTRESS WAS THE FIRST TO WIN AN OSCAR FOR ACTING IN A FOREIGN FILM ("TWO WOMEN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SSELS  SPR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brussel-sprouts.jpg"/>
          <p:cNvPicPr/>
          <p:nvPr/>
        </p:nvPicPr>
        <p:blipFill>
          <a:blip r:embed="rId1"/>
          <a:stretch/>
        </p:blipFill>
        <p:spPr>
          <a:xfrm>
            <a:off x="2541600" y="1978200"/>
            <a:ext cx="4060800" cy="29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8484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VING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50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OSER WROTE "GOD BLESS AMERICA" AND "THERE'S NO BUSINESS LIKE SHOW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COW  ON  THE  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FILM STARRED ROBIN WILLIAMS AS AN EASTERN BLOC MUSICIAN WHO DEFECTS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HOLM 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23960" y="74628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EELINGS OF AFFECTION OR SYMPATHY FOR A CAPT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N "ROMEO AND JULIET" WAS JULIET EXPECTED TO MA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UILT IN 1830, DISMANTLED IN 1967, AND RELOCATED AND REBUILT IN LAKE HAVASU, ARIZONA IN 1971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CTRESS WAS THE FIRST TO WIN AN OSCAR FOR ACTING IN A FOREIGN FILM ("TWO WOMEN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83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NNA  SAU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libbyviennabbq2.jpg"/>
          <p:cNvPicPr/>
          <p:nvPr/>
        </p:nvPicPr>
        <p:blipFill>
          <a:blip r:embed="rId1"/>
          <a:stretch/>
        </p:blipFill>
        <p:spPr>
          <a:xfrm>
            <a:off x="2971800" y="1984320"/>
            <a:ext cx="320040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33440" y="43434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IN  ROME,              DO  AS  THE  ROMANS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UROPEAN  CA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brussel-sprouts.jpg"/>
          <p:cNvPicPr/>
          <p:nvPr/>
        </p:nvPicPr>
        <p:blipFill>
          <a:blip r:embed="rId1"/>
          <a:stretch/>
        </p:blipFill>
        <p:spPr>
          <a:xfrm>
            <a:off x="2541600" y="2057400"/>
            <a:ext cx="40608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OSER WROTE "GOD BLESS AMERICA" AND "THERE'S NO BUSINESS LIKE SHOW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FILM STARRED ROBIN WILLIAMS AS AN EASTERN BLOC MUSICIAN WHO DEFECTS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EELINGS OF AFFECTION OR SYMPATHY FOR A CAPT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N "ROMEO AND JULIET" WAS JULIET EXPECTED TO MA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UILT IN 1830, DISMANTLED IN 1967, AND RELOCATED AND REBUILT IN LAKE HAVASU, ARIZONA IN 197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libbyviennabbq2.jpg"/>
          <p:cNvPicPr/>
          <p:nvPr/>
        </p:nvPicPr>
        <p:blipFill>
          <a:blip r:embed="rId1"/>
          <a:stretch/>
        </p:blipFill>
        <p:spPr>
          <a:xfrm>
            <a:off x="2971800" y="2057400"/>
            <a:ext cx="3200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20:48:35Z</dcterms:created>
  <dc:creator>Jennifer Budzinski</dc:creator>
  <dc:description/>
  <dc:language>en-US</dc:language>
  <cp:lastModifiedBy>Erich Friedman</cp:lastModifiedBy>
  <dcterms:modified xsi:type="dcterms:W3CDTF">2020-08-24T13:25:16Z</dcterms:modified>
  <cp:revision>398</cp:revision>
  <dc:subject/>
  <dc:title>Slide 1</dc:title>
</cp:coreProperties>
</file>