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2ABF-21EA-469B-978A-8A92C1830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3DC9-412A-4935-B93D-C60F713DD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41B2-E56C-490F-9EE3-785BED6F1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11CE-F0CC-438F-AE94-4F6BD57FA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D6FA-F022-40DB-8611-583CE4E06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E76F-2125-43FA-89CC-807230EAB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412F-5F23-4548-BF46-0B6D2968F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EF97-AC68-46E7-A823-26081198D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CA36-1E32-4B56-A992-F6161E3F8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1C42-9AC3-41C6-B6E1-C319D5258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5EA6-41BE-4D05-9A48-E41C0A7B6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D1B1-E26D-4CF4-91DA-FBB3EEAED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FBEC-EB90-44EC-8A57-0F0599309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E7F4-236C-4AB6-8336-02D1D9B3B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1892-0332-4D52-A8C0-73C8D2E31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A7D3-7035-4F02-89EA-057506439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6E03-8DAB-4FF3-AE5B-A98BE1D8F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E424-4049-4C5C-A0F6-7188347C0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513B-517C-4433-96A5-6E3CBA3EE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D653-DE82-41C7-B362-0C44CBCE4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3B56-AD57-4D64-AA3D-3EC3FEDC4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DE03-35F5-43D3-A180-4A22F90CD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A0DD-8B34-4411-95F1-B06C7B5F5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MMON PHRASE ORIGINATED WITH ST. AMBROSE, WHO FASTED IN A CITY HE WAS VISITING BECAUSE EVERYONE ELSE THERE WAS DOING SO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PHIA  L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571680" y="76212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ACTRESS WAS THE FIRST TO WIN AN OSCAR FOR ACTING IN A FOREIGN FILM ("TWO WOMEN"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4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SSELS  SPRO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GETABLE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brussel-sprouts.jpg"/>
          <p:cNvPicPr/>
          <p:nvPr/>
        </p:nvPicPr>
        <p:blipFill>
          <a:blip r:embed="rId1"/>
          <a:stretch/>
        </p:blipFill>
        <p:spPr>
          <a:xfrm>
            <a:off x="2541600" y="1978200"/>
            <a:ext cx="4060800" cy="290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80880" y="488484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VING BE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47640" y="7650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OSER WROTE "GOD BLESS AMERICA" AND "THERE'S NO BUSINESS LIKE SHOW BUSI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430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SCOW  ON  THE  HUD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FILM STARRED ROBIN WILLIAMS AS AN EASTERN BLOC MUSICIAN WHO DEFECTS TO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CKHOLM  SYNDR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723960" y="74628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FEELINGS OF AFFECTION OR SYMPATHY FOR A CAPTOR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571680" y="7621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N "ROMEO AND JULIET" WAS JULIET EXPECTED TO MAR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DON  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UILT IN 1830, DISMANTLED IN 1967, AND RELOCATED AND REBUILT IN LAKE HAVASU, ARIZONA IN 1971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ACTRESS WAS THE FIRST TO WIN AN OSCAR FOR ACTING IN A FOREIGN FILM ("TWO WOMEN"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836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ENNA  SAU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EAT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libbyviennabbq2.jpg"/>
          <p:cNvPicPr/>
          <p:nvPr/>
        </p:nvPicPr>
        <p:blipFill>
          <a:blip r:embed="rId1"/>
          <a:stretch/>
        </p:blipFill>
        <p:spPr>
          <a:xfrm>
            <a:off x="2971800" y="1984320"/>
            <a:ext cx="3200400" cy="28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33440" y="4343400"/>
            <a:ext cx="647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N  IN  ROME,              DO  AS  THE  ROMANS 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MMON PHRASE ORIGINATED WITH ST. AMBROSE, WHO FASTED IN A CITY HE WAS VISITING BECAUSE EVERYONE ELSE THERE WAS DOING S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380880" y="487692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EUROPEAN  CAPI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GETABLE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brussel-sprouts.jpg"/>
          <p:cNvPicPr/>
          <p:nvPr/>
        </p:nvPicPr>
        <p:blipFill>
          <a:blip r:embed="rId1"/>
          <a:stretch/>
        </p:blipFill>
        <p:spPr>
          <a:xfrm>
            <a:off x="2541600" y="2057400"/>
            <a:ext cx="4060800" cy="29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OSER WROTE "GOD BLESS AMERICA" AND "THERE'S NO BUSINESS LIKE SHOW BUSI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FILM STARRED ROBIN WILLIAMS AS AN EASTERN BLOC MUSICIAN WHO DEFECTS TO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FEELINGS OF AFFECTION OR SYMPATHY FOR A CAPTOR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N "ROMEO AND JULIET" WAS JULIET EXPECTED TO MAR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UILT IN 1830, DISMANTLED IN 1967, AND RELOCATED AND REBUILT IN LAKE HAVASU, ARIZONA IN 1971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EAT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libbyviennabbq2.jpg"/>
          <p:cNvPicPr/>
          <p:nvPr/>
        </p:nvPicPr>
        <p:blipFill>
          <a:blip r:embed="rId1"/>
          <a:stretch/>
        </p:blipFill>
        <p:spPr>
          <a:xfrm>
            <a:off x="2971800" y="2057400"/>
            <a:ext cx="3200400" cy="2890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20:48:35Z</dcterms:created>
  <dc:creator>Jennifer Budzinski</dc:creator>
  <dc:description/>
  <dc:language>en-US</dc:language>
  <cp:lastModifiedBy>Erich Friedman</cp:lastModifiedBy>
  <dcterms:modified xsi:type="dcterms:W3CDTF">2020-08-24T13:25:16Z</dcterms:modified>
  <cp:revision>398</cp:revision>
  <dc:subject/>
  <dc:title>Slide 1</dc:title>
</cp:coreProperties>
</file>