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503B-84A2-4FB0-8B8B-36633C7B5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CFD3-F08E-4A4D-A014-0D1D8BBF6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3165-2287-4056-A59E-6B717D76D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ED41-A7E0-461D-84D4-200DF7623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E36F-BE00-4CE4-9144-94912C54A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02A6-F21E-4557-A9B0-DB7401C2F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0381-7B7B-4D42-B947-245791695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69F4-D478-4C38-8D39-71737D3B6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1717-3CC2-4C95-A95B-58F1C609B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0030-198D-4072-B235-469480EEC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2587-4315-41C3-A3B3-3DEB40A92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1322-0C3A-4D3E-A8C6-C152F7AA1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72DF-EEDB-474A-A380-43EBAB1A7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68B9-E744-4731-851B-7F4990CB3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0416-0D8A-4A6E-9C63-BDD286007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FB0B-A2DD-4290-A873-8B509D6E0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1F42-3CBF-4DD7-99FE-C64A2EEFE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33CF-D92F-4BC9-A2F3-545002670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12FA-649E-417E-89F2-3872C3E1A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9F15-3BB3-470F-934B-BEFEAC213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9DD3-05A2-4BD6-852B-3533F4E34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A1AE-72E7-42BD-929D-E78BF4D87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FCA4-BF41-4503-B1D7-F87BEC1A3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GAME FISH IN NORTH AME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14440" y="762120"/>
            <a:ext cx="811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LONIUM USUALLY DECAYS INTO WHAT OTHER EL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SONAL CARE COMPANY'S SLOGAN IS "YOU ARE MORE BEAUTIFUL THAN YOU THIN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486080" y="762120"/>
            <a:ext cx="6172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STURE MEANS "HELLO" IN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MEASURING ANGLES, WHAT IS 1/6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DEGRE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B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RITISH ENGLISH, CELL PHONES ARE CALLED WHAT SORT OF PH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ICE WIN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04840" y="490680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H JONG, WHAT ARE THESE TIL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952560" y="2610000"/>
            <a:ext cx="7238880" cy="22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LONIUM USUALLY DECAYS INTO WHAT OTHER EL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GLENN)  C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NOMINATED FOR "FATAL ATTRACTION" AND "DANGEROUS LIAIS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486080" y="762120"/>
            <a:ext cx="6172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GAME FISH IN NORTH AME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571680" y="320040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HETERONYMS  (WORDS  WITH  DIFFERENT PRONUNCIATIONS  AND DIFFERENT  MEANING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SONAL CARE COMPANY'S SLOGAN IS "YOU ARE MORE BEAUTIFUL THAN YOU THIN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47920" y="762120"/>
            <a:ext cx="6248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STURE MEANS "HELLO" IN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MEASURING ANGLES, WHAT IS 1/6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DEGRE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RITISH ENGLISH, CELL PHONES ARE CALLED WHAT SORT OF PH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ICE WIN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H JONG, WHAT ARE THESE TIL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698400" y="2666880"/>
            <a:ext cx="77454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NOMINATED FOR "FATAL ATTRACTION" AND "DANGEROUS LIAISO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6T23:13:40Z</dcterms:created>
  <dc:creator>Jennifer Budzinski</dc:creator>
  <dc:description/>
  <dc:language>en-US</dc:language>
  <cp:lastModifiedBy>Erich Friedman</cp:lastModifiedBy>
  <dcterms:modified xsi:type="dcterms:W3CDTF">2020-08-30T09:31:51Z</dcterms:modified>
  <cp:revision>430</cp:revision>
  <dc:subject/>
  <dc:title>Slide 1</dc:title>
</cp:coreProperties>
</file>