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8193-4FED-4BD9-AC47-EB4E85300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8960-9B22-4F34-8F61-01419B75C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595B-B2FA-4A8D-83E6-CDEE1A5CF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C78B-10EB-4E2D-A60C-A2E59D21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84FB-CC1E-45DD-A313-35E201122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0680-1407-4FB9-B183-CA77C995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4DB4-81BE-4023-A405-61B94CE74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984D-64B9-44C6-BA0B-8A713D9CF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E93A-E016-4B4E-B5FB-4D93056E3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F820-7A20-4730-9EB4-20A3EFAB9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F45A-43D0-4D4F-B976-704E83FA5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FD71-8FB9-4FC0-842F-A110A1FA7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0CCA-48FB-410C-BA81-D2D530025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8FD5-49DD-4CE3-A4B9-891E459B4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E6CF-FD98-4FB3-B08D-C30F0DD24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7527-F3A2-4373-8797-D5F7BE416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ACE1-DF5C-4B6A-AECF-5EA9374D7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6655-7D56-4079-A396-584B1D45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7731-DF36-4FDF-A46A-F80AE8F32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DFEC-83C6-46DA-96FE-6917FB624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11B1-A927-4E09-8B62-618DDD6CB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3564-D530-4B0F-8E8A-01528BCA9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D729-3C4D-4136-B7E5-E177ECC37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GAME FISH IN NORTH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1444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ONIUM USUALLY DECAYS INTO WHAT OTHER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SONAL CARE COMPANY'S SLOGAN IS "YOU ARE MORE BEAUTIFUL THAN YOU THIN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486080" y="762120"/>
            <a:ext cx="6172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STURE MEANS "HELLO"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MEASURING ANGLES, WHAT IS 1/6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EGRE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TISH ENGLISH, CELL PHONES ARE CALLED WHAT SORT OF PH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CE WIN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90680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H JONG, WHAT ARE THESE TIL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952560" y="2610000"/>
            <a:ext cx="7238880" cy="22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ONIUM USUALLY DECAYS INTO WHAT OTHER E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LENN) 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NOMINATED FOR "FATAL ATTRACTION" AND "DANGEROUS LIAI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86080" y="762120"/>
            <a:ext cx="61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GAME FISH IN NORTH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71680" y="320040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HETERONYMS  (WORDS  WITH  DIFFERENT PRONUNCIATIONS  AND DIFFERENT  MEANIN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SONAL CARE COMPANY'S SLOGAN IS "YOU ARE MORE BEAUTIFUL THAN YOU THIN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STURE MEANS "HELLO"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MEASURING ANGLES, WHAT IS 1/6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EGRE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TISH ENGLISH, CELL PHONES ARE CALLED WHAT SORT OF PH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CE WIN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H JONG, WHAT ARE THESE TIL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698400" y="2666880"/>
            <a:ext cx="7745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NOMINATED FOR "FATAL ATTRACTION" AND "DANGEROUS LIAI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23:13:40Z</dcterms:created>
  <dc:creator>Jennifer Budzinski</dc:creator>
  <dc:description/>
  <dc:language>en-US</dc:language>
  <cp:lastModifiedBy>Erich Friedman</cp:lastModifiedBy>
  <dcterms:modified xsi:type="dcterms:W3CDTF">2020-08-30T09:31:51Z</dcterms:modified>
  <cp:revision>430</cp:revision>
  <dc:subject/>
  <dc:title>Slide 1</dc:title>
</cp:coreProperties>
</file>