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F6C1-9CE8-465A-9022-CD3485302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E6D0-ABFA-41E9-BEBE-95DAC599E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C882-E079-45BF-A2CB-C24A63189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0BAA-C4F6-4126-B549-9ADE91B66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0D11-7D9E-4D13-A01D-C592DEFD8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359F-EACB-4C00-B55D-03DC2921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3FDB-0EEC-499F-A93F-8536C8390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149D-3A7E-4A79-AB19-B2D761769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5F4-5EA6-4FC1-B531-C4AF28BE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F323-CC26-4A8A-B866-2722D6C7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F16F-5D79-4EB2-A3C0-124BCD647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1BB5-F302-4116-BBCD-E81A71E6D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46DB-9799-48F9-AE32-DC800DC37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53BB-1C9C-4F2B-B4D3-FA7ECE8FE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60F5F-102F-4846-B57F-159B3A304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34B3-6ACF-47F9-8B95-387A768B8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F749-B123-4FB1-AD48-1D38E88A8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9484-B269-4F80-A556-2318C588F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B20E-3F32-4A11-A8ED-AD902C9F9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874D-13FB-442F-9377-CC4E3BCAF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E5EF-E489-4F81-BE18-111B5CFE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511A-FA2E-41B5-89F1-DC307661F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971A-EC89-42A5-8628-525F7EDB0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GAME FISH IN NOR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ONIUM USUALLY DECAYS INTO WHAT OTHER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AL CARE COMPANY'S SLOGAN IS "YOU ARE MORE BEAUTIFUL THAN YOU THIN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486080" y="762120"/>
            <a:ext cx="6172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STURE MEANS "HELLO"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MEASURING ANGLES, WHAT IS 1/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ENGLISH, CELL PHONES ARE CALLED WHAT SORT OF PH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E WIN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9068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H JONG, WHAT ARE THESE TIL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952560" y="2610000"/>
            <a:ext cx="7238880" cy="22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LONIUM USUALLY DECAYS INTO WHAT OTHER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LENN)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NOMINATED FOR "FATAL ATTRACTION" AND "DANGEROUS LIAI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GAME FISH IN NOR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71680" y="3200400"/>
            <a:ext cx="8001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HETERONYMS  (WORDS  WITH  DIFFERENT PRONUNCIATIONS  AND DIFFERENT  MEANIN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SONAL CARE COMPANY'S SLOGAN IS "YOU ARE MORE BEAUTIFUL THAN YOU THIN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STURE MEANS "HELLO"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MEASURING ANGLES, WHAT IS 1/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TISH ENGLISH, CELL PHONES ARE CALLED WHAT SORT OF PH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E WIN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H JONG, WHAT ARE THESE TIL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698400" y="2666880"/>
            <a:ext cx="77454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NOMINATED FOR "FATAL ATTRACTION" AND "DANGEROUS LIAI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23:13:40Z</dcterms:created>
  <dc:creator>Jennifer Budzinski</dc:creator>
  <dc:description/>
  <dc:language>en-US</dc:language>
  <cp:lastModifiedBy>Erich Friedman</cp:lastModifiedBy>
  <dcterms:modified xsi:type="dcterms:W3CDTF">2020-08-30T09:31:51Z</dcterms:modified>
  <cp:revision>430</cp:revision>
  <dc:subject/>
  <dc:title>Slide 1</dc:title>
</cp:coreProperties>
</file>