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332A-A09B-4CC1-8D5D-8281FB631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DC74-B83A-4376-9E13-F97DB1323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4BC7-A414-43A6-A92F-F8D364796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F4C8-D227-4FB8-92C2-B97F4B81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A73A-89EF-4B03-9874-AC96C5686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3B76-8CA9-4353-BC43-37756F872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68CD-C471-4B88-9305-EB658F3B1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E710-7F2E-475F-B2B1-EE4695946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3C74-77B1-4A7E-A4FA-DD727DA97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C121-8E3D-4209-9E2C-6837D5AB9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883E-D986-4699-8E58-C98D5CA58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0B0E-D893-4302-83CB-AB49EAF82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B679-BFFF-4324-B763-8F44C2A67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CDE3-3386-44F2-8745-C3F0FFFF8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1F73-1718-404E-A54C-4F2F4B684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94DB-CE9E-4A10-A830-DFF8D1BF8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65FB-2461-435A-B300-5E6788F1C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14D2-A57F-4BDF-A960-8B6875A1E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643A-BEBE-40ED-A577-666734E64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47FE-1BF4-4663-9432-F53D94D9D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AF78-89AD-41D2-A52B-83B08EEDE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9D5B-03C0-4D31-9A08-A944FEB2A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5FAD-B090-4161-9975-2241E110F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PIECE OF THICK TEXTILE FABRIC DEPICTING PICTURES OR DESIGNS, OFTEN HUNG VER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LVIS PRESLEY'S MEMPHIS HOM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ENTS ARE THERE IN "TWO BI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304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QUOTE BY HENRY DAVID THOREAU: "THE SMALLEST SEED OF ____ IS BETTER THAN THE LARGEST FRUIT OF HAPP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ON THE CW FEATURES TWO BROTHERS WHO HUNT DEMONS, GHOSTS, AND OTHER MONS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67000" y="762120"/>
            <a:ext cx="6210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GEORGE H. W. BUSH BECO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M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OULD BRITISH PEOPLE SPELL THE WORD MEANING "UNVERIFIED STORIES CIRCULATING AS GOSSI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ABOUT BLACKJACK GOT ITS NAME FROM ANOTHER NAME FOR THAT GAM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LVIS PRESLEY'S MEMPHIS HOM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1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TOWER MENTIONED IN GENESIS 11 TO EXPLAIN DIFFERENT LANGU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PE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PIECE OF THICK TEXTILE FABRIC DEPICTING PICTURES OR DESIGNS, OFTEN HUNG VER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58720" y="4343400"/>
            <a:ext cx="80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UMS  THAT  WON  A  GRAMMY  FOR  "ALBUM  OF  THE  YEAR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ENTS ARE THERE IN "TWO BI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QUOTE BY HENRY DAVID THOREAU: "THE SMALLEST SEED OF ____ IS BETTER THAN THE LARGEST FRUIT OF HAPP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ON THE CW FEATURES TWO BROTHERS WHO HUNT DEMONS, GHOSTS, AND OTHER MONS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GEORGE H. W. BUSH BECOM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OULD BRITISH PEOPLE SPELL THE WORD MEANING "UNVERIFIED STORIES CIRCULATING AS GOSSI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ABOUT BLACKJACK GOT ITS NAME FROM ANOTHER NAME FOR THAT GAM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TOWER MENTIONED IN GENESIS 11 TO EXPLAIN DIFFERENT LANGUA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7:08:51Z</dcterms:created>
  <dc:creator>Jennifer Budzinski</dc:creator>
  <dc:description/>
  <dc:language>en-US</dc:language>
  <cp:lastModifiedBy>Erich Friedman</cp:lastModifiedBy>
  <dcterms:modified xsi:type="dcterms:W3CDTF">2020-08-30T09:33:57Z</dcterms:modified>
  <cp:revision>404</cp:revision>
  <dc:subject/>
  <dc:title>Slide 1</dc:title>
</cp:coreProperties>
</file>