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6008-9126-4F7C-A826-2AFFCE23C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C89D-DD6F-42D1-B6D5-CB9DCD0F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8C8B-3ADB-4C66-9105-6AEAFEA62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355E-3DA0-40E2-AA7C-7440000D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E5DF-E459-405E-82C9-957C636E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9636-49CC-4A64-A2A6-12C05A31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C1E1-1BB1-4385-8300-0F6865B7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D7A-2519-4B9E-9620-9BD3AF8E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373-990A-47A8-9D5C-0B254BBCA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7CB-FD60-44BC-8A8F-54042F07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96A-E031-43D3-A61C-96A8CE28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909C-B39C-47C3-977D-5C79F87A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DDB5-4AF2-4A24-9E42-F4CFFA61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283-1AE9-4592-8133-992F2002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A04-2584-4AF5-93DB-9526BCBB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BFD9-07DE-4656-AD20-93F7F8CB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49EF-E29F-4DCA-84BD-29C09357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37B-F67F-46C5-B67B-2E7A6CA4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2728-CBA4-4106-9E9E-6BA11B92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F4E2-043A-45F7-992F-B1383149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CD1-3880-4EA6-A770-3280B16B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0BE-CEB5-49CF-B958-3AE393C2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D3BD-E144-482F-9919-4616BBC6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IECE OF THICK TEXTILE FABRIC DEPICTING PICTURES OR DESIGNS, OFTEN HUNG VER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LVIS PRESLEY'S MEMPHIS HOM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S ARE THERE IN "TWO BI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304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QUOTE BY HENRY DAVID THOREAU: "THE SMALLEST SEED OF ____ IS BETTER THAN THE LARGEST FRUIT OF HAPP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EATURES TWO BROTHERS WHO HUNT DEMONS, GHOSTS, AND OTHER MONS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67000" y="762120"/>
            <a:ext cx="6210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EORGE H. W. BUSH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M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BRITISH PEOPLE SPELL THE WORD MEANING "UNVERIFIED STORIES CIRCULATING AS GOSSI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ABOUT BLACKJACK GOT ITS NAME FROM ANOTHER NAME FOR THAT GA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LVIS PRESLEY'S MEMPHIS HOM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1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TOWER MENTIONED IN GENESIS 11 TO EXPLAIN DIFFERENT LANGU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E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IECE OF THICK TEXTILE FABRIC DEPICTING PICTURES OR DESIGNS, OFTEN HUNG VER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58720" y="4343400"/>
            <a:ext cx="80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UMS  THAT  WON  A  GRAMMY  FOR  "ALBUM  OF  THE  YEAR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S ARE THERE IN "TWO BI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QUOTE BY HENRY DAVID THOREAU: "THE SMALLEST SEED OF ____ IS BETTER THAN THE LARGEST FRUIT OF HAPP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EATURES TWO BROTHERS WHO HUNT DEMONS, GHOSTS, AND OTHER MONS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EORGE H. W. BUSH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BRITISH PEOPLE SPELL THE WORD MEANING "UNVERIFIED STORIES CIRCULATING AS GOSSI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ABOUT BLACKJACK GOT ITS NAME FROM ANOTHER NAME FOR THAT GAM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TOWER MENTIONED IN GENESIS 11 TO EXPLAIN DIFFERENT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7:08:51Z</dcterms:created>
  <dc:creator>Jennifer Budzinski</dc:creator>
  <dc:description/>
  <dc:language>en-US</dc:language>
  <cp:lastModifiedBy>Erich Friedman</cp:lastModifiedBy>
  <dcterms:modified xsi:type="dcterms:W3CDTF">2020-08-30T09:33:57Z</dcterms:modified>
  <cp:revision>404</cp:revision>
  <dc:subject/>
  <dc:title>Slide 1</dc:title>
</cp:coreProperties>
</file>