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DB61-F622-4D95-808D-C8B5AAF33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1CF2-5F9E-4D6D-9009-E2ED3B09C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E3F5-2EE3-4E7E-997B-5D5D834E8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DC75-7C8B-4E1B-81D4-34B80D261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EC92-A7B9-446E-A535-9C445BA4A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90F8-F6E4-4757-851F-AFCCFE869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A4F7-5972-4815-B44A-89090B357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B6C1-A0DC-4FFA-B0F0-7CAF32026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FB13-9BDD-4D93-9435-71C70B981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A577-97B2-4C7E-B51C-DFAA84018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618D-B8E4-4B1A-9E7C-974FDB11E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E6FB-6306-4EF5-AFA2-96CFC68A9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5CED-85DB-4FAA-8E39-BDB459CBA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6EAD-B3DD-42FD-851B-B0DC05E82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AEC4-D9E2-4A69-9B44-65AB2283E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F46C-1E2F-45D4-A15F-56CCBA2A7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CCC0-6281-4DC6-9917-0B4B3D314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BB59-12E1-4D3F-8FCA-86E02641A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67BB-1A38-498C-9B71-A55885E72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1C4C-1902-4A37-A1B3-7204EF2DE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7172-CB08-48C9-95C9-D56963192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4E55-358C-48E8-9A8A-280AE521F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D128-3BE3-422D-ACF5-9297ED2B3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PIECE OF THICK TEXTILE FABRIC DEPICTING PICTURES OR DESIGNS, OFTEN HUNG VER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LVIS PRESLEY'S MEMPHIS HOM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ENTS ARE THERE IN "TWO BI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304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QUOTE BY HENRY DAVID THOREAU: "THE SMALLEST SEED OF ____ IS BETTER THAN THE LARGEST FRUIT OF HAPP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ON THE CW FEATURES TWO BROTHERS WHO HUNT DEMONS, GHOSTS, AND OTHER MONS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67000" y="762120"/>
            <a:ext cx="6210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GEORGE H. W. BUSH BECO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44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M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OULD BRITISH PEOPLE SPELL THE WORD MEANING "UNVERIFIED STORIES CIRCULATING AS GOSSI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ABOUT BLACKJACK GOT ITS NAME FROM ANOTHER NAME FOR THAT GAM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LVIS PRESLEY'S MEMPHIS HOM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1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TOWER MENTIONED IN GENESIS 11 TO EXPLAIN DIFFERENT LANGU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PE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PIECE OF THICK TEXTILE FABRIC DEPICTING PICTURES OR DESIGNS, OFTEN HUNG VER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58720" y="4343400"/>
            <a:ext cx="803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UMS  THAT  WON  A  GRAMMY  FOR  "ALBUM  OF  THE  YEAR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21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ENTS ARE THERE IN "TWO BI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QUOTE BY HENRY DAVID THOREAU: "THE SMALLEST SEED OF ____ IS BETTER THAN THE LARGEST FRUIT OF HAPPI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ON THE CW FEATURES TWO BROTHERS WHO HUNT DEMONS, GHOSTS, AND OTHER MONS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GEORGE H. W. BUSH BECOM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OULD BRITISH PEOPLE SPELL THE WORD MEANING "UNVERIFIED STORIES CIRCULATING AS GOSSI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ABOUT BLACKJACK GOT ITS NAME FROM ANOTHER NAME FOR THAT GAM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TOWER MENTIONED IN GENESIS 11 TO EXPLAIN DIFFERENT LANGUA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7:08:51Z</dcterms:created>
  <dc:creator>Jennifer Budzinski</dc:creator>
  <dc:description/>
  <dc:language>en-US</dc:language>
  <cp:lastModifiedBy>Erich Friedman</cp:lastModifiedBy>
  <dcterms:modified xsi:type="dcterms:W3CDTF">2020-08-30T09:33:57Z</dcterms:modified>
  <cp:revision>404</cp:revision>
  <dc:subject/>
  <dc:title>Slide 1</dc:title>
</cp:coreProperties>
</file>