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F1CF-EB37-440A-BB16-424C0FE6E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0C1-0087-49F6-985D-094FFD60E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65CB-CDD9-4730-95BC-841789237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01E-055B-40E2-B14F-A1858B56E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28F0-723F-43FF-9E71-46DA47018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0839-A2D6-4C01-804E-BEFF02C2C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7D14-CD3A-4317-8C3C-71BB3FBC6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ACAC-A15E-48FC-80F5-A21A93BE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C7F6-04B6-4FA4-BC26-0EAEF7D02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F208-BD09-491A-B8FD-8B4BF4395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128D-0883-4D5B-B670-CFEB2701D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821F-5359-46E7-8797-065D1EB1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EFF5-DD52-4D22-880C-1FE3E7157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A31-98CB-4381-A2E6-2012BF740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B444-C04E-4B7F-9DB4-50D039F2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96FC-2167-47E6-B23A-1E9CEC762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D808-9812-42D6-8E0F-AF0301ACB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9250-3A6D-45DE-A82F-84C6D4481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4238-AF65-4F34-A246-58042D144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2139-6201-4B5D-9A41-FC41E1A45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D303B-A03E-47BB-82B8-8D465E72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1C5E-DD3B-42E4-BDB9-087575C9D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3A34-E00D-4B37-9ACE-A8191F7BC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: IDENTIFY THESE FAMOUS 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280_jennifer_beals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WINK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2018_Henry_Winkler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REED  ZAK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Fareed-Zakaria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  WHI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eli-whitney.jp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LIVER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oliver-stone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72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YA  SOTOMA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sotomayor-via-smithsonian-institution-screengrab-e1533754826621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LIEBER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lieberman-joseph-800x600.jpg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P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220px-Vincent_Price_in_House_on_Haunted_Hill_(cropped)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64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2018_Henry_Winkler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3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BENJAMIN  SP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578503aed5c07-e1468335481396-900x540.jpg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BE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1280_jennifer_beals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1219320" y="4419720"/>
            <a:ext cx="6705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ALL  GRADUATES  OF  YALE  UNIVERSIT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areed-Zakaria.jpg"/>
          <p:cNvPicPr/>
          <p:nvPr/>
        </p:nvPicPr>
        <p:blipFill>
          <a:blip r:embed="rId1"/>
          <a:stretch/>
        </p:blipFill>
        <p:spPr>
          <a:xfrm>
            <a:off x="1676520" y="1295280"/>
            <a:ext cx="579096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eli-whitney.jp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oliver-stone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72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sotomayor-via-smithsonian-institution-screengrab-e1533754826621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lieberman-joseph-800x600.jpg"/>
          <p:cNvPicPr/>
          <p:nvPr/>
        </p:nvPicPr>
        <p:blipFill>
          <a:blip r:embed="rId1"/>
          <a:stretch/>
        </p:blipFill>
        <p:spPr>
          <a:xfrm>
            <a:off x="2057400" y="1295280"/>
            <a:ext cx="495288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220px-Vincent_Price_in_House_on_Haunted_Hill_(cropped)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64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578503aed5c07-e1468335481396-900x540.jpg"/>
          <p:cNvPicPr/>
          <p:nvPr/>
        </p:nvPicPr>
        <p:blipFill>
          <a:blip r:embed="rId1"/>
          <a:stretch/>
        </p:blipFill>
        <p:spPr>
          <a:xfrm>
            <a:off x="1523880" y="1295280"/>
            <a:ext cx="6172200" cy="3703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2:38:04Z</dcterms:created>
  <dc:creator>Jennifer Budzinski</dc:creator>
  <dc:description/>
  <dc:language>en-US</dc:language>
  <cp:lastModifiedBy>Erich Friedman</cp:lastModifiedBy>
  <dcterms:modified xsi:type="dcterms:W3CDTF">2020-08-30T09:34:38Z</dcterms:modified>
  <cp:revision>293</cp:revision>
  <dc:subject/>
  <dc:title>Slide 1</dc:title>
</cp:coreProperties>
</file>