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C4EE-68B5-45F3-A944-6255AA8FF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048A-990B-4D43-9E2E-17815873C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3B8B-DF63-4EC1-AC42-9EB12F954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2380-AD0A-4D53-BF8B-F01ECF6A0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3467-480B-4F42-986F-80C4FD182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4FC4-D2DE-4516-B432-916C6B3A0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0743-D249-43DA-B2C7-7A17E2B1E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D51E-FCE6-46B7-8F21-7BA06EC72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D1DE-B0D4-429D-83A1-8999F263E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1234-7080-4F32-A323-16F4968F4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F0EC-2196-4C4E-B01C-A23D0201D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58C4-D805-4DA4-9F31-3D9685A55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24A8-DD27-44E0-BEA4-253D829CF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6F17-8199-4D6F-A9DA-13CFCDD42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F4B9-9592-42F3-92EE-09DC8114F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D353-B9DB-44C9-9694-E1D781B0A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644A-8A58-4D7B-91CD-385625856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4C5A-E907-4F93-960A-87B55AC37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F142-19B7-473D-98C3-C3F5E1D61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9F2F-6511-4C76-B119-3E73E778E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B21C-B16D-4A5A-B92B-7A57423B5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1128-2BEF-4C30-8EB1-3355A78B9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BBF2-9C17-4F3C-8A43-988E87287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4475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: IDENTIFY THESE FAMOUS PEO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1280_jennifer_beals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WINK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2018_Henry_Winkler.jpg"/>
          <p:cNvPicPr/>
          <p:nvPr/>
        </p:nvPicPr>
        <p:blipFill>
          <a:blip r:embed="rId1"/>
          <a:stretch/>
        </p:blipFill>
        <p:spPr>
          <a:xfrm>
            <a:off x="2133720" y="1295280"/>
            <a:ext cx="48736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REED  ZAK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Fareed-Zakaria.jpg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6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  WHIT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eli-whitney.jpg"/>
          <p:cNvPicPr/>
          <p:nvPr/>
        </p:nvPicPr>
        <p:blipFill>
          <a:blip r:embed="rId1"/>
          <a:stretch/>
        </p:blipFill>
        <p:spPr>
          <a:xfrm>
            <a:off x="1219320" y="1295280"/>
            <a:ext cx="6705360" cy="368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R  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3" descr="oliver-stone.jpg"/>
          <p:cNvPicPr/>
          <p:nvPr/>
        </p:nvPicPr>
        <p:blipFill>
          <a:blip r:embed="rId1"/>
          <a:stretch/>
        </p:blipFill>
        <p:spPr>
          <a:xfrm>
            <a:off x="1828800" y="1295280"/>
            <a:ext cx="5372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YA  SOTOMAY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sotomayor-via-smithsonian-institution-screengrab-e1533754826621.jpg"/>
          <p:cNvPicPr/>
          <p:nvPr/>
        </p:nvPicPr>
        <p:blipFill>
          <a:blip r:embed="rId1"/>
          <a:stretch/>
        </p:blipFill>
        <p:spPr>
          <a:xfrm>
            <a:off x="1371600" y="1295280"/>
            <a:ext cx="63500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LIEB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lieberman-joseph-800x600.jpg"/>
          <p:cNvPicPr/>
          <p:nvPr/>
        </p:nvPicPr>
        <p:blipFill>
          <a:blip r:embed="rId1"/>
          <a:stretch/>
        </p:blipFill>
        <p:spPr>
          <a:xfrm>
            <a:off x="2057400" y="12952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NCENT 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3" descr="220px-Vincent_Price_in_House_on_Haunted_Hill_(cropped)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64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2018_Henry_Winkler.jpg"/>
          <p:cNvPicPr/>
          <p:nvPr/>
        </p:nvPicPr>
        <p:blipFill>
          <a:blip r:embed="rId1"/>
          <a:stretch/>
        </p:blipFill>
        <p:spPr>
          <a:xfrm>
            <a:off x="2133720" y="1295280"/>
            <a:ext cx="48736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.  BENJAMIN  SP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578503aed5c07-e1468335481396-900x540.jpg"/>
          <p:cNvPicPr/>
          <p:nvPr/>
        </p:nvPicPr>
        <p:blipFill>
          <a:blip r:embed="rId1"/>
          <a:stretch/>
        </p:blipFill>
        <p:spPr>
          <a:xfrm>
            <a:off x="1523880" y="1295280"/>
            <a:ext cx="6172200" cy="370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BE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" descr="1280_jennifer_beals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1219320" y="4419720"/>
            <a:ext cx="6705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LL  GRADUATES  OF  YALE  UNIVERSITY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Fareed-Zakaria.jpg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6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eli-whitney.jpg"/>
          <p:cNvPicPr/>
          <p:nvPr/>
        </p:nvPicPr>
        <p:blipFill>
          <a:blip r:embed="rId1"/>
          <a:stretch/>
        </p:blipFill>
        <p:spPr>
          <a:xfrm>
            <a:off x="1219320" y="1295280"/>
            <a:ext cx="6705360" cy="36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oliver-stone.jpg"/>
          <p:cNvPicPr/>
          <p:nvPr/>
        </p:nvPicPr>
        <p:blipFill>
          <a:blip r:embed="rId1"/>
          <a:stretch/>
        </p:blipFill>
        <p:spPr>
          <a:xfrm>
            <a:off x="1828800" y="1295280"/>
            <a:ext cx="5372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sotomayor-via-smithsonian-institution-screengrab-e1533754826621.jpg"/>
          <p:cNvPicPr/>
          <p:nvPr/>
        </p:nvPicPr>
        <p:blipFill>
          <a:blip r:embed="rId1"/>
          <a:stretch/>
        </p:blipFill>
        <p:spPr>
          <a:xfrm>
            <a:off x="1371600" y="1295280"/>
            <a:ext cx="63500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lieberman-joseph-800x600.jpg"/>
          <p:cNvPicPr/>
          <p:nvPr/>
        </p:nvPicPr>
        <p:blipFill>
          <a:blip r:embed="rId1"/>
          <a:stretch/>
        </p:blipFill>
        <p:spPr>
          <a:xfrm>
            <a:off x="2057400" y="12952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220px-Vincent_Price_in_House_on_Haunted_Hill_(cropped)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64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578503aed5c07-e1468335481396-900x540.jpg"/>
          <p:cNvPicPr/>
          <p:nvPr/>
        </p:nvPicPr>
        <p:blipFill>
          <a:blip r:embed="rId1"/>
          <a:stretch/>
        </p:blipFill>
        <p:spPr>
          <a:xfrm>
            <a:off x="1523880" y="1295280"/>
            <a:ext cx="6172200" cy="370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1T12:38:04Z</dcterms:created>
  <dc:creator>Jennifer Budzinski</dc:creator>
  <dc:description/>
  <dc:language>en-US</dc:language>
  <cp:lastModifiedBy>Erich Friedman</cp:lastModifiedBy>
  <dcterms:modified xsi:type="dcterms:W3CDTF">2020-08-30T09:34:38Z</dcterms:modified>
  <cp:revision>293</cp:revision>
  <dc:subject/>
  <dc:title>Slide 1</dc:title>
</cp:coreProperties>
</file>