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C9B7-D7FD-493B-8050-A0CACB9E3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A9E1-AE97-41C8-8EE6-59B0F9CAD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A743-5B4B-4741-9179-A2137D607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6A9A-B5A7-417E-80A5-F4E26D673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F877-BF64-4BA7-B10C-1AB492779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2B47-C548-42DF-8AE2-839442AC2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1C32-176E-4C55-B837-CB8EC2545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150F-A20A-4C97-B381-330E1773F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6254-1DCB-4A20-8565-110326082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0BE9-974D-4A3B-86B0-959D0A3D0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4839-ED9C-4343-BF38-93F477EF5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A3D0-11D6-4A21-94CD-5A910B37D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2ECE-9D21-4E47-BAD9-D6D876C5C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9CA3-FC5F-4429-8DB6-5C8ABEA88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6950-C6DC-4775-9A5E-009FD2A47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4411-87F8-4858-A9C7-9224EBB0D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3331-0795-4393-A6F9-1CB8C551D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F619-39E5-4E72-9386-2B2B34E4D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2046-ACAB-4BFF-B112-3AB8C3144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0D9B-45D3-49EE-8DBD-804E7B977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739E-B129-45C7-B298-2F5A90CCC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9739-7772-460E-B910-C0BCC6186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C36E-A3E1-4437-9616-5EB8C0503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WOODY ALLEN FILM DID MIRA SORVINO WIN HER OSCAR FOR BEST SUPPORTING ACT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AIA  HYPO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EORY SAYS LIFE IS A SELF-REGULATING SYSTEM THAT PERPETUATES ITSELF ON PLANET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HARRY POTTER BOOKS, WHAT IS THE NAME OF PERCY WEASLEY'S OW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GREAT DANE WHO HOLDS THE GUINNESS WORLD RECORD FOR THE TALLEST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T'S NAME IS THE MOST COMMONLY MISPRONOUNCED? (SNICKER, SNICK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M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BTITLE OF THE LAST FILM MADE BY THE CAST OF "STAR TREK: THE NEXT GENER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OS:  MAKING  A  NEW 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H BOOK BY JAMES GLEICK WAS A FINALIST FOR THE SCIENCE BOOK PRIZE, THE NATIONAL BOOK AWARD, AND THE PULITZER PR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OSEIDON  ADVEN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2 FILM IS ABOUT A LUXURY LINER OVERTURNED BY A TIDAL W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EORY SAYS LIFE IS A SELF-REGULATING SYSTEM THAT PERPETUATES ITSELF ON PLANET EA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OLLO  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MISSION THAT RESULTED IN THE LAST LUNAR LAN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GHTY  APHROD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WOODY ALLEN FILM DID MIRA SORVINO WIN HER OSCAR FOR BEST SUPPORTING AC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343400"/>
            <a:ext cx="7086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GREEK  GODS  AND  GODD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HARRY POTTER BOOKS, WHAT IS THE NAME OF PERCY WEASLEY'S OWL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GREAT DANE WHO HOLDS THE GUINNESS WORLD RECORD FOR THE TALLEST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T'S NAME IS THE MOST COMMONLY MISPRONOUNCED? (SNICKER, SNICKE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BTITLE OF THE LAST FILM MADE BY THE CAST OF "STAR TREK: THE NEXT GENER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H BOOK BY JAMES GLEICK WAS A FINALIST FOR THE SCIENCE BOOK PRIZE, THE NATIONAL BOOK AWARD, AND THE PULITZER PRIZ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2 FILM IS ABOUT A LUXURY LINER OVERTURNED BY A TIDAL W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MISSION THAT RESULTED IN THE LAST LUNAR LAN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0T19:33:46Z</dcterms:created>
  <dc:creator>Jennifer Budzinski</dc:creator>
  <dc:description/>
  <dc:language>en-US</dc:language>
  <cp:lastModifiedBy>Erich Friedman</cp:lastModifiedBy>
  <dcterms:modified xsi:type="dcterms:W3CDTF">2020-08-30T09:35:18Z</dcterms:modified>
  <cp:revision>458</cp:revision>
  <dc:subject/>
  <dc:title>Slide 1</dc:title>
</cp:coreProperties>
</file>