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BF06-2F75-4959-9B00-D92855C7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18F-6ECA-492F-AEDE-5A6169BD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5E52-DCA2-4F6A-8414-643077FB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09E-C005-4520-BEC8-AA8CE7A50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70C-1C33-474F-A120-050998530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AFB3-9D9B-4DFD-8B50-2DAC2589A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DC8D-9F1D-4160-81EF-4BE662FC6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E63A-BBC7-4621-81C6-1B666F832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67DC-4F97-45A7-9592-880F240F3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38C3-244C-44F3-A548-EE9C5D51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EB9F-98AC-4CBC-A93F-888BFE03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073F-4151-478C-8AFE-9690B69B6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2F4B-A238-4BFA-84D5-C359BD347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AB66-9037-4E47-B5E6-B63FB6EA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FBDF-85CA-40E8-9104-02678E79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12F2-F620-4032-A7CA-D5EA4192C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D679-D79B-4EA8-84BA-D6C6790D0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27F7-E041-464F-BE5B-F1F6B346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D9C6-C276-4AA9-A68B-3F22E4DE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0A87-86E2-40C0-ABFD-4C2D0081D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621-CF2A-4794-9E58-2F398FF11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02A7-B7E7-44DA-85EE-C991A996E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5FA2-2D29-428D-B3E5-481FBAFE6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WOODY ALLEN FILM DID MIRA SORVINO WIN HER OSCAR FOR BEST SUPPORTING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AIA  HYPO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SAYS LIFE IS A SELF-REGULATING SYSTEM THAT PERPETUATES ITSELF ON PLANET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ARRY POTTER BOOKS, WHAT IS THE NAME OF PERCY WEASLEY'S OW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REAT DANE WHO HOLDS THE GUINNESS WORLD RECORD FOR THE TALLEST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NAME IS THE MOST COMMONLY MISPRONOUNCED? (SNICKER, SNIC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LAST FILM MADE BY THE CAST OF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OS:  MAKING  A  NEW 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 BOOK BY JAMES GLEICK WAS A FINALIST FOR THE SCIENCE BOOK PRIZE, THE NATIONAL BOOK AWARD, AND THE PULITZER PR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EIDON 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IS ABOUT A LUXURY LINER OVERTURNED BY A TIDAL W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SAYS LIFE IS A SELF-REGULATING SYSTEM THAT PERPETUATES ITSELF ON PLANET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ISSION THAT RESULTED IN THE LA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APHROD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WOODY ALLEN FILM DID MIRA SORVINO WIN HER OSCAR FOR BEST SUPPORTING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086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GREEK  GODS  AND  GODD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ARRY POTTER BOOKS, WHAT IS THE NAME OF PERCY WEASLEY'S OW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REAT DANE WHO HOLDS THE GUINNESS WORLD RECORD FOR THE TALLEST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NAME IS THE MOST COMMONLY MISPRONOUNCED? (SNICKER, SNIC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LAST FILM MADE BY THE CAST OF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 BOOK BY JAMES GLEICK WAS A FINALIST FOR THE SCIENCE BOOK PRIZE, THE NATIONAL BOOK AWARD, AND THE PULITZER PR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IS ABOUT A LUXURY LINER OVERTURNED BY A TIDAL W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ISSION THAT RESULTED IN THE LA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9:33:46Z</dcterms:created>
  <dc:creator>Jennifer Budzinski</dc:creator>
  <dc:description/>
  <dc:language>en-US</dc:language>
  <cp:lastModifiedBy>Erich Friedman</cp:lastModifiedBy>
  <dcterms:modified xsi:type="dcterms:W3CDTF">2020-08-30T09:35:18Z</dcterms:modified>
  <cp:revision>458</cp:revision>
  <dc:subject/>
  <dc:title>Slide 1</dc:title>
</cp:coreProperties>
</file>