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B1EE-F11A-4AE4-905A-1F4DBC515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E457-147F-4E61-9BCF-D42524B12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63C5-3408-47FC-85ED-E1AAE11B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CCDD-D8D3-416F-A885-6171834B2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69B-46BF-43C9-8036-3B082EB73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871C-5DA2-475D-9DA1-BBADDCECA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D2F4-6771-4359-A551-E6003FF3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12D5-69E0-4F02-B43E-61CB95C48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B6DC-A5A3-4F36-BB8B-69DC0EAD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03AD-E7FE-4DCB-969A-9FE946D2F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ED06-A08C-4AE1-9AB3-147A98EC0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952E-635C-487C-9111-A1D20AAE6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CD54-C1A5-4FE5-ACB2-0DFA567A6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4A02-344D-444E-98D9-8DC6617C6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1A37-ADF4-4B29-8D8A-715D180E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C528-137E-4A23-9A1A-03120FBA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0C6-BAC8-4021-AFA0-0FBFF75BB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637C-07EF-43E5-AC56-8B38865C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E676-8EA5-4EC7-B5CB-AB4D8368E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768-6745-456B-9322-C7761ABB1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360E-94C6-440C-B2FA-ADC08BD5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D5E-CEFC-4316-A4F6-51073AF6A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8BAD-DEDD-4FF3-ACDD-249E453F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WOODY ALLEN FILM DID MIRA SORVINO WIN HER OSCAR FOR BEST SUPPORTING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AIA  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SAYS LIFE IS A SELF-REGULATING SYSTEM THAT PERPETUATES ITSELF ON PLANET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ARRY POTTER BOOKS, WHAT IS THE NAME OF PERCY WEASLEY'S OW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REAT DANE WHO HOLDS THE GUINNESS WORLD RECORD FOR THE TALLEST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NAME IS THE MOST COMMONLY MISPRONOUNCED? (SNICKER, SNICK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M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LAST FILM MADE BY THE CAST OF "STAR TREK: THE NEXT GENER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OS:  MAKING  A  NEW 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 BOOK BY JAMES GLEICK WAS A FINALIST FOR THE SCIENCE BOOK PRIZE, THE NATIONAL BOOK AWARD, AND THE PULITZER PR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EIDON  ADVEN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IS ABOUT A LUXURY LINER OVERTURNED BY A TIDAL W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SAYS LIFE IS A SELF-REGULATING SYSTEM THAT PERPETUATES ITSELF ON PLANET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ISSION THAT RESULTED IN THE LAST LUNAR L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HTY  APHROD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WOODY ALLEN FILM DID MIRA SORVINO WIN HER OSCAR FOR BEST SUPPORTING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086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GREEK  GODS  AND  GODD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ARRY POTTER BOOKS, WHAT IS THE NAME OF PERCY WEASLEY'S OW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REAT DANE WHO HOLDS THE GUINNESS WORLD RECORD FOR THE TALLEST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NAME IS THE MOST COMMONLY MISPRONOUNCED? (SNICKER, SNICK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LAST FILM MADE BY THE CAST OF "STAR TREK: THE NEXT GENE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 BOOK BY JAMES GLEICK WAS A FINALIST FOR THE SCIENCE BOOK PRIZE, THE NATIONAL BOOK AWARD, AND THE PULITZER PR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IS ABOUT A LUXURY LINER OVERTURNED BY A TIDAL W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ISSION THAT RESULTED IN THE LAST LUNAR LAN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9:33:46Z</dcterms:created>
  <dc:creator>Jennifer Budzinski</dc:creator>
  <dc:description/>
  <dc:language>en-US</dc:language>
  <cp:lastModifiedBy>Erich Friedman</cp:lastModifiedBy>
  <dcterms:modified xsi:type="dcterms:W3CDTF">2020-08-30T09:35:18Z</dcterms:modified>
  <cp:revision>458</cp:revision>
  <dc:subject/>
  <dc:title>Slide 1</dc:title>
</cp:coreProperties>
</file>