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0922-601E-49FF-B2D9-465C7663B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63B-4BF8-40CB-849D-995E526C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907F-0259-4AFB-8C43-396DE043A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D7A-79AA-47CF-9747-CF69A74F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E62-318F-4FE8-8345-736B7E8D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A5E-B105-498F-AF57-BCB10B2D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047-FDCF-4789-BEBA-D3C75BA5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321-4164-4A90-83CA-E4A125B9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F32-D45A-473E-88E1-939EDEC1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369-A175-48E1-97AE-6210AB2B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369-3133-4684-A510-9AB90FDC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487-DB02-4F33-90C4-807F3CB3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015A-174D-4558-A914-7F09D313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22F4-1003-4FC0-BC57-64BFD7E9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07D-01A4-481C-AA74-8D80341A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695C-B627-45D5-8059-1ED85781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F35-2BB6-4427-9F70-B39891AE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48A-6E16-4482-8F89-F8D0DA23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1B1-FF49-422C-B8A2-452CAB67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4DB-E9B2-485A-ADAB-2BF1C293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0F0F-421C-4561-8CF1-39A122A6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825A-ED49-419E-B8AD-F401CFDA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936F-83BE-4179-AD53-15628F07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ON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220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AN)  FLE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5240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WEY)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 ON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9:30:15Z</dcterms:created>
  <dc:creator>Jennifer Budzinski</dc:creator>
  <dc:description/>
  <dc:language>en-US</dc:language>
  <cp:lastModifiedBy>Erich Friedman</cp:lastModifiedBy>
  <dcterms:modified xsi:type="dcterms:W3CDTF">2020-08-30T11:38:03Z</dcterms:modified>
  <cp:revision>455</cp:revision>
  <dc:subject/>
  <dc:title>Slide 1</dc:title>
</cp:coreProperties>
</file>