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298D-884A-4E43-A5E5-3BBBEA459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5E2-085E-4919-80A1-37770790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4A64-6221-41DB-82C8-0653DE74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676-E692-45B0-8A78-3F755080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C92D-2307-417E-AD77-5E7CAD40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2B65-9ECF-4280-A95B-1C08FDE9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C1F5-DB8F-4DAC-BC92-7B13C152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C95E-0258-4B69-8C8D-2328001D4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9AC-EEC3-4BBC-B937-4C6AB894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0D27-1888-4BA1-B12D-757BC23C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74DB-9FD5-417D-93BA-13332CBC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ED42-610C-4EF0-9D39-E22E923D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BAF0-09EF-42FB-B940-D2F92A8E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D7FF-0C2C-41AB-BDEA-DCE0DF63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0E17-D861-4CD1-8368-93692351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ECA5-CD1D-418F-BDA7-D2DA8952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5CA9-C7D6-4BDC-80B5-EDC4C1CA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6EA6-511D-44F7-992B-4A7D0376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3B35-016E-47A5-A96C-F5236A3F9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991-F620-41D9-B28D-B04C38AF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92BF-AB16-4EF9-B022-CEC3659A9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0325-75A7-4062-99F3-16A0F015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A4A3-8398-4AD7-A0B0-91240248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LISA'S MUSIC TEACHER   ON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220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VEGAS HOTEL AND CASINO WAS THE FAVORITE VENUE OF "THE RAT PACK", AND THE SET OF THE 1960 FILM "OCEANS 1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GREEN-EYED LADY" AND "DON'T CALL US, WE'LL CALL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AN)  FLE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THE JAMES BOND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IS FEATURED IN ADVERTISEMENTS FOR AFL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U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5240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LAST NAME OF THE LOUISIANA SENATOR WHO WAS ASSASSINATED IN 1935, ONLY TO HAVE HIS WIFE AND THEN SON SERVE IN THE SAME SENATE S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S CALL IT THE TRUNK OF A CAR.  WHAT WORD DO THE BRITISH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OTS OF LAND DID MOST SLAVES WORK IN THE AMERICAN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VEGAS HOTEL AND CASINO WAS THE FAVORITE VENUE OF "THE RAT PACK", AND THE SET OF THE 1960 FILM "OCEANS 1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DAMASCUS FROM BAGH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WEY)  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LISA'S MUSIC TEACHER    ON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ORIDA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GREEN-EYED LADY" AND "DON'T CALL US, WE'LL CALL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THE JAMES BOND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IS FEATURED IN ADVERTISEMENTS FOR AFL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LAST NAME OF THE LOUISIANA SENATOR WHO WAS ASSASSINATED IN 1935, ONLY TO HAVE HIS WIFE AND THEN SON SERVE IN THE SAME SENATE SE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S CALL IT THE TRUNK OF A CAR.  WHAT WORD DO THE BRITISH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OTS OF LAND DID MOST SLAVES WORK IN THE AMERICAN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DAMASCUS FROM BAGH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9:30:15Z</dcterms:created>
  <dc:creator>Jennifer Budzinski</dc:creator>
  <dc:description/>
  <dc:language>en-US</dc:language>
  <cp:lastModifiedBy>Erich Friedman</cp:lastModifiedBy>
  <dcterms:modified xsi:type="dcterms:W3CDTF">2020-08-30T11:38:03Z</dcterms:modified>
  <cp:revision>455</cp:revision>
  <dc:subject/>
  <dc:title>Slide 1</dc:title>
</cp:coreProperties>
</file>