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2664-FE41-4567-A2D7-F35779B4D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2996-EC92-420A-BFB8-90A293289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23D9-54D2-458F-BF62-65CA4C1DD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6ED8-1145-4B53-AA2B-18FFD2173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BF75-A4BE-42A6-9002-8999484E7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EB848-73E1-4ADC-8B4A-5BEC9579F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FAFB-1D4A-4160-8954-5B6D488E6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C93A-E986-48F9-83B7-02242CC81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BF78-1275-4711-AA14-BFE65CE3C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76C4-FCDC-4C52-85B0-03254358B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5494-59B9-4AC7-851A-11CA6B685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E3B7-75DE-4FB6-B5AB-6AC2938F2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3021-9BC5-4196-88A1-ED253D54F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4F09-ABE3-4450-A79F-C11B3DE76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A94C-615C-4D67-9139-8CA0B23CE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1653-655D-467A-8439-6D6D89B66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F2FB-5CE5-4B94-A835-98A844FC0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7BEC-E255-4BCE-9616-7A54124DD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5A91-FE1F-4257-8E2E-2E4166C29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1774F-2457-4367-8629-C86F82037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2935-F62C-4A13-BC55-F6A46552D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5063-8B6A-44E9-A244-4C1D89FCF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264A-ECCA-43AF-A884-25C034C26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LISA'S MUSIC TEACHER   ON "THE SIMPSO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9220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VEGAS HOTEL AND CASINO WAS THE FAVORITE VENUE OF "THE RAT PACK", AND THE SET OF THE 1960 FILM "OCEANS 11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LOA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GREEN-EYED LADY" AND "DON'T CALL US, WE'LL CALL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AN)  FLE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WHO WROTE THE JAMES BOND NO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638360" y="762120"/>
            <a:ext cx="586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NIMAL IS FEATURED IN ADVERTISEMENTS FOR AFLA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UEY)  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66760" y="752400"/>
            <a:ext cx="8610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LAST NAME OF THE LOUISIANA SENATOR WHO WAS ASSASSINATED IN 1935, ONLY TO HAVE HIS WIFE AND THEN SON SERVE IN THE SAME SENATE SE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ERICANS CALL IT THE TRUNK OF A CAR.  WHAT WORD DO THE BRITISH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PLOTS OF LAND DID MOST SLAVES WORK IN THE AMERICAN S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VEGAS HOTEL AND CASINO WAS THE FAVORITE VENUE OF "THE RAT PACK", AND THE SET OF THE 1960 FILM "OCEANS 11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IS DAMASCUS FROM BAGH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EWEY)  L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LISA'S MUSIC TEACHER    ON "THE SIMPS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LORIDA  K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GREEN-EYED LADY" AND "DON'T CALL US, WE'LL CALL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WHO WROTE THE JAMES BOND NO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NIMAL IS FEATURED IN ADVERTISEMENTS FOR AFLA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LAST NAME OF THE LOUISIANA SENATOR WHO WAS ASSASSINATED IN 1935, ONLY TO HAVE HIS WIFE AND THEN SON SERVE IN THE SAME SENATE SE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ERICANS CALL IT THE TRUNK OF A CAR.  WHAT WORD DO THE BRITISH 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PLOTS OF LAND DID MOST SLAVES WORK IN THE AMERICAN SOU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ION IS DAMASCUS FROM BAGHD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19:30:15Z</dcterms:created>
  <dc:creator>Jennifer Budzinski</dc:creator>
  <dc:description/>
  <dc:language>en-US</dc:language>
  <cp:lastModifiedBy>Erich Friedman</cp:lastModifiedBy>
  <dcterms:modified xsi:type="dcterms:W3CDTF">2020-08-30T11:38:03Z</dcterms:modified>
  <cp:revision>455</cp:revision>
  <dc:subject/>
  <dc:title>Slide 1</dc:title>
</cp:coreProperties>
</file>