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7A0F-93BE-47CA-809D-7096103BD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3CC2-9BE3-4281-971A-B6AF20D15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C50A-BACA-446F-B3BC-45DBD0AB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E465-2B5E-448A-B7C5-87029190C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837C-6B16-4468-A5AF-8533431F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611F-AF38-4FE2-A306-EB4A8794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C1E3-4153-4C50-BA1B-CF392E64B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D9FE-0117-4BD8-A7DA-331E147B4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DD97-1132-4BAE-BC2E-ED36638DF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2466-7CBF-4E26-9771-DB73C9B1B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FDDC-F946-4BC4-AF06-794B38476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6E4A-337A-4F3A-B86D-ADB84E09F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9379-D175-43BE-A289-E6E39472A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CD7B-5D91-4E85-97FB-39B6CE9ED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7619-AD98-4A7D-87C8-D4FCB0C99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F120-01FD-4A9B-A180-B8A7A076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0F9A-6119-4550-8090-F6F64EB22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23DC-EC4D-4551-948D-AD72772A9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6B41-8539-418C-8D99-F07948B76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2E8C-437D-40BE-8FA8-98BCF3E6D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DD6A-87B7-4CCC-8154-D6E26B729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9CB8-C9DC-4B0C-8678-888CB332E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99C4-554F-42CC-9A7E-9D813DF16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DETECTIVE REY CURTIS ON "LAW &amp; ORDER" FOR 5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TRUE GRIT", WHAT BODY PART IS ROOSTER COGBURN MISSING ON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SANTA'S 8 REINDEER GETS MENTIONE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THE POEM THAT BEGINS "'TWAS THE NIGHT BEFORE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762120"/>
            <a:ext cx="5105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UE REGION IS CALLED A SEGMENT.  THE GREEN REGION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8432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5100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CTIVE NOUN IS USED FOR FISH AND WH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5240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EGORY OF AIRFARE IS HIGHER THAN ECONOMY, PLUS, AND BUSI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VIOLINIST MISCHA ELMAN FAMOUSLY TELL 2 TOURISTS WHO ASKED HIM "HOW DO YOU GET TO CARNEGIE HALL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A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TOUCHES BOTH WASHINGTON AND UT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TRUE GRIT", WHAT BODY PART IS ROOSTER COGBURN MISSING ON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THEIR "WHERE'S THE BEEF" SLOGAN, WENDY'S NEXT AD CAMPAIGN FEATURED THE PHRASE  "____ IS ____".  WHAT WAS THE MISSING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(BRAT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DETECTIVE REY CURTIS ON "LAW &amp; ORDER" FOR 5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PRIVAT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SANTA'S 8 REINDEER GETS MENTIONE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THE POEM THAT BEGINS "'TWAS THE NIGHT BEFORE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28600" y="838080"/>
            <a:ext cx="5181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UE REGION IS CALLED A SEGMENT.  THE GREEN REGION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8432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CTIVE NOUN IS USED FOR FISH AND WH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EGORY OF AIRFARE IS HIGHER THAN ECONOMY, PLUS, AND BUSIN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VIOLINIST MISCHA ELMAN FAMOUSLY TELL 2 TOURISTS WHO ASKED HIM "HOW DO YOU GET TO CARNEGIE HALL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TOUCHES BOTH WASHINGTON AND UT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THEIR "WHERE'S THE BEEF" SLOGAN, WENDY'S NEXT AD CAMPAIGN FEATURED THE PHRASE  "____ IS ____".  WHAT WAS THE MISSING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5:18:55Z</dcterms:created>
  <dc:creator>Jennifer Budzinski</dc:creator>
  <dc:description/>
  <dc:language>en-US</dc:language>
  <cp:lastModifiedBy>Erich Friedman</cp:lastModifiedBy>
  <dcterms:modified xsi:type="dcterms:W3CDTF">2020-08-30T11:38:48Z</dcterms:modified>
  <cp:revision>455</cp:revision>
  <dc:subject/>
  <dc:title>Slide 1</dc:title>
</cp:coreProperties>
</file>