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0D2C-AA0B-4BCF-97CA-BC837314F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F1AE-9C0E-454C-8519-761BC5CA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639E-DC07-4FBA-9792-EFE6C1C8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1935-360D-48F1-9FDD-DA7BFBF8C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4CE3-7FE9-4F3C-BB32-3DBABD3F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74A2-C15A-460A-B5A7-15A4E97D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E9F2-E7E0-4DF4-B975-FFA3D3EB9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2202-B37E-4ED5-88A8-908D387C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4345-CB24-4AA7-8967-37E77B760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5950-1286-4F56-BEFA-D8603DF5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8BA0-A94E-4811-983A-7C3EB65A4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2331-0226-4849-B08E-329ECE7A7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74B0-3751-4313-98EB-F477CCC1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B069-17B7-426E-8D1F-EEE17817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E798-E21C-4327-9E05-3F9AFAF38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2F6B-B657-477D-AC5F-06748F9B2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591F-7B88-4A05-8C91-EBB870AC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D703-31CF-4F32-9009-C4AF8A94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E584-659E-40B3-A35F-06EF29AB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AE0D-84DD-4E2D-95E4-179332F13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141F-171A-44CA-A793-3A751E7F0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5D3E-423F-449D-9B92-FDCD8D32C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E265-BD66-433F-8561-352EEC495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TECTIVE REY CURTIS ON "LAW &amp; ORDER" FOR 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RUE GRIT", WHAT BODY PART IS ROOSTER COGBURN MISSING ON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SANTA'S 8 REINDEER GETS MENTIONE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POEM THAT BEGINS "'TWAS THE NIGHT BEFOR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762120"/>
            <a:ext cx="5105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EGION IS CALLED A SEGMENT.  THE GREEN REG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843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5100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VE NOUN IS USED FOR FISH AND WH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524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EGORY OF AIRFARE IS HIGHER THAN ECONOMY, PLUS, AND BUSI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VIOLINIST MISCHA ELMAN FAMOUSLY TELL 2 TOURISTS WHO ASKED HIM "HOW DO YOU GET TO CARNEGIE HALL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TOUCHES BOTH WASHINGTON AND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TRUE GRIT", WHAT BODY PART IS ROOSTER COGBURN MISSING ON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IR "WHERE'S THE BEEF" SLOGAN, WENDY'S NEXT AD CAMPAIGN FEATURED THE PHRASE  "____ IS ____".  WHAT WAS THE MISSING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(BRA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DETECTIVE REY CURTIS ON "LAW &amp; ORDER" FOR 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PRIVAT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SANTA'S 8 REINDEER GETS MENTIONE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THE POEM THAT BEGINS "'TWAS THE NIGHT BEFOR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838080"/>
            <a:ext cx="5181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EGION IS CALLED A SEGMENT.  THE GREEN REG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28843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VE NOUN IS USED FOR FISH AND WH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EGORY OF AIRFARE IS HIGHER THAN ECONOMY, PLUS, AND BUSI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VIOLINIST MISCHA ELMAN FAMOUSLY TELL 2 TOURISTS WHO ASKED HIM "HOW DO YOU GET TO CARNEGIE HALL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TOUCHES BOTH WASHINGTON AND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IR "WHERE'S THE BEEF" SLOGAN, WENDY'S NEXT AD CAMPAIGN FEATURED THE PHRASE  "____ IS ____".  WHAT WAS THE MISSING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5:18:55Z</dcterms:created>
  <dc:creator>Jennifer Budzinski</dc:creator>
  <dc:description/>
  <dc:language>en-US</dc:language>
  <cp:lastModifiedBy>Erich Friedman</cp:lastModifiedBy>
  <dcterms:modified xsi:type="dcterms:W3CDTF">2020-08-30T11:38:48Z</dcterms:modified>
  <cp:revision>455</cp:revision>
  <dc:subject/>
  <dc:title>Slide 1</dc:title>
</cp:coreProperties>
</file>