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5D26-116D-4B9C-9551-70978608F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9F1B-5915-4199-909F-C85B99A04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8F68-4BD6-4591-B4D0-B494D925B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4257-E0CF-41FF-91D2-961F8CB5F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69C3-CC0F-480C-B039-F2F32D952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FFA6-461F-4560-A03F-393CB136B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A332-683D-4607-AE38-23BFE1226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927A-FE54-40A2-A2D4-1ACD18F58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9388-47CE-4A55-8709-F849EF07F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839D-44AE-435B-ACA0-737963B37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1D8C-A5CA-4A18-B03B-A07ABDEB5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61BA-A3D9-4FE2-A181-44581EE9A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E36C-E5DE-489C-A4CB-354631D08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226C-C638-4261-92A3-5D9A27114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C75C-43B8-4F0B-B4CE-2BCC77141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C3B0-D032-4A89-A220-55C8C47BC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422D-AD8D-4974-996A-06C1FEEDF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EB3C-1F34-4AE9-A49A-35F7F1FE4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7F84-3FF0-4A8D-B075-CB97ED47D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E15C-D69E-4579-990D-A24C1002A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2970-73C9-4A0E-9F95-E5230B214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CF21-8E19-4431-A531-75DEDC731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2904-DE4D-4578-A4FA-81593E13F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DETECTIVE REY CURTIS ON "LAW &amp; ORDER" FOR 5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TRUE GRIT", WHAT BODY PART IS ROOSTER COGBURN MISSING ON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SANTA'S 8 REINDEER GETS MENTIONE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THE POEM THAT BEGINS "'TWAS THE NIGHT BEFORE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28600" y="762120"/>
            <a:ext cx="5105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LUE REGION IS CALLED A SEGMENT.  THE GREEN REGION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88432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5100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CTIVE NOUN IS USED FOR FISH AND WH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52400"/>
            <a:ext cx="8153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EGORY OF AIRFARE IS HIGHER THAN ECONOMY, PLUS, AND BUSIN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VIOLINIST MISCHA ELMAN FAMOUSLY TELL 2 TOURISTS WHO ASKED HIM "HOW DO YOU GET TO CARNEGIE HALL?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DA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TOUCHES BOTH WASHINGTON AND UT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TRUE GRIT", WHAT BODY PART IS ROOSTER COGBURN MISSING ONE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THEIR "WHERE'S THE BEEF" SLOGAN, WENDY'S NEXT AD CAMPAIGN FEATURED THE PHRASE  "____ IS ____".  WHAT WAS THE MISSING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(BRAT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DETECTIVE REY CURTIS ON "LAW &amp; ORDER" FOR 5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PRIVAT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SANTA'S 8 REINDEER GETS MENTIONE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THE POEM THAT BEGINS "'TWAS THE NIGHT BEFORE CHRIST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28600" y="838080"/>
            <a:ext cx="5181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LUE REGION IS CALLED A SEGMENT.  THE GREEN REGION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88432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CTIVE NOUN IS USED FOR FISH AND WH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EGORY OF AIRFARE IS HIGHER THAN ECONOMY, PLUS, AND BUSIN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VIOLINIST MISCHA ELMAN FAMOUSLY TELL 2 TOURISTS WHO ASKED HIM "HOW DO YOU GET TO CARNEGIE HALL?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TOUCHES BOTH WASHINGTON AND UT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THEIR "WHERE'S THE BEEF" SLOGAN, WENDY'S NEXT AD CAMPAIGN FEATURED THE PHRASE  "____ IS ____".  WHAT WAS THE MISSING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15:18:55Z</dcterms:created>
  <dc:creator>Jennifer Budzinski</dc:creator>
  <dc:description/>
  <dc:language>en-US</dc:language>
  <cp:lastModifiedBy>Erich Friedman</cp:lastModifiedBy>
  <dcterms:modified xsi:type="dcterms:W3CDTF">2020-08-30T11:38:48Z</dcterms:modified>
  <cp:revision>455</cp:revision>
  <dc:subject/>
  <dc:title>Slide 1</dc:title>
</cp:coreProperties>
</file>