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5B5A-938E-4E8C-9309-5AFD22C4D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F315-E9CD-4C60-A518-68A8730BE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FE59-0818-40F8-A4DD-FBF74D891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0940-BF4F-43AC-9A59-80999B7A8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C814-0D81-4681-819C-8EB948C59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E37A-0C22-423B-AD50-540A9AAF5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0E81-FFB3-447A-BD65-1547E8404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316A-E214-4EFB-B589-43B9FC3EB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9BA6-F3B4-4436-B012-AF6FE0948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788F-08BF-477A-9C18-DAFB1DE59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8425-BA4D-42AF-9B21-D4B9F159B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2BC5-B4C8-4B3D-9D2D-6A5247E88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C241-3DED-4778-B201-558A52C8F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5A81-DCD1-4DCC-9113-A4511B4EF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9691-C6D5-42EE-8E85-D2CE66786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0138-54EA-468F-9E69-01DBDE93E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6AA0-8E82-4A98-9D51-8EDBFFFB4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4D16-EEB3-4CC1-8CF4-669DFCDC5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AB99-887B-4C39-BD50-C46AA3308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E83F-84A5-450D-ADE5-5E942F4FB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EE7A-4B80-44C6-B773-6C2047963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4F01-ACBB-4BD4-8CD7-E493B4A41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D13F-EEE1-4D87-B2A7-87C7B6519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EMILY POST, WHO TRADITIONALLY GIVE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AST AT A WEDDING, EVEN BEFORE THE BEST 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VO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D IN 1905 BECAUSE IT WAS A NEW SUBSTITUTE FOR COCAINE, WHAT WAS THE FIRST MAN-MADE LOCAL ANESTHETIC TO CATCH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CANY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NATIONAL PARK DID VOTERS NAME THE "EIGHTH WONDER OF THE WORLD" IN A 2006 USA TODAY PO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OF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LEGEND SONG, A PIANO BALLAD DEDICATED TO HIS THEN-FIANCÉE, CHRISSY TEIGEN, BECAME HIS FIRST #1 HIT SINGLE IN 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'S  COMPLIC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VARIOUS OPTIONS FOR RELATIONSHIP STATUS ON FACEBOOK, WHICH ONE DO 5% OF PEOPLE CHOOSE, REGARDLESS OF 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0" y="838080"/>
            <a:ext cx="4800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NY KEYBOARDS, WHAT KEY IS RIGHT ABOVE THE "END" 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5416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ENTH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-2015 TV SERIES STARRING PETER KRAUSE AND LAUREN GRAHAM FOLLOWED THE BRAVERMAN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XA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SONG REPEATS THE LYRICS "YOU DON'T HAVE TO PUT ON THE RED L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D IN 1905 BECAUSE IT WAS A NEW SUBSTITUTE FOR COCAINE, WHAT WAS THE FIRST MAN-MADE LOCAL ANESTHETIC TO CATCH 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5240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WHAT IS THE RATE OF CHANGE OF ACCELERATION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HER  OF  THE  B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EMILY POST, WHO TRADITIONALLY GIVE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AST AT A WEDDING, EVEN BEFORE THE BEST 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714680" y="487692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MARTIN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NATIONAL PARK DID VOTERS NAME THE "EIGHTH WONDER OF THE WORLD" IN A 2006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USA TODA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O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LEGEND SONG, A PIANO BALLAD DEDICATED TO HIS THEN-FIANCÉE, CHRISSY TEIGEN, BECAME HIS FIRST  #1 HIT SINGLE IN 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VARIOUS OPTIONS FOR RELATIONSHIP STATUS ON FACEBOOK, WHICH ONE DO 5% OF PEOPLE CHOOSE, REGARDLESS OF 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NY KEYBOARDS, WHAT KEY IS RIGHT ABOVE THE "END" 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5416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-2015 TV SERIES STARRING PETER KRAUSE AND LAUREN GRAHAM FOLLOWED THE BRAVERMAN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SONG REPEATS THE LYRICS "YOU DON'T HAVE TO PUT ON THE RED L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WHAT IS THE RATE OF CHANGE OF ACCELERATION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1T17:07:13Z</dcterms:created>
  <dc:creator>Jennifer Budzinski</dc:creator>
  <dc:description/>
  <dc:language>en-US</dc:language>
  <cp:lastModifiedBy>Erich Friedman</cp:lastModifiedBy>
  <dcterms:modified xsi:type="dcterms:W3CDTF">2020-08-30T11:39:29Z</dcterms:modified>
  <cp:revision>459</cp:revision>
  <dc:subject/>
  <dc:title>Slide 1</dc:title>
</cp:coreProperties>
</file>