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4727-3BE9-4FF4-B701-74B27D9C7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1D76-B980-4DBA-958D-E7A4BD1BF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4FD2-5198-4C79-AB01-042893D96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842C-4A3D-402D-AD07-B524E7CF5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7BDE-4E8F-4CE6-A079-AF498923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6707-43E9-443D-B47B-20AE0046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E832-7E48-47D2-BB11-0974F391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898B-6D94-4611-8185-AD735C92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8CF6-0A4F-4425-80E5-F0B6968A5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C69D-7161-424A-A603-73EC367C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C0F5-6B8A-4B7B-ABD5-08BC2CFBB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7465-556D-48AD-9361-8DE67AC0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B3A4-1FA0-42FA-91A0-8EBC3B604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8DCD-EE61-44B7-A0E4-88CAAFB41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2988-4270-4E47-92B5-4CAF37EC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1549-EE79-4960-B0E8-B442A1A1B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28DD-160B-47E4-A471-B97601F28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C67F-9FCD-40FB-B4D9-38D43BB7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55DA-85AE-46D0-B86F-977FA0D48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BFD4-2D05-488C-AC62-17BA6AB88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C85D-3AE1-47E6-99F6-33B39EE1C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EF9F-86B6-47DA-B643-FA390CC1D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9151-97D8-41D6-A6FD-765FD05B2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MILY POST, WHO TRADITIONALLY GIVE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AST AT A WEDDING, EVEN BEFORE THE BEST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O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D IN 1905 BECAUSE IT WAS A NEW SUBSTITUTE FOR COCAINE, WHAT WAS THE FIRST MAN-MADE LOCAL ANESTHETIC TO CATCH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CANY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NATIONAL PARK DID VOTERS NAME THE "EIGHTH WONDER OF THE WORLD" IN A 2006 USA TODAY P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OF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LEGEND SONG, A PIANO BALLAD DEDICATED TO HIS THEN-FIANCÉE, CHRISSY TEIGEN, BECAME HIS FIRST #1 HIT SINGLE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COMPLI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VARIOUS OPTIONS FOR RELATIONSHIP STATUS ON FACEBOOK, WHICH ONE DO 5% OF PEOPLE CHOOSE, REGARDLESS OF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0" y="838080"/>
            <a:ext cx="4800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NY KEYBOARDS, WHAT KEY IS RIGHT ABOVE THE "END"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5416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ENT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STARRING PETER KRAUSE AND LAUREN GRAHAM FOLLOWED THE BRAVERMAN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X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REPEATS THE LYRICS "YOU DON'T HAVE TO PUT ON THE RED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D IN 1905 BECAUSE IT WAS A NEW SUBSTITUTE FOR COCAINE, WHAT WAS THE FIRST MAN-MADE LOCAL ANESTHETIC TO CATCH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5240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RATE OF CHANGE OF ACCELERATIO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MILY POST, WHO TRADITIONALLY GIVE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AST AT A WEDDING, EVEN BEFORE THE BEST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714680" y="48769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ARTI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NATIONAL PARK DID VOTERS NAME THE "EIGHTH WONDER OF THE WORLD" IN A 2006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SA TODA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LEGEND SONG, A PIANO BALLAD DEDICATED TO HIS THEN-FIANCÉE, CHRISSY TEIGEN, BECAME HIS FIRST  #1 HIT SINGLE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VARIOUS OPTIONS FOR RELATIONSHIP STATUS ON FACEBOOK, WHICH ONE DO 5% OF PEOPLE CHOOSE, REGARDLESS OF 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NY KEYBOARDS, WHAT KEY IS RIGHT ABOVE THE "END"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541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STARRING PETER KRAUSE AND LAUREN GRAHAM FOLLOWED THE BRAVERMAN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REPEATS THE LYRICS "YOU DON'T HAVE TO PUT ON THE RED 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RATE OF CHANGE OF ACCELERATIO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7:07:13Z</dcterms:created>
  <dc:creator>Jennifer Budzinski</dc:creator>
  <dc:description/>
  <dc:language>en-US</dc:language>
  <cp:lastModifiedBy>Erich Friedman</cp:lastModifiedBy>
  <dcterms:modified xsi:type="dcterms:W3CDTF">2020-08-30T11:39:29Z</dcterms:modified>
  <cp:revision>459</cp:revision>
  <dc:subject/>
  <dc:title>Slide 1</dc:title>
</cp:coreProperties>
</file>