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AD30-EB06-40D7-B090-B2FCC2E2E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28AA-1E17-4916-9A6A-45D5B0652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C3CC-C69F-4835-87D8-600A934C9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40A9-6CDA-4B7F-AD8E-B101EB8B2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11F2-0AEF-4D8B-AE35-5D44EE4F5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BC76-9F0B-4C2B-ABBE-883530E18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B1D7-C927-4416-9979-C1DE65D7B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B1B4-2ED0-4C3C-8930-E5D514265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7066-A0B1-47C8-B556-73164184A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6318-5730-4B6F-8037-07BC38586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CFB6-C654-4A9E-9FB0-B4764146D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CF0E-5140-4074-AC84-CF3ACF4E5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0A5E-3710-47B2-8A5D-EAC307A43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40B4-C00C-4A22-8A4F-B95EC7E7E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FF63-C4EC-4C08-B3F7-4BA10AA1F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59A5-7E80-4C0A-A7A0-2EA7C577C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F5CF-621C-4AD3-84CD-0CA84191F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28A5-C4A3-4DE1-B87D-77515B300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D818-E195-43E8-AA44-60E7B11AC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1A6D-BA98-4376-A40A-6A4477C15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1A75-5E4C-4D08-83B8-ABE8A111D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22A9-0E84-4F13-B2CA-282591E8C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F6F4-6ABB-4EE7-9C86-ADEF2367B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EMILY POST, WHO TRADITIONALLY GIVE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AST AT A WEDDING, EVEN BEFORE THE BEST 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VOC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D IN 1905 BECAUSE IT WAS A NEW SUBSTITUTE FOR COCAINE, WHAT WAS THE FIRST MAN-MADE LOCAL ANESTHETIC TO CATCH 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D  CANY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NATIONAL PARK DID VOTERS NAME THE "EIGHTH WONDER OF THE WORLD" IN A 2006 USA TODAY PO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  OF 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 LEGEND SONG, A PIANO BALLAD DEDICATED TO HIS THEN-FIANCÉE, CHRISSY TEIGEN, BECAME HIS FIRST #1 HIT SINGLE IN 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'S  COMPLIC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VARIOUS OPTIONS FOR RELATIONSHIP STATUS ON FACEBOOK, WHICH ONE DO 5% OF PEOPLE CHOOSE, REGARDLESS OF 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0" y="838080"/>
            <a:ext cx="4800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NY KEYBOARDS, WHAT KEY IS RIGHT ABOVE THE "END" 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54168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ENTH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-2015 TV SERIES STARRING PETER KRAUSE AND LAUREN GRAHAM FOLLOWED THE BRAVERMAN FAM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XAN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CE SONG REPEATS THE LYRICS "YOU DON'T HAVE TO PUT ON THE RED L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D IN 1905 BECAUSE IT WAS A NEW SUBSTITUTE FOR COCAINE, WHAT WAS THE FIRST MAN-MADE LOCAL ANESTHETIC TO CATCH 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5240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HYSICS, WHAT IS THE RATE OF CHANGE OF ACCELERATION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THER  OF  THE  B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EMILY POST, WHO TRADITIONALLY GIVE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AST AT A WEDDING, EVEN BEFORE THE BEST 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714680" y="487692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MARTIN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NATIONAL PARK DID VOTERS NAME THE "EIGHTH WONDER OF THE WORLD" IN A 2006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USA TODA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O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 LEGEND SONG, A PIANO BALLAD DEDICATED TO HIS THEN-FIANCÉE, CHRISSY TEIGEN, BECAME HIS FIRST  #1 HIT SINGLE IN 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VARIOUS OPTIONS FOR RELATIONSHIP STATUS ON FACEBOOK, WHICH ONE DO 5% OF PEOPLE CHOOSE, REGARDLESS OF 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NY KEYBOARDS, WHAT KEY IS RIGHT ABOVE THE "END" K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5416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-2015 TV SERIES STARRING PETER KRAUSE AND LAUREN GRAHAM FOLLOWED THE BRAVERMAN FAM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CE SONG REPEATS THE LYRICS "YOU DON'T HAVE TO PUT ON THE RED L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HYSICS, WHAT IS THE RATE OF CHANGE OF ACCELERATION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1T17:07:13Z</dcterms:created>
  <dc:creator>Jennifer Budzinski</dc:creator>
  <dc:description/>
  <dc:language>en-US</dc:language>
  <cp:lastModifiedBy>Erich Friedman</cp:lastModifiedBy>
  <dcterms:modified xsi:type="dcterms:W3CDTF">2020-08-30T11:39:29Z</dcterms:modified>
  <cp:revision>459</cp:revision>
  <dc:subject/>
  <dc:title>Slide 1</dc:title>
</cp:coreProperties>
</file>