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98C8-BCE0-4C05-9971-EBF9ADDB2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D0EC-9A2D-4A2F-AD1B-3F3F06279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2B5B-E0FE-434E-829D-505B19909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EB52-E3B2-45D0-8E5D-7E5D41B87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1EC3-B1AA-4E06-B519-2DD79B029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C667-FCA1-4D43-9649-63FC87CBF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770A-C1B4-4B43-AF2B-6EE66E7E1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CA23-2AE9-4428-9D07-EFCF67ACF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7EDB-99A3-44CE-9B47-82E26F83B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7689-7BE6-4725-812A-7E2CD0A6C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F2D5-5E29-4C34-9FD3-42CA43EA9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4D95-FE48-416E-9645-DBA95F570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3D45-720F-46FF-BE61-C5DA5D158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F630-10B1-4582-AD55-48686D107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F6D5-C75F-4234-92DA-F4DAF586C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407E-14BC-4F3C-93A4-AA94D6A11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5729-37A7-488F-B446-6DC17D4A9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CA2F-D735-47E4-802D-050D43925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6310-9461-41E8-8305-DA657AA67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3CB8-C634-43A9-AD12-6F944A48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A0F0-1027-4090-9F38-C12E3B221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A910-AE7C-4439-ACBB-C06F9741E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13AB-ECEF-4F45-A6BF-7A4592BB5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04800" y="1066680"/>
            <a:ext cx="6134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JU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IE  F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ACCUSED" AND "THE 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ARY  QU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IN THE 2009, 2013, AND 2016 "STAR TREK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PATRICK  HAR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    "DOOGIE HOUSER, M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LY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OST OF "HOLLYWOOD GAM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PAR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LDON ON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NTHIA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RANDA O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00200" y="762120"/>
            <a:ext cx="594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IN THE 4 "TWILIGHT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ACCUSED" AND "THE SILENCE OF THE LAM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HU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2088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DORIS DAY IN "PILLOW TALK", "LOVER COME BACK", AND "SEND ME NO FLOW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EN 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JU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GAY  OR  LESB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IN THE 2009, 2013, AND 2016 "STAR TREK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   "DOOGIE HOUSER, M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OST OF "HOLLYWOOD GAM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LDON ON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RANDA ON "SEX AND THE C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IN THE 4 "TWILIGHT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DORIS DAY IN "PILLOW TALK", "LOVER COME BACK", AND "SEND ME NO FLOW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02:26:00Z</dcterms:created>
  <dc:creator>Jennifer Budzinski</dc:creator>
  <dc:description/>
  <dc:language>en-US</dc:language>
  <cp:lastModifiedBy>Erich Friedman</cp:lastModifiedBy>
  <dcterms:modified xsi:type="dcterms:W3CDTF">2020-08-30T11:40:24Z</dcterms:modified>
  <cp:revision>431</cp:revision>
  <dc:subject/>
  <dc:title>Slide 1</dc:title>
</cp:coreProperties>
</file>