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C99-CB2E-486F-96E5-071FE644A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8E75-E152-421B-9561-046E9CCF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6D10-4FDA-4010-923C-500556D4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FF35-6F1D-4B22-A2A5-288D61E83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98C6-9235-4DCF-80F9-3421D6258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1860-FEE7-494D-BFAD-58FDF201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1C03-B5A1-4C4F-A5EE-55DD771C6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E698-5E59-4C50-93DF-9088F77C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CE60-7D9D-4853-965D-179B2232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791A-AF19-4E5D-9922-B480FABB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0602-AA3D-4D45-8F55-568DCCA6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8E64-E8F1-42F9-9052-E2A1D1AE6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0521-8703-4E64-956B-61E3B2EE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6866-77E1-422B-B04D-BAD37E7A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6004-3B72-4E22-93FE-71CC82BE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411F-6396-4206-A3B6-3C004864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DC7C-AA29-41CA-8825-EB1386C0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A21B-C3D1-4C96-A6ED-96397CCC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19CB-BE8A-4400-B699-D3D877CD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44CD-CBB9-4A36-A9C9-9E6171331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B748-6F6E-4665-B46F-8B1626461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EF74-EBB8-4C60-8BF2-5D39B683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055E-EA8F-4EC0-86B7-E3362FD47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04800" y="1066680"/>
            <a:ext cx="6134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JU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E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ACCUSED" AND "THE 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ARY  QU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PATRICK  HA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    "DOOGIE HOU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LY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"HOLLYWOOD GAM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PAR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LDON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THIA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00200" y="762120"/>
            <a:ext cx="594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THE 4 "TWILIGHT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ACCUSED" AND "THE SILENCE OF THE LAM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2088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DORIS DAY IN "PILLOW TALK", "LOVER COME BACK", AND "SEND ME NO FLOW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 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JU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GAY  OR  LESB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   "DOOGIE HOU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"HOLLYWOOD GAM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LDON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THE 4 "TWILIGHT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DORIS DAY IN "PILLOW TALK", "LOVER COME BACK", AND "SEND ME NO FLOW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02:26:00Z</dcterms:created>
  <dc:creator>Jennifer Budzinski</dc:creator>
  <dc:description/>
  <dc:language>en-US</dc:language>
  <cp:lastModifiedBy>Erich Friedman</cp:lastModifiedBy>
  <dcterms:modified xsi:type="dcterms:W3CDTF">2020-08-30T11:40:24Z</dcterms:modified>
  <cp:revision>431</cp:revision>
  <dc:subject/>
  <dc:title>Slide 1</dc:title>
</cp:coreProperties>
</file>