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B16-EBFC-4B2C-BF70-0ECE9903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0D6-6599-4C06-82BB-8146C9D1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FE8-7DC8-4DF4-929D-722A92A8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214-C680-4888-B5B2-B7B717D4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0A22-B6F9-499F-A983-D01ED1C8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3BB6-A176-4EBF-B231-4581E38E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C8C-6478-470E-A0EC-D677F1A8F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584D-C091-45B3-BCC4-43B3E936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B6BE-F74C-4792-96ED-2BD8CB90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DB4-771E-4F8F-AC0D-AB2C058E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66D-3BBE-4261-9C38-391608C4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218-315A-4A81-B10E-3486435C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586-01C7-4CE0-8C43-6E78BBCA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78A8-92B8-4082-AB73-626C6A6D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CDBE-307E-470B-A6B1-EDC679CE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1A4A-FE57-4077-B5C9-98217AD0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33DB-864F-481B-86D3-AD4E2B4B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DD7E-5ECF-4582-9A27-2E0CEB0E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AFF8-3E69-49E0-971E-FBB8BA3A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F86D-C6F5-4BEB-A06B-99EF34D8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F119-B030-4CAE-937A-941E2B12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1DD-6EEE-466F-9E67-5149CFD2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8570-C3CE-449D-B12E-06913CF2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04800" y="1066680"/>
            <a:ext cx="613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0200" y="762120"/>
            <a:ext cx="59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0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AY  OR  LESB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02:26:00Z</dcterms:created>
  <dc:creator>Jennifer Budzinski</dc:creator>
  <dc:description/>
  <dc:language>en-US</dc:language>
  <cp:lastModifiedBy>Erich Friedman</cp:lastModifiedBy>
  <dcterms:modified xsi:type="dcterms:W3CDTF">2020-08-30T11:40:24Z</dcterms:modified>
  <cp:revision>431</cp:revision>
  <dc:subject/>
  <dc:title>Slide 1</dc:title>
</cp:coreProperties>
</file>