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8471-F2E3-4971-89AF-B423A08F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DF9D-D219-4F61-AC28-085104839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7A23-5268-4DB5-A2FA-0226FF088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7626-A00F-47F7-99B9-9FF14B0A7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2540-D02D-4AD2-B5F5-4E6B42394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F011-7711-43BD-806F-2B134A3E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10E3-9C11-4E8B-A7AA-2534C6714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E590-271C-4FB2-953D-6B2CF0030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9D20-ECAF-4BDD-A881-5C2359348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6A9CE-A2AA-4A91-BF50-0EFF55B53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E644-D55A-40E7-8C14-0FF68818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B5C1C-8FD6-4A0A-B540-4BB62A52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A551-6F29-456C-A7A3-128F3204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615C-DF14-4BFD-9D40-805A9DBC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1833-6736-45BC-9892-F46C746CD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840D-EB3C-47DD-9F97-DD63FBCD7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DA99-5760-48C7-BACB-2A208524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3BD05-5FF2-4735-827A-D02BAC758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0A04-EAB9-4045-8430-37C25F00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4E98-AE3D-4665-9D00-C3CC11590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D7A-8B2A-4B9E-8BC9-4DDA743E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88DF-14EA-42C6-9599-0D5D5B88D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983F-5597-489F-9D57-78419D0AB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JUDGE OF "POP IDOL", "AMERICAN IDOL", "THE X FACTOR", AND IS NOW EXECUTIVE PRODUCER OF "AMERICA'S GOT TAL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2013 FILM "OZ THE GREAT  AND POWER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257480" y="7621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SEYMOUR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CAPO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THOLOMEW  CU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04920" y="990720"/>
            <a:ext cx="6095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HERO OF TWO DR. SEUSS BOO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632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ALLED "THE WIZARD OF MENLO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NDLER BING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2013 FILM "OZ THE GREAT  AND POWER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SP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LAN ON "BOSTON LEGAL" AND NOW PLAYS RED ON "THE BLACK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C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JUDGE OF "POP IDOL", "AMERICAN IDOL", "THE X FACTOR", AND IS NOW EXECUTIVE PRODUCER OF "AMERICA'S GOT TALEN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04840" y="43434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E  FIRST  NAMES  WITH    APOSTLES  OF  JES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CAPO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1920" y="10666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HERO OF TWO DR. SEUSS BOO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6629400" y="457200"/>
            <a:ext cx="214632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ALLED "THE WIZARD OF MENLO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NDLER BING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LAN ON "BOSTON LEGAL" AND NOW PLAYS RED ON "THE BLACK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6T13:44:56Z</dcterms:created>
  <dc:creator>Jennifer Budzinski</dc:creator>
  <dc:description/>
  <dc:language>en-US</dc:language>
  <cp:lastModifiedBy>Erich Friedman</cp:lastModifiedBy>
  <dcterms:modified xsi:type="dcterms:W3CDTF">2020-08-30T13:06:11Z</dcterms:modified>
  <cp:revision>473</cp:revision>
  <dc:subject/>
  <dc:title>Slide 1</dc:title>
</cp:coreProperties>
</file>