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440A-99BD-474E-B0C8-6D7B27CA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6894-CC0B-45B9-9F22-3A919000C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C52-1831-4D8C-BB37-17E3E57C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265-A980-4D4C-AE3F-92ED1EBD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FE5-D71D-44A9-8724-3B70157A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703A-65AA-43CA-B43D-0C54A9CE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8B4-E90A-498B-A5FC-C72B33FE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5958-7D10-49DC-94D0-6A947725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C2E-9657-484A-9CE4-2771B551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061-B5F5-41DC-99F1-BEF5C344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8CD8-5DAA-4969-9FB9-A30024C7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966-97EA-4822-B653-DB8923D9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266C-A611-42A4-8676-C58DC08F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DDD-E57B-4255-BE5C-E5B0145B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9ED6-4095-4BCD-A591-A9355FAC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3D67-2725-4795-9357-632ED9BE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11FA-2CCF-47A6-9628-0BCF9E21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C33-8A18-4603-B287-87555DDB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A2D8-FAFD-4266-AF29-BBCA67063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D40-B389-4E92-87DC-F649D044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E88-7F64-446E-BD32-085628FE8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2112-2E91-4B7B-8DC3-C7798217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DA4-6677-4F11-A7D6-05BB75F71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SEYMOUR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HOLOMEW  CU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04920" y="990720"/>
            <a:ext cx="609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FIRST  NAMES  WITH    APOSTLES  OF 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3:44:56Z</dcterms:created>
  <dc:creator>Jennifer Budzinski</dc:creator>
  <dc:description/>
  <dc:language>en-US</dc:language>
  <cp:lastModifiedBy>Erich Friedman</cp:lastModifiedBy>
  <dcterms:modified xsi:type="dcterms:W3CDTF">2020-08-30T13:06:11Z</dcterms:modified>
  <cp:revision>473</cp:revision>
  <dc:subject/>
  <dc:title>Slide 1</dc:title>
</cp:coreProperties>
</file>