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CD57A-DB4D-4A8D-ABE5-D60123CBA9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75A73-B8EB-46FF-8F6A-9A048FCA7D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7E745-E4CD-4431-AA27-18556B9BAA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73FEC-D5A2-4698-ADEB-DD06CA812B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E73B5-95E1-409A-B185-E5E83208FA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FF306-F252-4848-8CDB-252F2F9D52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94B63-CC38-4C0B-9700-86B22D5BA7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32237-6BBA-4307-9ACF-64E0AF412C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38E9C-42BD-4DDD-9A59-B1E1B76EE7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96C1F-505C-4E8B-9D90-EF604BE3B1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1A29D-610E-44A6-9CCC-3E719687E4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ACD91-9FA0-4C7C-AB5A-B1AFCA97D4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FB851-1152-4F8E-A7EB-E57F2963DA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C222A-1552-4B07-8172-0BE7F556C4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07C1D-27CB-4E54-907B-E5BED90CFE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76FDE-9778-496A-9FAB-0113BBABF2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97266-AAAF-47C8-9AC1-BE8F3FB04C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82118-71DC-4266-A180-8350BF6827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9CC36-830C-415A-B14E-5EC27A85A2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E873E-599D-49C0-8FDB-19BD590D5B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97168-7AAB-43D8-8409-40E208626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9514E-95C4-47ED-A283-018FFF3CFC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BB4BF-F8C0-4E47-884E-E2A66A918F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ERVED AS JUDGE OF "POP IDOL", "AMERICAN IDOL", "THE X FACTOR", AND IS NOW EXECUTIVE PRODUCER OF "AMERICA'S GOT TALEN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533520" y="487692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  FRAN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1123920" y="762120"/>
            <a:ext cx="68961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CHARACTER IN THE 2013 FILM "OZ THE GREAT  AND POWERFU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10666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DREW  CUOM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1257480" y="762120"/>
            <a:ext cx="6629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GOVERNOR OF NEW Y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419040" y="48769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WI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914400" y="762120"/>
            <a:ext cx="7315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FILM FRANCHISE DOES KEANU REEVES PLAY A RETIRED HITMAN SEEKING VENGEA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HILIP  SEYMOUR  HOFF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533520" y="76212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AN OSCAR FOR BEST ACTOR FOR "CAPOT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914400" y="4876920"/>
            <a:ext cx="7315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RTHOLOMEW  CUBB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304920" y="990720"/>
            <a:ext cx="60958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IS HERO OF TWO DR. SEUSS BOOK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3" descr=""/>
          <p:cNvPicPr/>
          <p:nvPr/>
        </p:nvPicPr>
        <p:blipFill>
          <a:blip r:embed="rId1"/>
          <a:stretch/>
        </p:blipFill>
        <p:spPr>
          <a:xfrm>
            <a:off x="6629400" y="457200"/>
            <a:ext cx="2146320" cy="396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333440" y="4876920"/>
            <a:ext cx="6477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OMAS  EDI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38080" y="762120"/>
            <a:ext cx="74678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CALLED "THE WIZARD OF MENLO PAR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638360" y="48769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TTHEW  PER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CHANDLER BING ON "FRIEND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CHARACTER IN THE 2013 FILM "OZ THE GREAT  AND POWERFU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104840" y="487692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  SPA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266760" y="762120"/>
            <a:ext cx="8610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ALAN ON "BOSTON LEGAL" AND NOW PLAYS RED ON "THE BLACKLIS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MON  COW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19040" y="762120"/>
            <a:ext cx="8305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ERVED AS JUDGE OF "POP IDOL", "AMERICAN IDOL", "THE X FACTOR", AND IS NOW EXECUTIVE PRODUCER OF "AMERICA'S GOT TALENT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104840" y="4343400"/>
            <a:ext cx="6934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marL="191880" indent="-191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ARE  FIRST  NAMES  WITH    APOSTLES  OF  JES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104840" y="761760"/>
            <a:ext cx="6934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GOVERNOR OF NEW YOR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181160" y="762120"/>
            <a:ext cx="6781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FILM FRANCHISE DOES KEANU REEVES PLAY A RETIRED HITMAN SEEKING VENGEA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AN OSCAR FOR BEST ACTOR FOR "CAPOT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51920" y="106668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IS HERO OF TWO DR. SEUSS BOOK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"/>
          <p:cNvPicPr/>
          <p:nvPr/>
        </p:nvPicPr>
        <p:blipFill>
          <a:blip r:embed="rId1"/>
          <a:stretch/>
        </p:blipFill>
        <p:spPr>
          <a:xfrm>
            <a:off x="6629400" y="457200"/>
            <a:ext cx="2146320" cy="39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CALLED "THE WIZARD OF MENLO PARK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CHANDLER BING ON "FRIEND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ALAN ON "BOSTON LEGAL" AND NOW PLAYS RED ON "THE BLACKLIS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6T13:44:56Z</dcterms:created>
  <dc:creator>Jennifer Budzinski</dc:creator>
  <dc:description/>
  <dc:language>en-US</dc:language>
  <cp:lastModifiedBy>Erich Friedman</cp:lastModifiedBy>
  <dcterms:modified xsi:type="dcterms:W3CDTF">2020-08-30T13:06:11Z</dcterms:modified>
  <cp:revision>473</cp:revision>
  <dc:subject/>
  <dc:title>Slide 1</dc:title>
</cp:coreProperties>
</file>