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4527-F7E3-4410-B812-8AB0A0948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55E5-5E9F-4EF0-A6ED-9CA5A56CA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D9E8-0CEC-46C6-BE3B-9D7AB1299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1FD4-0089-4C8B-9103-D789DC375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AE46-1AF8-45B9-B766-B56154A07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AD1C-AFCD-4F5F-9CA8-333034892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90DC-78C7-4505-B2A9-D95416FE8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5276-7A0A-4DDD-8B4C-ED347359F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239F-678E-4674-81D1-B967DA093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B0A6-CCE0-443A-9D3A-8A70BEA8E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DDCA-9BA4-45B9-9240-7C0871706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A82E-C1A7-48C1-B1C8-C343282CA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7435-DA51-4D49-A5AA-763F2DFCC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1A0D-E232-4BD8-8B2F-38DC1624E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0450-78A5-4136-AC41-888689463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C3D6-E141-4075-9587-6DC1991C8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078E-16C9-4865-9B66-BBD890226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8439-5092-434D-A24D-E38FDCBD8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9372-90BA-4D0C-A53C-8DE77467A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6A83-ADCA-40F7-8D76-713B083AE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759E-2121-4A35-A46D-AE0AF44E3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3A95-C538-4E48-B80E-166481D51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2C63-80CA-42CF-B217-0EE81D222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16080" y="762120"/>
            <a:ext cx="8511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FILM EVER SEEN AT THE WHITE HOUSE, "THE BIRTH OF A NATION" IS CRITICIZED TODAY FOR ITS HEROIC PORTRAYAL OF WHAT GROU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OT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285840" y="762120"/>
            <a:ext cx="8572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ALIAN WHEY CHEESE IS MOST OFTEN USED ALONGSIDE MOZZARELLA IN LASAG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SHINGTON  MON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201600" y="762120"/>
            <a:ext cx="8740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555 FEET, WHAT BECAME THE TALLEST STRUCTURE ON EARTH WHEN PRESIDENT CHESTER ARTHUR DEDICATED IT IN 188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CKET  F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42920" y="762120"/>
            <a:ext cx="88581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1990'S TV SHOW DID TOM SKERRITT PLAY WISCONSIN SHERIFF JIMMY BROCK, AFTER CHRISTOPHER REEVE TURNED THE PART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LAR  B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90440" y="762120"/>
            <a:ext cx="8763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NLY NON-RECTANGULAR LICENSE PLATE IN NORTH AMERICA IS IN CANADA'S NORTHWEST TERRITORIES, AND IS SHAPED LIKE WHAT ANIM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R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COMES IN "GREAT", "SNOWY", AND "CATTLE" VARIE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NDER  B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11120" y="762120"/>
            <a:ext cx="831996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EAD INTRODUCED IN 1921 USED THE ADVERTISING SLOGAN "THE GREATEST THING SINCE SLICED BRE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00000" y="762120"/>
            <a:ext cx="7344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CHARACTER CHRISSY WHO SUZANNE SUMMERS PLAYED ON TV'S "THREE'S COMPAN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14280" y="762120"/>
            <a:ext cx="8515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ALIAN WHEY CHEESE IS MOST OFTEN USED ALONGSIDE MOZZARELLA IN LASAG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DDING  D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14240" y="762120"/>
            <a:ext cx="7715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ORLD RECORD FOR THE LONGEST PIECE OF CLOTHING, MORE THAN 5 MILES, IS HELD BY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U  KLUX  K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90520" y="762120"/>
            <a:ext cx="856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FILM EVER SEEN AT THE WHITE HOUSE, "THE BIRTH OF A NATION" IS CRITICIZED TODAY FOR ITS HEROIC PORTRAYAL OF WHAT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THAT  ARE 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555 FEET, WHAT BECAME THE TALLEST STRUCTURE ON EARTH WHEN PRESIDENT CHESTER ARTHUR DEDICATED IT IN 188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52280" y="762120"/>
            <a:ext cx="8839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1990'S TV SHOW DID TOM SKERRITT PLAY WISCONSIN SHERIFF JIMMY BROCK, AFTER CHRISTOPHER REEVE TURNED THE PART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79280" y="762120"/>
            <a:ext cx="8785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NLY NON-RECTANGULAR LICENSE PLATE IN NORTH AMERICA IS IN CANADA'S NORTHWEST TERRITORIES, AND IS SHAPED LIKE WHAT ANIM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COMES IN "GREAT", "SNOWY", AND "CATTLE" VARIET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04720" y="761760"/>
            <a:ext cx="8134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EAD INTRODUCED IN 1921 USED THE ADVERTISING SLOGAN "THE GREATEST THING SINCE SLICED BREA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42840" y="762120"/>
            <a:ext cx="7258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CHARACTER CHRISSY WHO SUZANNE SUMMERS PLAYED ON TV'S "THREE'S COMPAN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ORLD RECORD FOR THE LONGEST PIECE OF CLOTHING, MORE THAN 5 MILES, IS HELD BY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8:45:38Z</dcterms:created>
  <dc:creator>Jennifer Budzinski</dc:creator>
  <dc:description/>
  <dc:language>en-US</dc:language>
  <cp:lastModifiedBy>Erich Friedman</cp:lastModifiedBy>
  <dcterms:modified xsi:type="dcterms:W3CDTF">2020-08-30T13:06:51Z</dcterms:modified>
  <cp:revision>429</cp:revision>
  <dc:subject/>
  <dc:title>Slide 1</dc:title>
</cp:coreProperties>
</file>