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A957-5156-4B57-8A05-D686BFB51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0E25-EC3D-4D27-9157-2CADDBC9C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AA34-FF53-4CA6-A6C7-B3ADD3B61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718B-9E90-4E20-8D0A-F48FD5094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D104-F1E2-49C8-A8F3-336499D4A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C614-3B45-4599-9E45-F6C1829D2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D91B-DB06-4B2C-BCDA-EDB6A9C86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A727-F17C-4FE5-A59B-60A8E5001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3F73-9FC3-4B61-93A6-99F153C5A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7D01-C0F2-4BB7-9D0D-F6A3FC111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9BEC-E906-4D59-990A-C7D57CFDD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DF8C-5F19-4FB3-8800-D99BFB9EF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337F-7385-4C09-9563-19328499B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1B30-681E-48FF-ACAD-DD806DA92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FD04-1C3C-47E3-B19A-19D071886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63E3-2BDD-4912-9F14-4358BD7E2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4BC3-1F11-4FE3-93D8-0611586D6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473EB-BEA6-42B6-8DD9-F99C2D250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2404-3530-4F8E-93BC-4C26D0917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1F83-E0F1-4E3F-B14E-441938AF0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856F-4B43-44FB-9F40-9639A5E44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3756-744A-48CB-83E2-CC0512DE4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23C0-AC0A-4A96-B271-3003303E1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16080" y="762120"/>
            <a:ext cx="8511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FILM EVER SEEN AT THE WHITE HOUSE, "THE BIRTH OF A NATION" IS CRITICIZED TODAY FOR ITS HEROIC PORTRAYAL OF WHAT GROU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OT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285840" y="762120"/>
            <a:ext cx="8572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ALIAN WHEY CHEESE IS MOST OFTEN USED ALONGSIDE MOZZARELLA IN LASAG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37160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SHINGTON  MON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201600" y="762120"/>
            <a:ext cx="8740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555 FEET, WHAT BECAME THE TALLEST STRUCTURE ON EARTH WHEN PRESIDENT CHESTER ARTHUR DEDICATED IT IN 188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CKET  F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42920" y="762120"/>
            <a:ext cx="88581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1990'S TV SHOW DID TOM SKERRITT PLAY WISCONSIN SHERIFF JIMMY BROCK, AFTER CHRISTOPHER REEVE TURNED THE PART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LAR  B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90440" y="762120"/>
            <a:ext cx="8763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NLY NON-RECTANGULAR LICENSE PLATE IN NORTH AMERICA IS IN CANADA'S NORTHWEST TERRITORIES, AND IS SHAPED LIKE WHAT ANIM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R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RD COMES IN "GREAT", "SNOWY", AND "CATTLE" VARIE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NDER  B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11120" y="762120"/>
            <a:ext cx="831996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EAD INTRODUCED IN 1921 USED THE ADVERTISING SLOGAN "THE GREATEST THING SINCE SLICED BRE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00000" y="762120"/>
            <a:ext cx="7344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CHARACTER CHRISSY WHO SUZANNE SUMMERS PLAYED ON TV'S "THREE'S COMPAN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14280" y="762120"/>
            <a:ext cx="8515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ALIAN WHEY CHEESE IS MOST OFTEN USED ALONGSIDE MOZZARELLA IN LASAG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DDING  D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14240" y="762120"/>
            <a:ext cx="7715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ORLD RECORD FOR THE LONGEST PIECE OF CLOTHING, MORE THAN 5 MILES, IS HELD BY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U  KLUX  K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90520" y="762120"/>
            <a:ext cx="856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FILM EVER SEEN AT THE WHITE HOUSE, "THE BIRTH OF A NATION" IS CRITICIZED TODAY FOR ITS HEROIC PORTRAYAL OF WHAT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THAT  ARE  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555 FEET, WHAT BECAME THE TALLEST STRUCTURE ON EARTH WHEN PRESIDENT CHESTER ARTHUR DEDICATED IT IN 188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52280" y="762120"/>
            <a:ext cx="8839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1990'S TV SHOW DID TOM SKERRITT PLAY WISCONSIN SHERIFF JIMMY BROCK, AFTER CHRISTOPHER REEVE TURNED THE PART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79280" y="762120"/>
            <a:ext cx="8785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NLY NON-RECTANGULAR LICENSE PLATE IN NORTH AMERICA IS IN CANADA'S NORTHWEST TERRITORIES, AND IS SHAPED LIKE WHAT ANIM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RD COMES IN "GREAT", "SNOWY", AND "CATTLE" VARIET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04720" y="761760"/>
            <a:ext cx="8134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EAD INTRODUCED IN 1921 USED THE ADVERTISING SLOGAN "THE GREATEST THING SINCE SLICED BREA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42840" y="762120"/>
            <a:ext cx="7258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CHARACTER CHRISSY WHO SUZANNE SUMMERS PLAYED ON TV'S "THREE'S COMPAN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ORLD RECORD FOR THE LONGEST PIECE OF CLOTHING, MORE THAN 5 MILES, IS HELD BY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8:45:38Z</dcterms:created>
  <dc:creator>Jennifer Budzinski</dc:creator>
  <dc:description/>
  <dc:language>en-US</dc:language>
  <cp:lastModifiedBy>Erich Friedman</cp:lastModifiedBy>
  <dcterms:modified xsi:type="dcterms:W3CDTF">2020-08-30T13:06:51Z</dcterms:modified>
  <cp:revision>429</cp:revision>
  <dc:subject/>
  <dc:title>Slide 1</dc:title>
</cp:coreProperties>
</file>