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9EB7-49E9-4780-88B2-40E6CDE6B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F745-DAB0-4B45-9C88-0A6C87EF8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9057-B370-483B-953A-7AB283086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60D8-7825-41C5-89C2-992286853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5313-D419-4989-BD78-FE150542E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4E74-8369-4ECA-A221-21817080D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9AED-E96A-4477-A107-83DFD27AD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85D2-F6F1-4255-8EDC-3143BF89C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4C47-3F00-47B0-AC34-2C81DD43E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2106-85D6-4677-82A7-94A8AF988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25B2-274B-43C4-9DAA-C95197E4A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C930-2CB8-47BC-A0D8-23FC63D0C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DE52-DF7B-42FF-A425-D1A49EA73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B75B-67C4-4348-8887-475D42BFA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DB49-E202-47DF-A54D-78453900F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9A77-6091-48EA-A0FE-6F0F1A709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CBE2-CDC4-42F8-8729-C4F2F7D48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14AF-06B2-469C-A8E6-F76006D52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FF05-75AC-48C9-878D-317C60522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6381-0A72-4FBD-8FB0-81F674493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3B67-D232-47B5-9068-90861573B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448D-D2AD-4285-A682-165DAD999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D290-44BC-4E69-B9A0-346313135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16080" y="762120"/>
            <a:ext cx="8511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FILM EVER SEEN AT THE WHITE HOUSE, "THE BIRTH OF A NATION" IS CRITICIZED TODAY FOR ITS HEROIC PORTRAYAL OF WHAT GR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OT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85840" y="762120"/>
            <a:ext cx="8572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WHEY CHEESE IS MOST OFTEN USED ALONGSIDE MOZZARELLA IN LASAG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  MON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01600" y="762120"/>
            <a:ext cx="874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555 FEET, WHAT BECAME THE TALLEST STRUCTURE ON EARTH WHEN PRESIDENT CHESTER ARTHUR DEDICATED IT IN 188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CKET  F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42920" y="762120"/>
            <a:ext cx="8858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1990'S TV SHOW DID TOM SKERRITT PLAY WISCONSIN SHERIFF JIMMY BROCK, AFTER CHRISTOPHER REEVE TURNED THE PART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AR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NLY NON-RECTANGULAR LICENSE PLATE IN NORTH AMERICA IS IN CANADA'S NORTHWEST TERRITORIES, AND IS SHAPED LIKE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COMES IN "GREAT", "SNOWY", AND "CATTLE" VARIE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NDER  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1120" y="762120"/>
            <a:ext cx="831996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AD INTRODUCED IN 1921 USED THE ADVERTISING SLOGAN "THE GREATEST THING SINCE SLICED BRE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00000" y="762120"/>
            <a:ext cx="7344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CHARACTER CHRISSY WHO SUZANNE SUMMERS PLAYED ON TV'S "THREE'S COMPA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14280" y="762120"/>
            <a:ext cx="851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WHEY CHEESE IS MOST OFTEN USED ALONGSIDE MOZZARELLA IN LASAG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DDING  D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14240" y="762120"/>
            <a:ext cx="7715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LD RECORD FOR THE LONGEST PIECE OF CLOTHING, MORE THAN 5 MILES, IS HELD BY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  KLUX  K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90520" y="762120"/>
            <a:ext cx="856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FILM EVER SEEN AT THE WHITE HOUSE, "THE BIRTH OF A NATION" IS CRITICIZED TODAY FOR ITS HEROIC PORTRAYAL OF WHAT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AT  ARE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555 FEET, WHAT BECAME THE TALLEST STRUCTURE ON EARTH WHEN PRESIDENT CHESTER ARTHUR DEDICATED IT IN 188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52280" y="762120"/>
            <a:ext cx="883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1990'S TV SHOW DID TOM SKERRITT PLAY WISCONSIN SHERIFF JIMMY BROCK, AFTER CHRISTOPHER REEVE TURNED THE PART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79280" y="762120"/>
            <a:ext cx="878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NLY NON-RECTANGULAR LICENSE PLATE IN NORTH AMERICA IS IN CANADA'S NORTHWEST TERRITORIES, AND IS SHAPED LIKE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COMES IN "GREAT", "SNOWY", AND "CATTLE" VARIE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AD INTRODUCED IN 1921 USED THE ADVERTISING SLOGAN "THE GREATEST THING SINCE SLICED BRE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42840" y="762120"/>
            <a:ext cx="725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CHARACTER CHRISSY WHO SUZANNE SUMMERS PLAYED ON TV'S "THREE'S COMPA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LD RECORD FOR THE LONGEST PIECE OF CLOTHING, MORE THAN 5 MILES, IS HELD BY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08-30T13:06:51Z</dcterms:modified>
  <cp:revision>429</cp:revision>
  <dc:subject/>
  <dc:title>Slide 1</dc:title>
</cp:coreProperties>
</file>