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AB59F-2713-4F3B-9B91-C2914250EF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5EEBA-D29F-4379-9145-1B9C65952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AB883-5146-42AB-B26F-FC4B95AA07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D9CA0-AC38-4507-B8C7-464D4148C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E22FE-1299-4365-B311-1AFA80CCF3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836AB-2FCA-4577-9CD7-6029C297AB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EE51F-0D87-4B1F-A0F9-F61E44B503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CE1AD-972C-4AC7-9A9D-6FBC4371F8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15F6B-07E9-4150-9E89-8D25983F31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C92FF-74C9-43D9-862F-4273C7E6BC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14FAD-E0C6-42C3-B3E1-3468677E84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47B31-D4AE-4B1A-8EDE-A788683794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4DF35-A988-4DCE-86A8-561D9A235B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C0EA2-A13D-4CA2-B971-B30D2E146F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7051C-E645-482F-965C-8096C009DA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DFA5F-6067-477F-A118-9C4124663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A1F18-31B9-4947-90FD-ABCC86D2FC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0C9C6-96BB-41E1-947E-2F871C6763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087BA-9CB1-4ECD-A887-B761A44B33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B2106-58BC-4CE0-AD4F-8207CB6A90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D1AC9-32B5-4884-B43D-51CF268A2F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0E3D0-8B29-492F-8C87-B02841097F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2ECE8-2F98-4E2D-81DF-E77E0ECE2A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0" y="914040"/>
            <a:ext cx="4648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AS STATION HAS THE LOGO ON THE RIGH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3" descr="speedway-logo-flat.jpg"/>
          <p:cNvPicPr/>
          <p:nvPr/>
        </p:nvPicPr>
        <p:blipFill>
          <a:blip r:embed="rId1"/>
          <a:stretch/>
        </p:blipFill>
        <p:spPr>
          <a:xfrm>
            <a:off x="4952880" y="1001880"/>
            <a:ext cx="3791160" cy="304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W  GREAT  THOU  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419040" y="762120"/>
            <a:ext cx="83059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CHRISTIANITY TODAY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WHAT HYMN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FAVORITE OF ALL TIME, AFTER "AMAZING GRAC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TLU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ME IS GIVEN TO A COMMUNAL GATHERING WHERE EACH GUEST BRINGS A DISH TO SHA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304920" y="4876920"/>
            <a:ext cx="8610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OD  TI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457200" y="76212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4-1979 SHOW WAS TV'S FIRST AFRICAN- AMERICAN 2-PARENT SITC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28680" y="486108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328680" y="754200"/>
            <a:ext cx="8534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BC MORNING NEWS AND TALK SHOW DEBUTED IN 195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1181160" y="487692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OMISED  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419040" y="762120"/>
            <a:ext cx="83059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2 FILM STARRED MATT DAMON AND JOHN KRASINSKI AS CORPORATE SALESMEN WHO VISIT A TOWN IN SEARCH OF DRILLING RIGH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MOODY  BL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800280" y="762120"/>
            <a:ext cx="754380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TUESDAY AFTERNOON" AND "YOUR WILDEST DREAM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IRLS, GIRLS, GIR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723960" y="762120"/>
            <a:ext cx="7696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ÖTLEY CRÜE SONG ABOUT STRIP CLUBS HAS A TITLE CONSISTING OF THE SAME WORD 3 TIM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CHRISTIANITY TODAY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WHAT HYMN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FAVORITE OF ALL TIME, AFTER "AMAZING GRAC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ANKIE  &amp;  JOHN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"/>
          <p:cNvSpPr/>
          <p:nvPr/>
        </p:nvSpPr>
        <p:spPr>
          <a:xfrm>
            <a:off x="1104840" y="762120"/>
            <a:ext cx="69343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1 FILM NAMED AFTER A 1904 FOLK SONG STARS AL PACINO &amp; MICHELLE PFEIFF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EED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2"/>
          <p:cNvSpPr/>
          <p:nvPr/>
        </p:nvSpPr>
        <p:spPr>
          <a:xfrm>
            <a:off x="228600" y="988920"/>
            <a:ext cx="419112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AS STATION HAS THE LOGO ON THE RIGH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3" descr="speedway-logo-flat.jpg"/>
          <p:cNvPicPr/>
          <p:nvPr/>
        </p:nvPicPr>
        <p:blipFill>
          <a:blip r:embed="rId1"/>
          <a:stretch/>
        </p:blipFill>
        <p:spPr>
          <a:xfrm>
            <a:off x="4946760" y="988920"/>
            <a:ext cx="3790800" cy="304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600200" y="4343400"/>
            <a:ext cx="5943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ELVIS  PRESLEY  ALBU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ME IS GIVEN TO A COMMUNAL GATHERING WHERE EACH GUEST BRINGS A DISH TO SHA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4-1979 SHOW WAS TV'S FIRST AFRICAN- AMERICAN 2-PARENT SITC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5341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BC MORNING NEWS AND TALK SHOW DEBUTED IN 1952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2 FILM STARRED MATT DAMON AND JOHN KRASINSKI AS CORPORATE SALESMEN WHO VISIT A TOWN IN SEARCH OF DRILLING RIGH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TUESDAY AFTERNOON" AND "YOUR WILDEST DREAM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ÖTLEY CRÜE SONG ABOUT STRIP CLUBS HAS A TITLE CONSISTING OF THE SAME WORD 3 TIM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104840" y="762120"/>
            <a:ext cx="69343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1 FILM NAMED AFTER A 1904 FOLK SONG STARS AL PACINO &amp; MICHELLE PFEIFF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8T19:15:55Z</dcterms:created>
  <dc:creator>Jennifer Budzinski</dc:creator>
  <dc:description/>
  <dc:language>en-US</dc:language>
  <cp:lastModifiedBy>Erich Friedman</cp:lastModifiedBy>
  <dcterms:modified xsi:type="dcterms:W3CDTF">2020-08-24T13:28:49Z</dcterms:modified>
  <cp:revision>389</cp:revision>
  <dc:subject/>
  <dc:title>Slide 1</dc:title>
</cp:coreProperties>
</file>