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F2D8-EAA5-4CE7-8CEC-A235A6F3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5884-7676-49BA-8A49-B108FC5D4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6CAE-5137-44CB-BCF7-8EEED408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BE60-E1BB-446E-9E7F-AA2A915ED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2205-3D48-4AAA-A0BE-53546EA4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B6A3-DFF9-4C86-A4F2-0EBA6B781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011B-79F7-4A28-B919-E3783B33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D59F-870B-49A0-9DE0-9E20818B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EF1C-E1CA-4D17-8755-28F0C59D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85BC-4795-42E2-B7C4-D1BAD06D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D2A4-C9D1-43DE-93E7-432AECC0D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5FBB-C2F8-4E18-957F-9CDA009F5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83E3-6593-41A3-84DF-2EE2D22E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E9A-1394-4A4F-8D75-DFA3909ED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2327-724A-4CE1-B2E3-1C824819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2775-876E-4E4F-915A-E11F3A3F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B707-92AF-46A0-B2B1-4AF094C0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BBAB-6731-48EC-99B5-A60ED30D5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4B3-A00D-4438-8559-AAFAC4F5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0F1-5918-418D-9355-B8664096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5C6C-FB7F-440A-8D0F-AA4FF827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9CEA-13A0-4F62-9278-CE255D44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654B-950F-4755-B55E-AB2B5336D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64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S STATION HAS THE LOGO ON THE 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speedway-logo-flat.jpg"/>
          <p:cNvPicPr/>
          <p:nvPr/>
        </p:nvPicPr>
        <p:blipFill>
          <a:blip r:embed="rId1"/>
          <a:stretch/>
        </p:blipFill>
        <p:spPr>
          <a:xfrm>
            <a:off x="4952880" y="1001880"/>
            <a:ext cx="37911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GREAT  THOU 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HRISTIANITY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HYMN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VORITE OF ALL TIME, AFTER "AMAZING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COMMUNAL GATHERING WHERE EACH GUEST BRINGS A DISH TO S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-1979 SHOW WAS TV'S FIRST AFRICAN- AMERICAN 2-PARENT SIT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28680" y="4861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28680" y="7542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MORNING NEWS AND TALK SHOW DEBUTED IN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ISED 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STARRED MATT DAMON AND JOHN KRASINSKI AS CORPORATE SALESMEN WHO VISIT A TOWN IN SEARCH OF DRILLING R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800280" y="762120"/>
            <a:ext cx="7543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UESDAY AFTERNOON" AND "YOUR WILDEST DREA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, GIRLS,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ÖTLEY CRÜE SONG ABOUT STRIP CLUBS HAS A TITLE CONSISTING OF THE SAME WORD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HRISTIANITY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HYMN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VORITE OF ALL TIME, AFTER "AMAZING GR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IE  &amp;  JOH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NAMED AFTER A 1904 FOLK SONG STARS AL PACINO &amp;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28600" y="988920"/>
            <a:ext cx="4191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S STATION HAS THE LOGO ON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speedway-logo-flat.jpg"/>
          <p:cNvPicPr/>
          <p:nvPr/>
        </p:nvPicPr>
        <p:blipFill>
          <a:blip r:embed="rId1"/>
          <a:stretch/>
        </p:blipFill>
        <p:spPr>
          <a:xfrm>
            <a:off x="4946760" y="988920"/>
            <a:ext cx="37908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34340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ELVIS  PRESLEY  ALB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COMMUNAL GATHERING WHERE EACH GUEST BRINGS A DISH TO S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-1979 SHOW WAS TV'S FIRST AFRICAN- AMERICAN 2-PARENT SIT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MORNING NEWS AND TALK SHOW DEBUTED IN 195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STARRED MATT DAMON AND JOHN KRASINSKI AS CORPORATE SALESMEN WHO VISIT A TOWN IN SEARCH OF DRILLING R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UESDAY AFTERNOON" AND "YOUR WILDEST DREA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ÖTLEY CRÜE SONG ABOUT STRIP CLUBS HAS A TITLE CONSISTING OF THE SAME WORD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NAMED AFTER A 1904 FOLK SONG STARS AL PACINO &amp;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9:15:55Z</dcterms:created>
  <dc:creator>Jennifer Budzinski</dc:creator>
  <dc:description/>
  <dc:language>en-US</dc:language>
  <cp:lastModifiedBy>Erich Friedman</cp:lastModifiedBy>
  <dcterms:modified xsi:type="dcterms:W3CDTF">2020-08-24T13:28:49Z</dcterms:modified>
  <cp:revision>389</cp:revision>
  <dc:subject/>
  <dc:title>Slide 1</dc:title>
</cp:coreProperties>
</file>