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2BE4-969D-46F0-BD60-A9FA3416B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6BDC-8E45-4492-92FA-76999A800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37153-D718-47F5-86E2-8EA193468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E8F3-3FCE-4CBA-803C-7A3335CE0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70F0-99F3-49C4-97CE-49E5C00E6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F47BD-6F94-4993-9C6A-D4FCE71FE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8E59-2839-4A0C-84F8-C1201FF9F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C6EC-F07D-4E80-8758-E09A78C47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69AE3-B764-484C-9A02-2596A9A73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EC7E-26FA-430D-BF1D-AA2FCC11E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EB3D4-68DC-4DEA-915D-A8124F515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334B-F9D2-471F-BC27-B7AEBDA4F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50EF-F462-448C-83CD-C55DB6A4C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E27B-2C42-4110-A53F-2199061E2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491B-17A1-4BB7-A2E5-619B7237F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E7C10-8030-410F-99E2-85B0CD465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C27C-CCFD-4C24-A89D-07390C156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8CB4A-0749-4ECD-8393-CE7936824D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E802-3895-45AE-8CFF-44EBBD5D2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8CA8-ABD9-460A-82A1-BDDB742C5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0F47-3BB4-43A6-BE65-B7B9042EF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6F3D-FCA6-445C-9C34-AD61495AF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C388-4A4D-4487-A842-8E601C048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4648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S STATION HAS THE LOGO ON THE RIGH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speedway-logo-flat.jpg"/>
          <p:cNvPicPr/>
          <p:nvPr/>
        </p:nvPicPr>
        <p:blipFill>
          <a:blip r:embed="rId1"/>
          <a:stretch/>
        </p:blipFill>
        <p:spPr>
          <a:xfrm>
            <a:off x="4952880" y="1001880"/>
            <a:ext cx="379116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W  GREAT  THOU  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419040" y="76212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HRISTIANITY TODA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WHAT HYMN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AVORITE OF ALL TIME, AFTER "AMAZING GRAC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TLU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A COMMUNAL GATHERING WHERE EACH GUEST BRINGS A DISH TO SH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304920" y="48769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OD  T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57200" y="762120"/>
            <a:ext cx="8229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-1979 SHOW WAS TV'S FIRST AFRICAN- AMERICAN 2-PARENT SITC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28680" y="48610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328680" y="754200"/>
            <a:ext cx="8534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C MORNING NEWS AND TALK SHOW DEBUTED IN 195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1181160" y="48769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OMISED  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419040" y="762120"/>
            <a:ext cx="8305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FILM STARRED MATT DAMON AND JOHN KRASINSKI AS CORPORATE SALESMEN WHO VISIT A TOWN IN SEARCH OF DRILLING RIGH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MOODY  BL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800280" y="762120"/>
            <a:ext cx="75438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UESDAY AFTERNOON" AND "YOUR WILDEST DREAM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RLS, GIRLS, GIR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ÖTLEY CRÜE SONG ABOUT STRIP CLUBS HAS A TITLE CONSISTING OF THE SAME WORD 3 T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CCORDING TO 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CHRISTIANITY TODA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WHAT HYMN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AVORITE OF ALL TIME, AFTER "AMAZING GRAC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RANKIE  &amp;  JOHN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FILM NAMED AFTER A 1904 FOLK SONG STARS AL PACINO &amp; MICHELLE PFEIFF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PEED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228600" y="988920"/>
            <a:ext cx="41911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GAS STATION HAS THE LOGO ON THE RIGH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3" descr="speedway-logo-flat.jpg"/>
          <p:cNvPicPr/>
          <p:nvPr/>
        </p:nvPicPr>
        <p:blipFill>
          <a:blip r:embed="rId1"/>
          <a:stretch/>
        </p:blipFill>
        <p:spPr>
          <a:xfrm>
            <a:off x="4946760" y="988920"/>
            <a:ext cx="3790800" cy="3048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600200" y="4343400"/>
            <a:ext cx="5943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ELVIS  PRESLEY  ALBU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IS GIVEN TO A COMMUNAL GATHERING WHERE EACH GUEST BRINGS A DISH TO SHAR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74-1979 SHOW WAS TV'S FIRST AFRICAN- AMERICAN 2-PARENT SITCO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04920" y="762120"/>
            <a:ext cx="85341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BC MORNING NEWS AND TALK SHOW DEBUTED IN 195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2 FILM STARRED MATT DAMON AND JOHN KRASINSKI AS CORPORATE SALESMEN WHO VISIT A TOWN IN SEARCH OF DRILLING RIGHT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UESDAY AFTERNOON" AND "YOUR WILDEST DREAM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723960" y="76176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ÖTLEY CRÜE SONG ABOUT STRIP CLUBS HAS A TITLE CONSISTING OF THE SAME WORD 3 TIM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FILM NAMED AFTER A 1904 FOLK SONG STARS AL PACINO &amp; MICHELLE PFEIFF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8T19:15:55Z</dcterms:created>
  <dc:creator>Jennifer Budzinski</dc:creator>
  <dc:description/>
  <dc:language>en-US</dc:language>
  <cp:lastModifiedBy>Erich Friedman</cp:lastModifiedBy>
  <dcterms:modified xsi:type="dcterms:W3CDTF">2020-08-24T13:28:49Z</dcterms:modified>
  <cp:revision>389</cp:revision>
  <dc:subject/>
  <dc:title>Slide 1</dc:title>
</cp:coreProperties>
</file>