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23A-47E6-45B9-A39D-7FDE0E839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D36-3531-47DD-B4AA-C440F1FD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62D-C143-442C-AFB7-8D55EC7E9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AF2-9EB4-4831-8C31-9195763F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D48-CF68-425D-BFD3-A753751A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495-2B0B-426B-9502-B1894164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63FB-4F31-4F81-8FCB-8FDF0CCE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436-2DC8-4C49-9D71-274D430D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5300-FF03-4FF7-A915-7875982E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DF2-6932-4002-BC89-18F47258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558E-2290-4C02-8A3B-7546B518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E887-FFA1-4616-BA66-FE0095CD6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068-D651-4608-A9E7-5053DFA53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E4D-E3D8-4E12-A031-E970F4A7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8E7-E76E-41A3-8CB9-6B43C699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1709-17C6-4E18-8C4A-632E3EEE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BCEE-5151-4E66-BDB1-30DFD080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7D46-AC0F-4EE3-8CF9-CD677FA2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9C6-4815-4531-9BE4-4F776B8A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9386-9257-4718-8DE4-1B91080E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2F1-BC49-4408-BA13-6F8FE8F4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DC66-3ABD-4A05-B804-D5153E27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879-A490-4665-B968-534B423B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SALSA IN THE U.S., AFTER TOSTITO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  ARE MENTIONED IN THE SIGNATURE SONG FROM THE PLAY "THE MUSIC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BRAND MAKES THE CHALLENGER AND CARAV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N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INSECTICIDE BRAN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RUCE HORNSBY'S BACKUP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SCIENCE FICTION THRILLER FILM STARRED EWAN MCGREGOR AND SCARLETT JOHAN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COMMOD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PERFECT SQUARE HAS DIGITS THAT ARE ALSO PERFECT SQUA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SALSA IN THE U.S., AFTER TOST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NDING  –ERS  (OR  –RS)  GIVES   MAJOR  SPORTS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  ARE MENTIONED IN THE SIGNATURE SONG FROM THE PLAY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BRAND MAKES THE CHALLENGER AND CARAV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N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INSECTICIDE BRAN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RUCE HORNSBY'S BACKUP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SCIENCE FICTION THRILLER FILM STARRED EWAN MCGREGOR AND SCARLETT JOHANS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PERFECT SQUARE HAS DIGITS THAT ARE ALSO PERFECT SQUA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8T00:23:18Z</dcterms:created>
  <dc:creator>Jennifer Budzinski</dc:creator>
  <dc:description/>
  <dc:language>en-US</dc:language>
  <cp:lastModifiedBy>Erich Friedman</cp:lastModifiedBy>
  <dcterms:modified xsi:type="dcterms:W3CDTF">2020-08-30T13:07:46Z</dcterms:modified>
  <cp:revision>465</cp:revision>
  <dc:subject/>
  <dc:title>Slide 1</dc:title>
</cp:coreProperties>
</file>