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CBC7-2A6F-4315-889B-09D3B3F5F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5353-DA97-4B19-AAFF-0AB58DDA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5C4E-7494-4285-9212-FE1054C13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A361-56FC-4110-BF91-F4D173EB2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A538-728E-47F1-BB5C-DF6223F7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C3E0-DCA5-4180-9615-6C4FCED65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CD6A-581C-4DF5-9AD2-66AA2B052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6FFA-769D-4869-B0A6-1498B78B3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C1A5-3640-43BC-A814-2BD1E4C1D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1C52-1F7C-41CB-BFE8-C16E5BEF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1DA4-1951-4AEA-876A-FCF639940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A0A7-B39F-456D-8AC0-853738DF4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7429-4E2E-4B59-99E6-3A5CDE1A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652B-C278-4AB2-AB27-5E5A7EC58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4396-E10E-4814-A380-98056DE25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5D7F-B3F9-4E86-B032-4BF7DA281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70F3-CF8A-4363-90F0-CAC6CB4C2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6D87-569B-41BD-A703-AC4D41CE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4A2D-278C-43C9-8C5E-067D4F3A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5AD7-5A66-40E7-A69F-F1641898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858D-AA3E-41E1-B12D-4D591DB7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4630-9B87-4493-B6D5-3438ACC6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FDBC-1902-47FB-89D9-3631A5C29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SALSA IN THE U.S., AFTER TOSTITO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COMMO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  ARE MENTIONED IN THE SIGNATURE SONG FROM THE PLAY "THE MUSIC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BRAND MAKES THE CHALLENGER AND CARAV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N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INSECTICIDE BRAN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RUCE HORNSBY'S BACKUP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SCIENCE FICTION THRILLER FILM STARRED EWAN MCGREGOR AND SCARLETT JOHANS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COMMOD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IGIT PERFECT SQUARE HAS DIGITS THAT ARE ALSO PERFECT SQUA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SALSA IN THE U.S., AFTER TOSTI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NDING  –ERS  (OR  –RS)  GIVES   MAJOR  SPORTS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  ARE MENTIONED IN THE SIGNATURE SONG FROM THE PLAY "THE MUSIC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BRAND MAKES THE CHALLENGER AND CARAV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N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INSECTICIDE BRAN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RUCE HORNSBY'S BACKUP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SCIENCE FICTION THRILLER FILM STARRED EWAN MCGREGOR AND SCARLETT JOHANS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IGIT PERFECT SQUARE HAS DIGITS THAT ARE ALSO PERFECT SQUA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8T00:23:18Z</dcterms:created>
  <dc:creator>Jennifer Budzinski</dc:creator>
  <dc:description/>
  <dc:language>en-US</dc:language>
  <cp:lastModifiedBy>Erich Friedman</cp:lastModifiedBy>
  <dcterms:modified xsi:type="dcterms:W3CDTF">2020-08-30T13:07:46Z</dcterms:modified>
  <cp:revision>465</cp:revision>
  <dc:subject/>
  <dc:title>Slide 1</dc:title>
</cp:coreProperties>
</file>