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FCD5-FDED-45CF-9113-302C7A2E7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C6C97-5C39-4E2D-B4F4-BB53D42FF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91F7-295C-4660-983C-B91D5E363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665C-B6C1-4C71-BA7E-552268202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5D0E-8181-4763-B687-931515EE7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6DC4-C7EA-4185-A984-2BC0C953C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5644-FC02-47B8-82AF-1EB02386C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2487-74D5-4BF6-AC6E-D248EA325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7541-5671-4DF5-9D3C-8AE8F65F4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3F51-1D7C-4696-8C48-F8F01CF0E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03BE-B818-4BB8-9FD9-524466D6B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B92B-561D-4724-8203-E58869AA9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86FF-818E-4B82-B858-8903EB59C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E75F-1876-4D4A-A5F4-DFE1F51A7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7E20-5D29-4B99-A3A7-1172E5781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4332-4DFB-47D3-B19D-36495CB41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4AB0-F238-48CE-82AA-D250F4F20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DEFC-EBD7-49DE-B94A-AE35BDA3B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6C90-8D28-4CF6-BA6A-B13E1975A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868B-C58E-4575-91F3-2AE2B22CD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4A40-E7D4-453D-812F-F8225A49B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05DF-7C28-40BB-BA74-EEB1DCDB5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0F83-05A8-4A46-9A16-EDE871304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SALSA IN THE U.S., AFTER TOSTITO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TRADED COMMOD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OMBONES   ARE MENTIONED IN THE SIGNATURE SONG FROM THE PLAY "THE MUSIC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BRAND MAKES THE CHALLENGER AND CARAV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IS THE TRADITIONAL GIFT FOR AN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INSECTICIDE BRAND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RUCE HORNSBY'S BACKUP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SCIENCE FICTION THRILLER FILM STARRED EWAN MCGREGOR AND SCARLETT JOHANS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TRADED COMMOD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IGIT PERFECT SQUARE HAS DIGITS THAT ARE ALSO PERFECT SQUA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SALSA IN THE U.S., AFTER TOSTITO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NDING  –ERS  (OR  –RS)  GIVES   MAJOR  SPORTS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OMBONES   ARE MENTIONED IN THE SIGNATURE SONG FROM THE PLAY "THE MUSIC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BRAND MAKES THE CHALLENGER AND CARAV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IS THE TRADITIONAL GIFT FOR AN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INSECTICIDE BRAND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RUCE HORNSBY'S BACKUP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SCIENCE FICTION THRILLER FILM STARRED EWAN MCGREGOR AND SCARLETT JOHANS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IGIT PERFECT SQUARE HAS DIGITS THAT ARE ALSO PERFECT SQUA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8T00:23:18Z</dcterms:created>
  <dc:creator>Jennifer Budzinski</dc:creator>
  <dc:description/>
  <dc:language>en-US</dc:language>
  <cp:lastModifiedBy>Erich Friedman</cp:lastModifiedBy>
  <dcterms:modified xsi:type="dcterms:W3CDTF">2020-08-30T13:07:46Z</dcterms:modified>
  <cp:revision>465</cp:revision>
  <dc:subject/>
  <dc:title>Slide 1</dc:title>
</cp:coreProperties>
</file>