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13E3-8CA6-49C0-9140-0234DBA9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8AA2-0062-4FD2-8C9C-005CE0ED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654D-8991-4766-9340-E6E46C3D0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3388-0F12-4688-8C3D-99959FC3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D099-3211-4DD5-A93A-24D0C341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E8F7-FE20-4FF5-AE19-914BE479E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668A-91FD-4C49-8314-7CABD5D26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0CC0-46D4-4D6A-8244-B81EBDFE8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2178-9C1F-4D3C-8383-39FD3CFE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4A17-86AD-4BB0-B098-C80405DA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3922-0F1A-42BD-B4B7-9894AD26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61F5-19A1-44F1-8B32-535B2A3FE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A2BF-7D44-4B26-AAAA-BA67440B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8575-54B1-4CB8-99D4-4EDDECF3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DE4B-2F26-45FF-93FF-DD4AEB665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8AA6-273F-4CA6-97E1-14741B6BE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DE48-AE06-4C1D-9DD0-98190ABD6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1651-ED8D-49DC-AF8C-017D40F50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2B7C-F4E8-49C2-AE6F-4AD4D9EB5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48A6-AD90-4144-89BF-09A510402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28C1-91F0-49FA-A84B-C8801354A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5B4A-8D29-4000-B567-3828BDBE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3946-ED9D-447F-BE26-1E3FCCBD2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THE GERMANS INVENTED A "FOOD BOMB" THAT WOULD EXPLODE IF A PIECE WERE BROKEN OFF.  WHAT WAS IT COVERED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990720"/>
            <a:ext cx="4071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PLUG-IN HAS THIS L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206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54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CORNELIUS, THE MINISTER OF MAGIC FOR THE U.K.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62040" y="77148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POPULAR CHOICE OF PET, THOUGH ONL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04880" y="762120"/>
            <a:ext cx="773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CAR PART REMAINS A WORD IF ANY ONE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 WALK  THE)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6180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 THE TITLE OF BOTH JOHNNY CASH'S FIRST #1 SONG AND THE 2005 FILM ABOUT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04920" y="1219320"/>
            <a:ext cx="471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C APPLICATION HAS THIS 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5024520" y="609480"/>
            <a:ext cx="3813120" cy="38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30200" y="762120"/>
            <a:ext cx="828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THE GERMANS INVENTED A "FOOD BOMB" THAT WOULD EXPLODE IF A PIECE WERE BROKEN OFF.  WHAT WAS IT COVERED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O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152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PLUG-IN HAS THIS LOG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206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CORNELIUS, THE MINISTER OF MAGIC FOR THE U.K.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89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POPULAR CHOICE OF PET, THOUGH ONLY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CAR PART REMAINS A WORD IF ANY ONE LETTER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 THE TITLE OF BOTH JOHNNY CASH'S FIRST #1 SONG AND THE 2005 FILM ABOUT HIS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48117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C APPLICATION HAS THIS 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014800" y="609480"/>
            <a:ext cx="381168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13:08:34Z</dcterms:modified>
  <cp:revision>419</cp:revision>
  <dc:subject/>
  <dc:title>Slide 1</dc:title>
</cp:coreProperties>
</file>