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F1E7-B2ED-42EA-A2FC-EB2911C67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2D73-3635-4F47-8EE4-0B1D2E44C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AB82-8E0D-4573-8459-12B04F913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23F8-501A-4013-82AB-609E9930D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752C-4269-4218-BF8C-7C1BA0B86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B39C-8A81-438C-BEF3-1781BE347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D5C7-79A7-4587-BE60-092A1A456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72C0-3875-4794-8708-7732F2EFF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6C11-BE60-4F34-A3ED-B9E37EC32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0359-52B7-4F04-98EA-839A10E6F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D318-C940-49B7-8BD9-BBCA537AB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7AD0-40A4-4870-901C-74C3D5699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2F86-81AD-460D-9838-4CC01EC97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2C88-9C60-4E05-B377-F3BDC2268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1114-4CF8-4E2F-BD0C-272CBA362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84B1-6C53-4295-8D04-3EF9F712F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4600-F61D-4434-B61E-616FCF2A5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ABAE-A94D-4CA4-AB8B-EDE029FBC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3A67-E032-4B3E-87E2-22E669EF0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9525-0B6E-4E0A-8ACE-0E88CC5FB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A03C-017C-49DB-9EA3-5E20D15AE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1E55-322A-4DFC-A695-164849B69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8140-9A30-4D1B-8F6F-FC9EE8AEC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WII, THE GERMANS INVENTED A "FOOD BOMB" THAT WOULD EXPLODE IF A PIECE WERE BROKEN OFF.  WHAT WAS IT COVERED W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QUAYLE FAMOUSLY MISSP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990720"/>
            <a:ext cx="4071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OWSER PLUG-IN HAS THIS LO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206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54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CORNELIUS, THE MINISTER OF MAGIC FOR THE U.K. IN THE "HARRY POTTER"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662040" y="771480"/>
            <a:ext cx="78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POPULAR CHOICE OF PET, THOUGH ONLY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04880" y="762120"/>
            <a:ext cx="7734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CAR PART REMAINS A WORD IF ANY ONE LETTER IS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 WALK  THE) 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61800" y="762120"/>
            <a:ext cx="847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 THE TITLE OF BOTH JOHNNY CASH'S FIRST #1 SONG AND THE 2005 FILM ABOUT HIS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04920" y="1219320"/>
            <a:ext cx="471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C APPLICATION HAS THIS 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5024520" y="609480"/>
            <a:ext cx="3813120" cy="38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4360" y="762120"/>
            <a:ext cx="777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QUAYLE FAMOUSLY MISSP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LENGTH IS EQUAL TO 5.5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30200" y="762120"/>
            <a:ext cx="828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WII, THE GERMANS INVENTED A "FOOD BOMB" THAT WOULD EXPLODE IF A PIECE WERE BROKEN OFF.  WHAT WAS IT COVERED W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HO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152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OWSER PLUG-IN HAS THIS LOGO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3206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CORNELIUS, THE MINISTER OF MAGIC FOR THE U.K. IN THE "HARRY POTTER"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3880" y="762120"/>
            <a:ext cx="789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POPULAR CHOICE OF PET, THOUGH ONLY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CAR PART REMAINS A WORD IF ANY ONE LETTER IS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 THE TITLE OF BOTH JOHNNY CASH'S FIRST #1 SONG AND THE 2005 FILM ABOUT HIS 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48117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C APPLICATION HAS THIS IC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5014800" y="609480"/>
            <a:ext cx="381168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LENGTH IS EQUAL TO 5.5 Y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30T13:08:34Z</dcterms:modified>
  <cp:revision>419</cp:revision>
  <dc:subject/>
  <dc:title>Slide 1</dc:title>
</cp:coreProperties>
</file>