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1CDA-56A6-4BE8-9D44-18923FEB4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3F9B-9C00-4088-A31A-81BD249F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E090-8B99-4076-A337-DAF20217A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6471-4CAA-40D0-AF45-992A8018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18E2-59D3-4B43-B6BC-99FFA225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649A-1120-429F-9E0F-29460DBC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120D-E934-497D-872A-E5A4755F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72ED-E080-460F-8DB5-1B3E1433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36A-A141-4E00-B73B-886213DC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DC5-F23F-4B79-A3E2-E4338317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97B8-F5A2-451C-ADDF-436137A9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8EA1-8F2C-44A8-8CB5-E0DBE850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C68B-9F49-482F-AFF6-634C912F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06C-4478-4897-A8D4-CAC80AB3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3664-B5CA-49B0-BA61-2F1929AA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B04-B8BA-4F4D-AF5B-E3424B59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1377-5231-4398-B7AB-F7EB2499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A245-136D-4898-A182-25FC167B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75FC-AC36-4794-870F-E1596388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7CA-AFDE-48EC-93EE-012182E1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6BD-27F6-4836-86EF-F63CE5DC7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58EE-62DF-450E-B4C1-6CF22B556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BFA3-BA51-444F-91D1-1515AFCC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THE GERMANS INVENTED A "FOOD BOMB" THAT WOULD EXPLODE IF A PIECE WERE BROKEN OFF.  WHAT WAS IT COVERED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990720"/>
            <a:ext cx="4071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PLUG-IN HAS THIS L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206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CORNELIUS, THE MINISTER OF MAGIC FOR THE U.K.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62040" y="77148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POPULAR CHOICE OF PET, THOUGH ONL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CAR PART REMAINS A WORD IF ANY ONE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 WALK  THE)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6180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 THE TITLE OF BOTH JOHNNY CASH'S FIRST #1 SONG AND THE 2005 FILM ABOUT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04920" y="1219320"/>
            <a:ext cx="471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C APPLICATION HAS THIS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5024520" y="609480"/>
            <a:ext cx="381312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30200" y="762120"/>
            <a:ext cx="828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THE GERMANS INVENTED A "FOOD BOMB" THAT WOULD EXPLODE IF A PIECE WERE BROKEN OFF.  WHAT WAS IT COVERED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PLUG-IN HAS THIS LO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206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CORNELIUS, THE MINISTER OF MAGIC FOR THE U.K.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POPULAR CHOICE OF PET, THOUGH ONL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CAR PART REMAINS A WORD IF ANY ONE LETTER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 THE TITLE OF BOTH JOHNNY CASH'S FIRST #1 SONG AND THE 2005 FILM ABOUT HIS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8117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C APPLICATION HAS THIS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014800" y="609480"/>
            <a:ext cx="381168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13:08:34Z</dcterms:modified>
  <cp:revision>419</cp:revision>
  <dc:subject/>
  <dc:title>Slide 1</dc:title>
</cp:coreProperties>
</file>