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EDE2-489E-4E54-826D-5F2631A63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7D8-AB32-4F7B-B03E-8A4691509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FC82-7F98-422D-A663-0A822C1B6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10D7-66CA-4F81-B3AB-188EDC1C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2C3E-6854-4244-807C-FAAF6205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2B3F-A083-4396-A209-81B4C808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105A-15FD-4EB1-93B8-98FD54D2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C2B-F892-4526-9FAD-BD85C2DE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A320-AB47-4B37-AACC-B0D4FC4E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F627-D086-4849-BE51-1D6186863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22D6-38F0-49AF-ACDC-D394AE13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9971-43DD-4B56-A4B1-A971B75E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F8A-A7B5-457B-8144-F67E32AFC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5BDF-AEEF-49E6-A141-C8AB4A94F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747E-D555-41EC-9399-22732CAA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7ED8-5215-4186-9DED-9E912583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DF6D-8270-4B94-9A33-97AC3C22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E252-D660-46E1-BAD3-39120C6F6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18C5-A27F-498A-8323-230F38A6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2DD8-8FBB-451F-B8EE-9776F66E2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DDD0-1CCE-4F97-AFF2-B653B623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6A40-2AAD-4C1D-B1B9-C44544B0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D3EE-A76E-4507-B2F8-94731B428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SCIENCE, WHAT IS THE NAME OF AN OBJECT THAT STORES THE MEMORY ADDRESS OF ANOTHER VAL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RM, DRY WIND THAT BLOWS EAST ACROSS THE ROCKIES SHARES ITS NAME WITH THE LARGEST PACIFIC SAL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DEBUTED IN 1969, WHAT BRITISH "JUMP JET" WAS THE FIRST PLANE OF ITS ERA THAT COULD TAKE OFF VER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T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621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CROS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YH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INTER-CITY BUS SERVIC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H JONG, WHAT KIND OF MELD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3"/>
          <a:stretch/>
        </p:blipFill>
        <p:spPr>
          <a:xfrm>
            <a:off x="5410080" y="2666880"/>
            <a:ext cx="1328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AT WAS THE OCCUPATION OF ABRAHAM, JACOB, DAVID, AND MO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BOY WEARS CLOTHES OF CHILDREN'S SIZE 6H, WHAT DOES THE "H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RM, DRY WIND THAT BLOWS EAST ACROSS THE ROCKIES SHARES ITS NAME WITH THE LARGEST PACIFIC SAL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GENTLEMAN JIM" CORBETT'S PROFESSION, WHICH MADE HIM ONE OF THE MOST FAMOUS AMERICANS OF HIS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SCIENCE, WHAT IS THE NAME OF AN OBJECT THAT STORES THE MEMORY ADDRESS OF ANOTHER VA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1371600" y="48769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BR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DEBUTED IN 1969, WHAT BRITISH "JUMP JET" WAS THE FIRST PLANE OF ITS ERA THAT COULD TAKE OFF VER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CROS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INTER-CITY BUS SERVIC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H JONG, WHAT KIND OF MELD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3"/>
          <a:stretch/>
        </p:blipFill>
        <p:spPr>
          <a:xfrm>
            <a:off x="5410080" y="2666880"/>
            <a:ext cx="13287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AT WAS THE OCCUPATION OF ABRAHAM, JACOB, DAVID, AND MO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BOY WEARS CLOTHES OF CHILDREN'S SIZE 6H, WHAT DOES THE "H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GENTLEMAN JIM" CORBETT'S PROFESSION, WHICH MADE HIM ONE OF THE MOST FAMOUS AMERICANS OF HIS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20:54:30Z</dcterms:created>
  <dc:creator>Jennifer Budzinski</dc:creator>
  <dc:description/>
  <dc:language>en-US</dc:language>
  <cp:lastModifiedBy>Erich Friedman</cp:lastModifiedBy>
  <dcterms:modified xsi:type="dcterms:W3CDTF">2020-08-30T17:16:15Z</dcterms:modified>
  <cp:revision>437</cp:revision>
  <dc:subject/>
  <dc:title>Slide 1</dc:title>
</cp:coreProperties>
</file>