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6D0D-908F-4D25-829E-007BD2157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71A5-2EBC-4D33-BAB3-CEBF37278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E8B3-50A5-4FBE-BBEC-0CDF1F3D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54C5-2916-4868-9E92-7CF48E332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25EA-ADFC-4370-874A-7F57C35D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D8CF-B5A2-42D6-A74B-85BC0817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C06C-D613-4D81-8A2B-509E16F9E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40D9-16AF-4B87-B9D0-389860590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3724-AAB1-4458-AA41-AA56EBF4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759D-F8A4-4BD7-AAA2-2DC9C42F0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DBE4-B611-45ED-A373-791CA06D2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4FB1-8522-441C-A899-7EF5446B7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496B-4C1D-4E4E-BCEC-7EAE1D94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4F12-7481-42E8-BFC7-19058C6F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7BB9-DAEB-4FF7-ABB2-C77D71D3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980D-3DBB-4E61-9080-0DB6FA2F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7F61-0B7A-46E6-9556-7D31D9A27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8C60-1735-447F-BC4A-29295B6FB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2D0F-0304-4ED8-823C-0D7C01813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180E-EA1B-4720-8469-86597E6C5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2ACB-6053-4B6F-AA8C-1C61A338A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79CD-86F1-41C7-AF39-9C14D21E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87C5-7E0F-43F8-950E-2FF7D1EFE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SCIENCE, WHAT IS THE NAME OF AN OBJECT THAT STORES THE MEMORY ADDRESS OF ANOTHER VA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RM, DRY WIND THAT BLOWS EAST ACROSS THE ROCKIES SHARES ITS NAME WITH THE LARGEST PACIFIC SAL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DEBUTED IN 1969, WHAT BRITISH "JUMP JET" WAS THE FIRST PLANE OF ITS ERA THAT COULD TAKE OFF VER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T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CROS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58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H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INTER-CITY BUS SERVIC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H JONG, WHAT KIND OF MELD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3"/>
          <a:stretch/>
        </p:blipFill>
        <p:spPr>
          <a:xfrm>
            <a:off x="5410080" y="2666880"/>
            <a:ext cx="132876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AT WAS THE OCCUPATION OF ABRAHAM, JACOB, DAVID, AND MO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BOY WEARS CLOTHES OF CHILDREN'S SIZE 6H, WHAT DOES THE "H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RM, DRY WIND THAT BLOWS EAST ACROSS THE ROCKIES SHARES ITS NAME WITH THE LARGEST PACIFIC SAL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GENTLEMAN JIM" CORBETT'S PROFESSION, WHICH MADE HIM ONE OF THE MOST FAMOUS AMERICANS OF HIS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SCIENCE, WHAT IS THE NAME OF AN OBJECT THAT STORES THE MEMORY ADDRESS OF ANOTHER VA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1371600" y="48769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BR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DEBUTED IN 1969, WHAT BRITISH "JUMP JET" WAS THE FIRST PLANE OF ITS ERA THAT COULD TAKE OFF VER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CROS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INTER-CITY BUS SERVIC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MAH JONG, WHAT KIND OF MEL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3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1328760" cy="16002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3"/>
          <a:stretch/>
        </p:blipFill>
        <p:spPr>
          <a:xfrm>
            <a:off x="5410080" y="2666880"/>
            <a:ext cx="132876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AT WAS THE OCCUPATION OF ABRAHAM, JACOB, DAVID, AND MO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BOY WEARS CLOTHES OF CHILDREN'S SIZE 6H, WHAT DOES THE "H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GENTLEMAN JIM" CORBETT'S PROFESSION, WHICH MADE HIM ONE OF THE MOST FAMOUS AMERICANS OF HIS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20:54:30Z</dcterms:created>
  <dc:creator>Jennifer Budzinski</dc:creator>
  <dc:description/>
  <dc:language>en-US</dc:language>
  <cp:lastModifiedBy>Erich Friedman</cp:lastModifiedBy>
  <dcterms:modified xsi:type="dcterms:W3CDTF">2020-08-30T17:16:15Z</dcterms:modified>
  <cp:revision>437</cp:revision>
  <dc:subject/>
  <dc:title>Slide 1</dc:title>
</cp:coreProperties>
</file>