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2DF4-6D1F-4B82-9F0B-CA48A8832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376B-832A-42AB-ACB7-CF722B81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E08-1F38-490D-9C71-C5A514BD9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D754-946A-4357-9E77-560AECA7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ABCF-CE77-4D0F-B34F-B2DE4C5B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43FE-A71F-496A-B0D8-DFB80657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5B5-1ADA-4851-918F-174E9FEAB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EC8-D975-437C-9C60-EBDD0C19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9BA-4336-48E4-8EEE-1FB72799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C7D6-F8CD-4E21-902E-3C7AF6262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D724-79C9-4E41-98DC-D0E8AC30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F41-F3D3-4F2C-9329-CF15B1A41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80F9-937B-40F7-B4F4-6D9B06B9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E53F-4C4B-4E0E-A991-2C6CCCF0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1867-3001-4ABC-BF3C-D762787EB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FBAD-2D83-446B-B627-5C5F226D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7AC3-0A87-43BF-972E-400A006B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CFC0-E1E6-43B4-8FE0-935B3A0F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8529-E2EA-4F54-8414-1EAD6159F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A7B7-F31F-48FF-BC72-49BF0DA5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685-1EB2-4877-913C-E32EDA3CC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494-5E6D-4194-90F9-C3B38EE3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F28-7794-4A7E-854B-E73E77BA7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SCIENCE, WHAT IS THE NAME OF AN OBJECT THAT STORES THE MEMORY ADDRESS OF ANOTHER VA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RM, DRY WIND THAT BLOWS EAST ACROSS THE ROCKIES SHARES ITS NAME WITH THE LARGEST PACIFIC SAL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DEBUTED IN 1969, WHAT BRITISH "JUMP JET" WAS THE FIRST PLANE OF ITS ERA THAT COULD TAKE OFF VER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T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CROS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H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INTER-CITY BUS SERVIC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H JONG, WHAT KIND OF MELD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3"/>
          <a:stretch/>
        </p:blipFill>
        <p:spPr>
          <a:xfrm>
            <a:off x="5410080" y="2666880"/>
            <a:ext cx="1328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AT WAS THE OCCUPATION OF ABRAHAM, JACOB, DAVID, AND MO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BOY WEARS CLOTHES OF CHILDREN'S SIZE 6H, WHAT DOES THE "H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RM, DRY WIND THAT BLOWS EAST ACROSS THE ROCKIES SHARES ITS NAME WITH THE LARGEST PACIFIC SAL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GENTLEMAN JIM" CORBETT'S PROFESSION, WHICH MADE HIM ONE OF THE MOST FAMOUS AMERICANS OF HIS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SCIENCE, WHAT IS THE NAME OF AN OBJECT THAT STORES THE MEMORY ADDRESS OF ANOTHER VA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1371600" y="48769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BR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DEBUTED IN 1969, WHAT BRITISH "JUMP JET" WAS THE FIRST PLANE OF ITS ERA THAT COULD TAKE OFF VER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CROS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INTER-CITY BUS SERVIC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H JONG, WHAT KIND OF MEL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5410080" y="2666880"/>
            <a:ext cx="13287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AT WAS THE OCCUPATION OF ABRAHAM, JACOB, DAVID, AND MO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BOY WEARS CLOTHES OF CHILDREN'S SIZE 6H, WHAT DOES THE "H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GENTLEMAN JIM" CORBETT'S PROFESSION, WHICH MADE HIM ONE OF THE MOST FAMOUS AMERICANS OF HIS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20:54:30Z</dcterms:created>
  <dc:creator>Jennifer Budzinski</dc:creator>
  <dc:description/>
  <dc:language>en-US</dc:language>
  <cp:lastModifiedBy>Erich Friedman</cp:lastModifiedBy>
  <dcterms:modified xsi:type="dcterms:W3CDTF">2020-08-30T17:16:15Z</dcterms:modified>
  <cp:revision>437</cp:revision>
  <dc:subject/>
  <dc:title>Slide 1</dc:title>
</cp:coreProperties>
</file>