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FEE1-E4F1-41DF-BFDB-25131A6D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EC98-DDC7-4B95-A487-1FCF209F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1B3-ADC9-45B2-9D9E-B7FD931A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95B-69F0-4240-9C70-120C4143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94A-742E-4FBE-8EF6-3918931C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F5B-4532-4FE0-B20F-4146B5DC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722-1367-4FD3-B89B-885ECF2C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18A3-3408-47BB-9903-0976166D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CBB-0C43-497C-B827-4A041AAB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AEA-CE3F-420D-B6DF-45BCC0B38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6CF6-CA68-4B57-A2A5-311B498F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C3E-C874-4E1F-946C-A3A7B404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810-BA67-476D-B913-E642EAE5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DD9-9BC1-48B5-A061-E2E578BD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89B-67C4-4421-84D2-E63D955F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97E-B092-41DD-ADFE-B629229E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627-F949-4170-9DA5-D435C825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596E-CC68-41D7-B9C8-70077A6D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413-355E-4A80-85F2-2DEE42C6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1117-0F98-4EB7-B997-1A8D579F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56C-DBE1-4C66-AB21-42FEADA2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7AAA-3997-4DA7-96E8-E80EE285D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DE34-A686-4487-81E9-EE3153DE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092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4628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05040" y="25732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NE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4T19:27:52Z</dcterms:created>
  <dc:creator>Jennifer Budzinski</dc:creator>
  <dc:description/>
  <dc:language>en-US</dc:language>
  <cp:lastModifiedBy>Erich Friedman</cp:lastModifiedBy>
  <dcterms:modified xsi:type="dcterms:W3CDTF">2020-08-30T17:16:58Z</dcterms:modified>
  <cp:revision>355</cp:revision>
  <dc:subject/>
  <dc:title>Slide 1</dc:title>
</cp:coreProperties>
</file>