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8B76-A5AB-4135-9A15-DCB95AB5B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6500-424E-4F98-A44B-CD4986160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34E7C-8214-477A-A848-A446DEBD1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E6B08-FBEC-421B-BABE-6CBD03C13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2B20-738B-4AC0-97E1-DCC1A9DE3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8146-99C7-4BDF-B9D6-7E1A22370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14DC-2F80-4280-9ED0-C0580CF44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FFE7-7617-4939-92D9-AD89B173E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117C-CB4C-4D56-A501-83C3BB6CF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965F-BF5E-411B-AC0D-7169D89AB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5E69-3517-4A82-8B44-B7A0E77E7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542E-63C8-47A0-A11E-CF1FB7F81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E5C0-53C2-4B37-889B-6870CD7D3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7BCC-3617-471E-973E-AC1A8C379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55AD-4916-46D5-9E5C-0B32F439B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0BC5-25B0-4507-9D4A-A1DADAD9E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544E-3482-455F-A0BB-AC6396875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E95D-2002-4E0A-8FAF-EF1CC8ABE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5C6D-D00D-41AF-8E10-8D93CF072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C2A3-B91D-4BE5-A640-D422D5F69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D3B0-3FA0-481E-B624-D3236E730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384A-B2D4-40E8-AB5D-03D750BB8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CB4D-F54D-4E6D-A504-6B6E9173A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BRANDI CHASTAIN REMOVE AFTER MAKING THE KICK THAT WON THE 1999 WOMEN'S WORLD C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U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380880" y="762120"/>
            <a:ext cx="8382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JASON, A CHARACTER MATT DAMON PLAYED IN 3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8092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THE LARGEST SOURCE OF IMMIGRATION TO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33520" y="7588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IS 239,000 MILES AWAY FROM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S. MOBILE NETWORK OPERATOR, AFTER VERIZON, AT&amp;T, AND T-MOB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DRAMA TV SERIES STARRED NATHAN FILLION AS A WRITER AND STANA KATIC AS A DETECTIV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990720" y="762120"/>
            <a:ext cx="71625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HICLE IS MENTIONED IN CHAPTERS 6-9 OF GENES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981080" y="4876920"/>
            <a:ext cx="5181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533520" y="74628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OF 53 MILLION PEOPLE HAS THIS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705040" y="2573280"/>
            <a:ext cx="3733920" cy="22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JASON, A CHARACTER MATT DAMON PLAYED IN 3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ST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 ESTATE LAWYER WILL TELL YOU THAT "WILL" AND WHAT OTHER TERM MEAN EXACTLY THE SAME 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BRANDI CHASTAIN REMOVE AFTER MAKING THE KICK THAT WON THE 1999 WOMEN'S WORLD C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430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NEW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THE LARGEST SOURCE OF IMMIGRATION TO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BJECT IS 239,000 MILES AWAY FROM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.S. MOBILE NETWORK OPERATOR, AFTER VERIZON, AT&amp;T, AND T-MOBI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IME DRAMA TV SERIES STARRED NATHAN FILLION AS A WRITER AND STANA KATIC AS A DETECTIV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EHICLE IS MENTIONED IN CHAPTERS 6-9 OF GENESI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OF 53 MILLION PEOPLE HAS THIS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8102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 ESTATE LAWYER WILL TELL YOU THAT "WILL" AND WHAT OTHER TERM MEAN EXACTLY THE SAME TH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4T19:27:52Z</dcterms:created>
  <dc:creator>Jennifer Budzinski</dc:creator>
  <dc:description/>
  <dc:language>en-US</dc:language>
  <cp:lastModifiedBy>Erich Friedman</cp:lastModifiedBy>
  <dcterms:modified xsi:type="dcterms:W3CDTF">2020-08-30T17:16:58Z</dcterms:modified>
  <cp:revision>355</cp:revision>
  <dc:subject/>
  <dc:title>Slide 1</dc:title>
</cp:coreProperties>
</file>