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1D7B4-A9B7-4523-8766-9B63F471B8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69DB3-4A89-42C2-BFD7-19779625C6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9D122-235D-45E0-BED7-26D434467A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A5532-02D7-404F-A05A-4B0639FD1A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1CA7B-226E-4C06-964F-1ED441F0B6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A64EF-CAB9-4281-B2BA-0767F11A42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3A8C0-4FB5-4B02-8A51-97A799D7CC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55596-30D7-4A2D-B530-7D2BC3CBC0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D224B-D2D3-41C8-AFE2-FAFC7576F7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877BD-6BDE-4753-98A2-798FEED531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A33D9-9FEB-468B-AB7E-85E985895A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ACA6F-F5DA-4FA8-AD8E-20C6D197DF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12621-AAC9-4328-83AF-6FC9C825C7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D442F-9188-4EDA-B7CD-688CB5B272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A43AB-15A8-470B-A23E-7DBB7F027F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87492-6A9D-4B66-AC4E-EF7D179401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5EF8D-D1CD-4491-9D75-29AC64D9A5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07A09-A422-40CE-893F-52B49A6185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D5D7C-731E-4710-AA15-48C205853B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A519D-5B58-4D02-8F63-1C0EB5EE4B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3C932-C935-4D83-AE48-F44A45CDC8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A3E4E-4614-4DFC-8B9F-2BB7DA3CBD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0D104-E0DB-4EA7-BADE-E49FD99BAC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799920" y="152388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/>
          </p:nvPr>
        </p:nvSpPr>
        <p:spPr>
          <a:xfrm>
            <a:off x="495360" y="761760"/>
            <a:ext cx="81532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ID BRANDI CHASTAIN REMOVE AFTER MAKING THE KICK THAT WON THE 1999 WOMEN'S WORLD CUP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3"/>
          <p:cNvSpPr/>
          <p:nvPr/>
        </p:nvSpPr>
        <p:spPr>
          <a:xfrm>
            <a:off x="1676520" y="4876920"/>
            <a:ext cx="57909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OUR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3"/>
          <p:cNvSpPr/>
          <p:nvPr/>
        </p:nvSpPr>
        <p:spPr>
          <a:xfrm>
            <a:off x="380880" y="762120"/>
            <a:ext cx="838224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JASON, A CHARACTER MATT DAMON PLAYED IN 3 FILM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3"/>
          <p:cNvSpPr/>
          <p:nvPr/>
        </p:nvSpPr>
        <p:spPr>
          <a:xfrm>
            <a:off x="838080" y="4876920"/>
            <a:ext cx="74678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EXIC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2"/>
          <p:cNvSpPr/>
          <p:nvPr/>
        </p:nvSpPr>
        <p:spPr>
          <a:xfrm>
            <a:off x="880920" y="762120"/>
            <a:ext cx="739152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UNTRY IS THE LARGEST SOURCE OF IMMIGRATION TO THE U.S.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O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2"/>
          <p:cNvSpPr/>
          <p:nvPr/>
        </p:nvSpPr>
        <p:spPr>
          <a:xfrm>
            <a:off x="533520" y="758880"/>
            <a:ext cx="80769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OBJECT IS 239,000 MILES AWAY FROM THE EARTH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3"/>
          <p:cNvSpPr/>
          <p:nvPr/>
        </p:nvSpPr>
        <p:spPr>
          <a:xfrm>
            <a:off x="1752480" y="4876920"/>
            <a:ext cx="56390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PRI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2"/>
          <p:cNvSpPr/>
          <p:nvPr/>
        </p:nvSpPr>
        <p:spPr>
          <a:xfrm>
            <a:off x="647640" y="762120"/>
            <a:ext cx="78487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4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LARGEST U.S. MOBILE NETWORK OPERATOR, AFTER VERIZON, AT&amp;T, AND T-MOBIL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S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2"/>
          <p:cNvSpPr/>
          <p:nvPr/>
        </p:nvSpPr>
        <p:spPr>
          <a:xfrm>
            <a:off x="457200" y="762120"/>
            <a:ext cx="82296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RIME DRAMA TV SERIES STARRED NATHAN FILLION AS A WRITER AND STANA KATIC AS A DETECTIVE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3"/>
          <p:cNvSpPr/>
          <p:nvPr/>
        </p:nvSpPr>
        <p:spPr>
          <a:xfrm>
            <a:off x="457200" y="4876920"/>
            <a:ext cx="82296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R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2"/>
          <p:cNvSpPr/>
          <p:nvPr/>
        </p:nvSpPr>
        <p:spPr>
          <a:xfrm>
            <a:off x="990720" y="762120"/>
            <a:ext cx="716256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VEHICLE IS MENTIONED IN CHAPTERS 6-9 OF GENESI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3"/>
          <p:cNvSpPr/>
          <p:nvPr/>
        </p:nvSpPr>
        <p:spPr>
          <a:xfrm>
            <a:off x="1981080" y="4876920"/>
            <a:ext cx="51818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NGL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Rectangle 2"/>
          <p:cNvSpPr/>
          <p:nvPr/>
        </p:nvSpPr>
        <p:spPr>
          <a:xfrm>
            <a:off x="533520" y="746280"/>
            <a:ext cx="80769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UNTRY OF 53 MILLION PEOPLE HAS THIS FLA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8" name="Picture 3" descr=""/>
          <p:cNvPicPr/>
          <p:nvPr/>
        </p:nvPicPr>
        <p:blipFill>
          <a:blip r:embed="rId1"/>
          <a:stretch/>
        </p:blipFill>
        <p:spPr>
          <a:xfrm>
            <a:off x="2705040" y="2573280"/>
            <a:ext cx="3733920" cy="2239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342720" y="762120"/>
            <a:ext cx="84582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JASON, A CHARACTER MATT DAMON PLAYED IN 3 FILM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ESTA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647640" y="762120"/>
            <a:ext cx="78487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Y ESTATE LAWYER WILL TELL YOU THAT "WILL" AND WHAT OTHER TERM MEAN EXACTLY THE SAME THI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228600" y="4876920"/>
            <a:ext cx="8763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ERS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71680" y="762120"/>
            <a:ext cx="800100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ID BRANDI CHASTAIN REMOVE AFTER MAKING THE KICK THAT WON THE 1999 WOMEN'S WORLD CUP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3"/>
          <p:cNvSpPr/>
          <p:nvPr/>
        </p:nvSpPr>
        <p:spPr>
          <a:xfrm>
            <a:off x="343080" y="4876920"/>
            <a:ext cx="8458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N  FOLLOW  THE  WORD  "NEW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2"/>
          <p:cNvSpPr/>
          <p:nvPr/>
        </p:nvSpPr>
        <p:spPr>
          <a:xfrm>
            <a:off x="533520" y="80028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838080" y="761760"/>
            <a:ext cx="74678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UNTRY IS THE LARGEST SOURCE OF IMMIGRATION TO THE U.S.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380880" y="762120"/>
            <a:ext cx="83822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OBJECT IS 239,000 MILES AWAY FROM THE EARTH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609480" y="762120"/>
            <a:ext cx="79250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4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LARGEST U.S. MOBILE NETWORK OPERATOR, AFTER VERIZON, AT&amp;T, AND T-MOBIL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419040" y="76212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RIME DRAMA TV SERIES STARRED NATHAN FILLION AS A WRITER AND STANA KATIC AS A DETECTIVE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876240" y="761760"/>
            <a:ext cx="7391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VEHICLE IS MENTIONED IN CHAPTERS 6-9 OF GENESIS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0" y="761760"/>
            <a:ext cx="91440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UNTRY OF 53 MILLION PEOPLE HAS THIS FLAG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9" name="Picture 2" descr=""/>
          <p:cNvPicPr/>
          <p:nvPr/>
        </p:nvPicPr>
        <p:blipFill>
          <a:blip r:embed="rId1"/>
          <a:stretch/>
        </p:blipFill>
        <p:spPr>
          <a:xfrm>
            <a:off x="2666880" y="2666880"/>
            <a:ext cx="381024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571320" y="762120"/>
            <a:ext cx="80010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Y ESTATE LAWYER WILL TELL YOU THAT "WILL" AND WHAT OTHER TERM MEAN EXACTLY THE SAME THING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24T19:27:52Z</dcterms:created>
  <dc:creator>Jennifer Budzinski</dc:creator>
  <dc:description/>
  <dc:language>en-US</dc:language>
  <cp:lastModifiedBy>Erich Friedman</cp:lastModifiedBy>
  <dcterms:modified xsi:type="dcterms:W3CDTF">2020-08-30T17:16:58Z</dcterms:modified>
  <cp:revision>355</cp:revision>
  <dc:subject/>
  <dc:title>Slide 1</dc:title>
</cp:coreProperties>
</file>