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BCA4-8C37-4A10-A3C7-52916292E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EFEE-C95D-496C-999F-05E3614B8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4EA6-742D-47A7-8B1E-344F95C6D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1CD4-A341-4CA4-A4F6-C0431DA48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D1D1-B36C-4767-949B-D12B36E11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64F1-3A64-48AE-BAFB-4089DDCB0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4648-F8FA-49B5-8022-5E7D0658E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0D61-593E-49A5-A021-50B8CD147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E500-1D83-4A34-AA2D-E9DE9B6F6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3E62-0279-4622-8862-D612EC353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52EB-587D-4700-BA98-DD57A2B1D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61AD-E99E-4792-947E-9CF94D538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2DCF-D1D1-4E67-854D-A548F7CA9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5E2E-4E3B-4013-8197-640C5EE60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7FEC-890C-45E9-AF0C-13AAE4E03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108D-0EED-48A5-AC4A-052643027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C293-4D9B-44D2-9016-E3BBC7B39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93ED-00FC-45B6-B101-BDC726BEA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7639-D147-42B8-9DC4-30F9F3EB6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A9F9-0D9E-4263-8B74-1C15DAC0A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B960-FC5D-481B-AD27-F18DD1D41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E438-2D08-4A0F-A3EC-151767521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3E18-13A7-4D32-A1A6-7A041DA2B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85920" y="990360"/>
            <a:ext cx="6572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FAMOUS FOR GETTING MARRIED 9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B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PACE ODDITY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NCY  REA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LADY STARTED THE "JUST SAY NO" CAMPAIG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680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1999" AND "LITTLE RED CORVET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HAMMAD  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AVYWEIGHT BOXING CHAMP WAS STRIPPED OF HIS TITLES FOR DRAFT EVA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  WIL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ILLY WONKA IN THE 1971 FIL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NOLD  PAL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54200"/>
            <a:ext cx="71625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GOLFER WON 7 MAJOR TITLES AND HAS A DRINK NAMED AFTER HI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DEL  CAS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ONGEST-SERVING NON-ROYAL HEAD OF STATE SINCE 19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PACE ODDITY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GLE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95280" y="750960"/>
            <a:ext cx="65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MERICAN TO ORBIT THE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SA  ZSA  GAB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66680" y="762120"/>
            <a:ext cx="70106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FAMOUS FOR GETTING MARRIED 9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DIED  IN  20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409760" y="761760"/>
            <a:ext cx="6324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LADY STARTED THE "JUST SAY NO" CAMPAIG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1999" AND "LITTLE RED CORVET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AVYWEIGHT BOXING CHAMP WAS STRIPPED OF HIS TITLES FOR DRAFT EVA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ILLY WONKA IN THE 1971 FIL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GOLFER WON 7 MAJOR TITLES AND HAS A DRINK NAMED AFTER HI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ONGEST-SERVING NON-ROYAL HEAD OF STATE SINCE 19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MERICAN TO ORBIT THE EAR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8:00:03Z</dcterms:created>
  <dc:creator>Jennifer Budzinski</dc:creator>
  <dc:description/>
  <dc:language>en-US</dc:language>
  <cp:lastModifiedBy>Erich Friedman</cp:lastModifiedBy>
  <dcterms:modified xsi:type="dcterms:W3CDTF">2020-08-30T17:17:43Z</dcterms:modified>
  <cp:revision>334</cp:revision>
  <dc:subject/>
  <dc:title>Slide 1</dc:title>
</cp:coreProperties>
</file>