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B631-D1D9-4A46-990A-93F36F844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97E4-1AD2-41C5-8F4B-D777941AE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936C-F9AE-4019-ADD9-43FD9161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1CFE-C061-4365-9798-07CEE87FD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4627-C029-43A9-A093-73E760443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15A3-EF4C-4B60-981E-3821C3615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141B-0070-4EB7-A002-AD779A044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2B58-399D-414A-B4E3-CAC57BC40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EA22-E8DE-46E1-863D-870BE28B6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98E4-7984-4F60-9028-ACFC31D78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0B42-ACF3-4BCD-AA58-3B003DF2E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0665-6C7F-4E71-97FE-9424606E3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D681-3EAA-4646-9148-AD69EB2BC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01C6-D4DB-43FB-BE7A-116C7C7E1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80AB-ACCB-487C-8253-27F65CEB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975F-7D4A-44D2-A99D-CD32F026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EDD0-163B-4C64-A0AB-63E2A3BFC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68B1-D31D-4D22-8CB7-FE85EB2E2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87CE-C298-498F-A787-6972D38D0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9711-2D0A-4F62-B42E-2CBE00A73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B38B-247E-4BBF-AC8D-D00C2F9CA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17BB-6826-4587-88E9-22D4CF9A6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2BED-38F6-41D2-AAA1-0CB484A2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85920" y="990360"/>
            <a:ext cx="6572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FAMOUS FOR GETTING MARRIED 9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PACE ODDIT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NCY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TARTED THE "JUST SAY NO" CAMPA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680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1999" AND "LITTLE RED CORV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HAMMAD  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WEIGHT BOXING CHAMP WAS STRIPPED OF HIS TITLES FOR DRAFT EVA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Y WONKA IN THE 1971 FIL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5420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GOLFER WON 7 MAJOR TITLES AND HAS A DRINK NAMED AFTER H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EL  C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NON-ROYAL HEAD OF STATE SINCE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PACE ODDIT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L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5096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TO ORBIT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SA  ZSA  GA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FAMOUS FOR GETTING MARRIED 9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DIED  IN 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TARTED THE "JUST SAY NO" CAMPAIG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1999" AND "LITTLE RED CORV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WEIGHT BOXING CHAMP WAS STRIPPED OF HIS TITLES FOR DRAFT EVA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Y WONKA IN THE 1971 FIL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GOLFER WON 7 MAJOR TITLES AND HAS A DRINK NAMED AFTER HI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NON-ROYAL HEAD OF STATE SINCE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TO ORBIT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8:00:03Z</dcterms:created>
  <dc:creator>Jennifer Budzinski</dc:creator>
  <dc:description/>
  <dc:language>en-US</dc:language>
  <cp:lastModifiedBy>Erich Friedman</cp:lastModifiedBy>
  <dcterms:modified xsi:type="dcterms:W3CDTF">2020-08-30T17:17:43Z</dcterms:modified>
  <cp:revision>334</cp:revision>
  <dc:subject/>
  <dc:title>Slide 1</dc:title>
</cp:coreProperties>
</file>