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CFB8-EE34-4263-B5C9-C728D10C1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A80C-C589-4E02-A89A-F26487229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EB18-BF0C-4400-A472-9D73CE9D8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E72F-A590-4002-81C8-C1BF8BD5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E813-8FBB-4173-ADF0-4B2FCF207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28F0-5076-401F-9296-0A067F400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C158-8A45-4882-A448-4CF76158E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BC5E-3017-45C2-BAE8-46BCDE3E4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FEE9-1573-4860-8315-165F58CCC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465D-6379-439A-886D-5DB784F59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D210-23C9-485D-A759-328D004C3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AEFF-0325-4C5B-94E3-73078D0C8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0D15-6C81-408D-B1E4-030B8AAB7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4EC2-0153-4014-8EA6-A7D3C8B94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7B53-DC20-4982-8085-D54BBA234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D3B8-BFC9-44A1-A9CB-8EA7454C0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7257-8310-44FB-B2A2-E21872216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3BD1-E62C-4F14-8DD1-257874340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4060-4DF5-4274-85E3-BCB97387C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25FC-0893-4461-9B80-D2FBD69C9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9F08-11CE-46AC-BBFE-214DB9E27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8A38-CA73-4334-8487-81A4DE728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C783-4499-4F46-ACCB-B5D09D19B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85920" y="990360"/>
            <a:ext cx="6572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FAMOUS FOR GETTING MARRIED 9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PACE ODDIT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NCY  RE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STARTED THE "JUST SAY NO" CAMPA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680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1999" AND "LITTLE RED CORV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HAMMAD  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WEIGHT BOXING CHAMP WAS STRIPPED OF HIS TITLES FOR DRAFT EVA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Y WONKA IN THE 1971 FIL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5420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GOLFER WON 7 MAJOR TITLES AND HAS A DRINK NAMED AFTER H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DEL  CA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SERVING NON-ROYAL HEAD OF STATE SINCE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PACE ODDIT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L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5096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TO ORBIT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SA  ZSA  GA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FAMOUS FOR GETTING MARRIED 9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DIED  IN 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STARTED THE "JUST SAY NO" CAMPAIG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1999" AND "LITTLE RED CORV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WEIGHT BOXING CHAMP WAS STRIPPED OF HIS TITLES FOR DRAFT EVA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Y WONKA IN THE 1971 FIL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GOLFER WON 7 MAJOR TITLES AND HAS A DRINK NAMED AFTER HI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SERVING NON-ROYAL HEAD OF STATE SINCE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TO ORBIT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8:00:03Z</dcterms:created>
  <dc:creator>Jennifer Budzinski</dc:creator>
  <dc:description/>
  <dc:language>en-US</dc:language>
  <cp:lastModifiedBy>Erich Friedman</cp:lastModifiedBy>
  <dcterms:modified xsi:type="dcterms:W3CDTF">2020-08-30T17:17:43Z</dcterms:modified>
  <cp:revision>334</cp:revision>
  <dc:subject/>
  <dc:title>Slide 1</dc:title>
</cp:coreProperties>
</file>