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AAFF-1F62-46AF-B671-1BFAAB6D4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4CD4-031C-4D49-AF6D-02D2E65EA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BB87-D657-4662-B54C-A71930192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A762-29E4-465A-8675-29B9E8A99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B25F-1296-4E50-82D5-0294482A7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089B-21EE-4D94-83D8-052EDD009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DB55-A651-447A-A809-21D480B1A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3FEA-B80A-4E6E-BB05-D929C0368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076C-3B84-47E5-8315-AA6ED2048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CF9D-C53A-47E6-9EBE-96F848FBC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FE80-9477-475E-82B0-F3055241D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C007-1EF4-4F6F-8162-22E7D4754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D4B2-6CCA-49A7-948A-F27506588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38F1-D0B2-441B-89E9-0358ADB86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058B-AAA7-4D2E-AA2B-EC8E6F977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08EE-662B-4EC3-BD72-BE6CD2284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0CF9-919F-46BD-8F82-DE4DC3336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5D1A-1D8A-4A24-A182-D516C483E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4E93-A639-4FB9-B30F-63A603AD1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5EBA-9307-4FD2-9DD0-54DEC5CEC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12E1-E3DD-4904-97A9-EDD9C806D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F28E-B885-46E3-B49D-C51450688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18DF-6A3D-4E05-80F5-16BDEC763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SERACING BET WILL PAY OFF IF YOUR HORSE COMES IN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541520" y="762120"/>
            <a:ext cx="6060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ACKUP BAND OF HUEY LEW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A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7240" y="762120"/>
            <a:ext cx="7767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ITY SHOW ABOUT EXPOSING INFIDELITY HAS BEEN RUNNING FOR ALMOST 2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09680" y="762120"/>
            <a:ext cx="832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S IN SCRABBLE ARE WORTH THE MOST POINTS, ALONG WITH THE Q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977760" y="4875120"/>
            <a:ext cx="718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054080" y="760320"/>
            <a:ext cx="7035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HILDREN'S CARD GAME DOES ONE ASK QUESTIONS LIKE "DO YOU HAVE ANY 4'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SB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093680" y="762120"/>
            <a:ext cx="6956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USED COMMONLY NOW, WHAT WORD WAS TRADEMARKED BY THE     WHAM-O TOY COMPANY IN 195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228600" y="838080"/>
            <a:ext cx="4614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RESENTED BY THIS SCUBA DIVING SIG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5410080" y="947880"/>
            <a:ext cx="297972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PE BE SEEN ATOP TIMES SQUARE ALL YEAR LONG, BUT ONLY GETS USED THE LAST DAY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03360" y="762120"/>
            <a:ext cx="6135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ACKUP BAND OF HUEY LEW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7680" y="762120"/>
            <a:ext cx="810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IES, LEO, AND SAGITTARIUS ARE KNOWN AS WHAT SORT OF ZODIAC SIG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92040" y="762120"/>
            <a:ext cx="8359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SERACING BET WILL PAY OFF IF YOUR HORSE COMES IN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33440" y="4876920"/>
            <a:ext cx="6477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C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14240" y="761760"/>
            <a:ext cx="7715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ITY SHOW ABOUT EXPOSING INFIDELITY HAS BEEN RUNNING FOR ALMOST 2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28680" y="762120"/>
            <a:ext cx="8486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S IN SCRABBLE ARE WORTH THE MOST POINTS, ALONG WITH THE Q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30320" y="762120"/>
            <a:ext cx="708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HILDREN'S CARD GAME DOES ONE ASK QUESTIONS LIKE "DO YOU HAVE ANY 4'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01880" y="762120"/>
            <a:ext cx="7138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USED COMMONLY    NOW, WHAT WORD WAS TRADEMARKED BY THE WHAM-O TOY COMPANY IN 195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1920" y="914040"/>
            <a:ext cx="4691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RESENTED BY THIS SCUBA DIVING SIGN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5410080" y="947880"/>
            <a:ext cx="29797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5760" y="761760"/>
            <a:ext cx="823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PE BE SEEN ATOP TIMES SQUARE ALL YEAR LONG, BUT ONLY GETS USED THE LAST DAY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25600" y="762120"/>
            <a:ext cx="8091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IES, LEO, AND SAGITTARIUS ARE KNOWN AS WHAT SORT OF ZODIAC SIG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30T17:18:22Z</dcterms:modified>
  <cp:revision>425</cp:revision>
  <dc:subject/>
  <dc:title>Slide 1</dc:title>
</cp:coreProperties>
</file>