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803-4A42-49EF-BE30-742D786FA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70C6-F0F5-4649-8C58-F57C083A6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C2A-1AFC-4B87-BB71-502739ED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63AC-DFB2-4E4D-A3FA-5D25041E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697A-E471-4FBC-8BC9-B01595265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5BE2-703C-4F74-B98C-D26EA48E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38B7-35C9-493E-B61D-4B33391AA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583-0FB2-4962-8EA3-67E65DA4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56C2-976D-4180-9784-4BEF0338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F32C-D6CF-4E6F-B935-FC616973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8985-1D17-4185-AC7D-24666694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4CB-F369-4703-9E38-063D2A4D8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E8E5-1D48-4FE2-9B86-D5D06FDE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3B4D-CA43-43BE-AF51-0C5E1CFA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4A8E-C0E2-4755-9142-3B9A4CCC9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DC30-C0EF-4020-BBBF-AA433E427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E36C-BC70-4701-955D-3F972BC8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3270-2CCF-4781-AE95-94271CD4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30FA-AE65-466F-AF15-03ED8F3BE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DB0-0B23-4DE2-9008-663BEDC75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A356-4B7A-4146-9503-9CC8566B8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F95-EE18-4EDD-A8B1-2C3D53D4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E822-810D-4181-BF81-86F0A1C9F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SERACING BET WILL PAY OFF IF YOUR 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541520" y="762120"/>
            <a:ext cx="6060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CKUP BAND OF HUEY LEW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A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7240" y="762120"/>
            <a:ext cx="7767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SHOW ABOUT EXPOSING INFIDELITY HAS BEEN RUNNING FOR ALMOST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IN SCRABBLE ARE WORTH THE MOST POINTS, ALONG WITH THE Q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54080" y="760320"/>
            <a:ext cx="703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HILDREN'S CARD GAME DOES ONE ASK QUESTIONS LIKE "DO YOU HAVE ANY 4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SB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93680" y="762120"/>
            <a:ext cx="69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USED COMMONLY NOW, WHAT WORD WAS TRADEMARKED BY THE     WHAM-O TOY COMPANY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838080"/>
            <a:ext cx="4614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IS SCUBA DIVING SIG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5410080" y="947880"/>
            <a:ext cx="29797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BE SEEN ATOP TIMES SQUARE ALL YEAR LONG, BUT ONLY GETS USED THE LAST DAY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03360" y="762120"/>
            <a:ext cx="613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CKUP BAND OF HUEY LEW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7680" y="762120"/>
            <a:ext cx="810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ES, LEO, AND SAGITTARIUS ARE KNOWN AS WHAT SORT OF ZODIAC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92040" y="762120"/>
            <a:ext cx="835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SERACING BET WILL PAY OFF IF YOUR 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33440" y="4876920"/>
            <a:ext cx="6477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SHOW ABOUT EXPOSING INFIDELITY HAS BEEN RUNNING FOR ALMOST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28680" y="762120"/>
            <a:ext cx="848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IN SCRABBLE ARE WORTH THE MOST POINTS, ALONG WITH THE Q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30320" y="762120"/>
            <a:ext cx="708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HILDREN'S CARD GAME DOES ONE ASK QUESTIONS LIKE "DO YOU HAVE ANY 4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01880" y="762120"/>
            <a:ext cx="713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USED COMMONLY    NOW, WHAT WORD WAS TRADEMARKED BY THE WHAM-O TOY COMPANY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469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IS SCUBA DIVING SIGN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5410080" y="947880"/>
            <a:ext cx="2979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3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BE SEEN ATOP TIMES SQUARE ALL YEAR LONG, BUT ONLY GETS USED THE LAST DAY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5600" y="762120"/>
            <a:ext cx="8091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ES, LEO, AND SAGITTARIUS ARE KNOWN AS WHAT SORT OF ZODIAC SIG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17:18:22Z</dcterms:modified>
  <cp:revision>425</cp:revision>
  <dc:subject/>
  <dc:title>Slide 1</dc:title>
</cp:coreProperties>
</file>