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85A5-11CC-47D8-9902-450225425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4719-E591-4B77-9217-37850B464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7643-6338-4228-9E1E-E536897C7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530B-CB02-403C-8190-F68316B71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AA70-5126-4713-83ED-B01C58CD0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8304-C3B8-4D5A-A593-56E36914D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D039-654F-493F-8BE1-C8B0D221A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C372-0917-49E6-9617-DD0C1EC06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5558-0D71-4569-8417-B3F474599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8BF1-AA44-4CD9-AF54-989306946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EB27-08F6-49BE-BFE0-693A6A78C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EB62-FC05-4F7C-89BB-5061C3311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DA4D-8C8E-4436-A372-B02637066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BDA0-56C4-42A8-AEE7-9CCA1EDB3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1D25-401A-4FB1-9EC2-957748441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5903-4828-4B5E-829F-3B1DEF821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9D1B-ABB4-4FEB-9971-1A14E0CA6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6659-BF73-4866-8360-BF144C5EE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E813-A62B-4F82-877E-7D7978552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5261-F44B-40E4-B008-D5F9FEDAD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2145-351E-4BFC-9534-2F332DBEB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AE62-019A-4C84-AEB7-DA8A667F7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9F4B-CEC8-47E1-865C-60CF06687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90600" y="761760"/>
            <a:ext cx="8362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RSERACING BET WILL PAY OFF IF YOUR HORSE COMES IN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OR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N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541520" y="762120"/>
            <a:ext cx="6060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BACKUP BAND OF HUEY LEW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A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87240" y="762120"/>
            <a:ext cx="7767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ALITY SHOW ABOUT EXPOSING INFIDELITY HAS BEEN RUNNING FOR ALMOST 2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409680" y="762120"/>
            <a:ext cx="8324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TTERS IN SCRABBLE ARE WORTH THE MOST POINTS, ALONG WITH THE Q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977760" y="4875120"/>
            <a:ext cx="7188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054080" y="760320"/>
            <a:ext cx="7035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HILDREN'S CARD GAME DOES ONE ASK QUESTIONS LIKE "DO YOU HAVE ANY 4'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ISB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093680" y="762120"/>
            <a:ext cx="6956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LE USED COMMONLY NOW, WHAT WORD WAS TRADEMARKED BY THE     WHAM-O TOY COMPANY IN 195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228600" y="838080"/>
            <a:ext cx="46148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REPRESENTED BY THIS SCUBA DIVING SIGN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2" descr=""/>
          <p:cNvPicPr/>
          <p:nvPr/>
        </p:nvPicPr>
        <p:blipFill>
          <a:blip r:embed="rId1"/>
          <a:stretch/>
        </p:blipFill>
        <p:spPr>
          <a:xfrm>
            <a:off x="5410080" y="947880"/>
            <a:ext cx="297972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65120" y="762120"/>
            <a:ext cx="8213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PE BE SEEN ATOP TIMES SQUARE ALL YEAR LONG, BUT ONLY GETS USED THE LAST DAY OF THE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503360" y="762120"/>
            <a:ext cx="6135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BACKUP BAND OF HUEY LEW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17680" y="762120"/>
            <a:ext cx="810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IES, LEO, AND SAGITTARIUS ARE KNOWN AS WHAT SORT OF ZODIAC SIG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92040" y="762120"/>
            <a:ext cx="8359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RSERACING BET WILL PAY OFF IF YOUR HORSE COMES IN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OR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333440" y="4876920"/>
            <a:ext cx="6477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YOU  CAN  C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14240" y="761760"/>
            <a:ext cx="7715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ALITY SHOW ABOUT EXPOSING INFIDELITY HAS BEEN RUNNING FOR ALMOST 2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28680" y="762120"/>
            <a:ext cx="8486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TTERS IN SCRABBLE ARE WORTH THE MOST POINTS, ALONG WITH THE Q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30320" y="762120"/>
            <a:ext cx="7081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HILDREN'S CARD GAME DOES ONE ASK QUESTIONS LIKE "DO YOU HAVE ANY 4'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01880" y="762120"/>
            <a:ext cx="7138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LE USED COMMONLY    NOW, WHAT WORD WAS TRADEMARKED BY THE WHAM-O TOY COMPANY IN 195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51920" y="914040"/>
            <a:ext cx="4691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REPRESENTED BY THIS SCUBA DIVING SIGN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5410080" y="947880"/>
            <a:ext cx="29797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5760" y="761760"/>
            <a:ext cx="8232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PE BE SEEN ATOP TIMES SQUARE ALL YEAR LONG, BUT ONLY GETS USED THE LAST DAY OF THE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25600" y="762120"/>
            <a:ext cx="80913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IES, LEO, AND SAGITTARIUS ARE KNOWN AS WHAT SORT OF ZODIAC SIG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08-30T17:18:22Z</dcterms:modified>
  <cp:revision>425</cp:revision>
  <dc:subject/>
  <dc:title>Slide 1</dc:title>
</cp:coreProperties>
</file>