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3634-270C-4AC3-BBF3-1BE50F62A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C149-AF29-4872-89EB-100B9FFB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B657-4C54-4938-8B34-0006D51BC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DECB-9DEF-425F-AFB9-411ACD7F7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B333-D6C5-42D5-B4A3-5F9B4956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0956-4E56-4B9C-93C8-A428A31B2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CE58-94ED-43B3-B8A9-A53252055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9579E-62DF-4FF1-9BC0-B9A713556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A6D3-AC60-489E-8508-507459D20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B97E-D9BE-462C-B103-6E5798403D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81E6-8D57-4F6C-AAD9-D6903D89B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D3E5C-0044-430B-8D6E-41D5B6E31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6302-5A87-4D28-AD99-A42E55FB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AF0-28BA-4BE3-9188-B85250B11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5C78-F0E5-4340-91B2-60F533D1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DF22-B1E9-4DD0-8B54-23CF01FB0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7828-2866-409C-8AE4-4B2FC5C87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75BB-1C4A-4AFE-BA8A-F36DE8DB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6A15-5052-4429-A25B-FF0E08F78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C80-73D5-45CF-9D01-70382D352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7E296-108F-48F1-BD51-B1E025A55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CB4A4-90B9-4386-A6D3-CB2AA36AB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52614-CBF5-47BD-8C9F-8E771A916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42960" y="761760"/>
            <a:ext cx="7858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FRANKIE VALLI THE LEAD SINGER O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M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SCIENCE, SCIENCE FICTION, AND FANTASY MAGAZINE WAS PUBLISHED 1978-199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N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457200" y="762120"/>
            <a:ext cx="82296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CHESS PIECES THAT DO NOT MOVE HORIZONTALLY, VERTICALLY OR DIAGONALL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NGRI–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PLACE FROM THE NOVEL "LOST HORIZON" HAS BECOME SYNONYMOUS WITH AN EARTHLY PARAD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NAISS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660240" y="781200"/>
            <a:ext cx="7823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IOD OF EUROPEAN HISTORY FROM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 OFTE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I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EWAN MCGREGOR, GERARD BUTLER, AND ANNIE LENNOX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IL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628560" y="762120"/>
            <a:ext cx="7886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TYPE "PARIS" INTO GOOGLE AUTOCOMPLETE, WHAT IS THE FIRST WORD SUGGESTED AFTERWARD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762120" y="762120"/>
            <a:ext cx="76197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RADON-222, THE MOST STABLE ISOTOPE OF THIS GAS, HAVE A HALF-LIFE OF MINUTES, DAYS, OR YEARS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60480" y="762120"/>
            <a:ext cx="7221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-LETTER SCIENCE, SCIENCE FICTION, AND FANTASY MAGAZINE WAS PUBLISHED 1978-199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809640" y="762120"/>
            <a:ext cx="752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2" descr=""/>
          <p:cNvPicPr/>
          <p:nvPr/>
        </p:nvPicPr>
        <p:blipFill>
          <a:blip r:embed="rId1"/>
          <a:stretch/>
        </p:blipFill>
        <p:spPr>
          <a:xfrm>
            <a:off x="2871720" y="2514600"/>
            <a:ext cx="3398760" cy="23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OUR  SEAS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19280" y="762120"/>
            <a:ext cx="7705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AND WAS FRANKIE VALLI THE LEAD SINGER OF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170000" y="4876920"/>
            <a:ext cx="680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TEL  OR  INN  CH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38120" y="761760"/>
            <a:ext cx="82677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ONLY CHESS PIECES THAT DO NOT MOVE HORIZONTALLY, VERTICALLY OR DIAGONALL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CTIONAL PLACE FROM THE NOVEL "LOST HORIZON" HAS BECOME SYNONYMOUS WITH AN EARTHLY PARADI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19200" y="762120"/>
            <a:ext cx="7905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PERIOD OF EUROPEAN HISTORY FROM THE 14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17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CENTURIES OFTE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TIONALITY ARE EWAN MCGREGOR, GERARD BUTLER, AND ANNIE LENNOX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F YOU TYPE "PARIS" INTO GOOGLE AUTOCOMPLETE, WHAT IS THE FIRST WORD SUGGESTED AFTERWA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OES RADON-222, THE MOST STABLE ISOTOPE OF THIS GAS, HAVE A HALF-LIFE OF MINUTES, DAYS, OR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ENTAL CAR COMPANY HAS THIS LO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"/>
          <p:cNvPicPr/>
          <p:nvPr/>
        </p:nvPicPr>
        <p:blipFill>
          <a:blip r:embed="rId1"/>
          <a:stretch/>
        </p:blipFill>
        <p:spPr>
          <a:xfrm>
            <a:off x="2871720" y="2514600"/>
            <a:ext cx="3398760" cy="2333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4:21Z</dcterms:modified>
  <cp:revision>360</cp:revision>
  <dc:subject/>
  <dc:title>Slide 1</dc:title>
</cp:coreProperties>
</file>