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C51B-7C83-452D-BB29-864FBE8AC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8AE0-BDC1-4815-B4E6-BCD517BD5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6B9A-1913-42B1-A1AD-116D0F557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B790-6FE4-4BEE-A5F5-26A48B7FC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E1F2-5ACF-403B-A21F-85CF63598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7F29-A369-4F06-AC56-939EDFBB6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C60D-4130-4832-8DA5-27689AFC2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C21D-8691-4BB3-87F3-3380E1E11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6FD5-19AC-49EB-8656-7547FC8D8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D262-2B30-49D9-8D3D-524EFFECD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B794-14DE-44C1-972E-C7FAD53D6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24BD-7D94-4892-9B8D-81ED2BCBA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AAC6-2230-4C9F-A0F1-EA506AD4C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E3C8-3B43-4A3D-B26D-F2D9B828E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B74C-14F0-4E2E-99D2-194A24814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6666-F307-4FBD-8093-0827561F3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EF91-410E-460E-9533-74AD9A315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4667-0A91-45EB-9040-9E4A7F411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321C-2EEA-45F0-87B2-4A8660C1B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3CDB-A774-4BBC-BA0C-BB7CDDF91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1717-7216-4E35-95EE-5269FD56B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9877-7A06-4E7B-B20E-9D0EFE64C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EC27-2317-4F49-A8E4-281D42CBE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2960" y="761760"/>
            <a:ext cx="7858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WAS FRANKIE VALLI THE LEAD SINGER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M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SCIENCE, SCIENCE FICTION, AND FANTASY MAGAZINE WAS PUBLISHED 1978-199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ONLY CHESS PIECES THAT DO NOT MOVE HORIZONTALLY, VERTICALLY OR DIAGON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NGRI–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PLACE FROM THE NOVEL "LOST HORIZON" HAS BECOME SYNONYMOUS WITH AN EARTHLY PARAD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2209680" y="489600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ENAISS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60240" y="781200"/>
            <a:ext cx="7823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ERIOD OF EUROPEAN HISTORY FROM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IES OFTEN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399960" y="762120"/>
            <a:ext cx="8344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ARE EWAN MCGREGOR, GERARD BUTLER, AND ANNIE LENNO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28560" y="762120"/>
            <a:ext cx="7886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TYPE "PARIS" INTO GOOGLE AUTOCOMPLETE, WHAT IS THE FIRST WORD SUGGESTED AFTERWARD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ES RADON-222, THE MOST STABLE ISOTOPE OF THIS GAS, HAVE A HALF-LIFE OF MINUTES, DAYS, OR YEARS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60480" y="762120"/>
            <a:ext cx="722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SCIENCE, SCIENCE FICTION, AND FANTASY MAGAZINE WAS PUBLISHED 1978-199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809640" y="762120"/>
            <a:ext cx="752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NTAL CAR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2871720" y="2514600"/>
            <a:ext cx="3398760" cy="23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UR  SEA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19280" y="762120"/>
            <a:ext cx="7705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WAS FRANKIE VALLI THE LEAD SINGER OF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170000" y="4876920"/>
            <a:ext cx="680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EL  OR  INN  CH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ONLY CHESS PIECES THAT DO NOT MOVE HORIZONTALLY, VERTICALLY OR DIAGON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PLACE FROM THE NOVEL "LOST HORIZON" HAS BECOME SYNONYMOUS WITH AN EARTHLY PARAD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ERIOD OF EUROPEAN HISTORY FROM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IES OFTEN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ARE EWAN MCGREGOR, GERARD BUTLER, AND ANNIE LENNO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71400" y="762120"/>
            <a:ext cx="7801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TYPE "PARIS" INTO GOOGLE AUTOCOMPLETE, WHAT IS THE FIRST WORD SUGGESTED AFTERW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ES RADON-222, THE MOST STABLE ISOTOPE OF THIS GAS, HAVE A HALF-LIFE OF MINUTES, DAYS, OR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NTAL CAR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2871720" y="2514600"/>
            <a:ext cx="3398760" cy="233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0T17:24:21Z</dcterms:modified>
  <cp:revision>360</cp:revision>
  <dc:subject/>
  <dc:title>Slide 1</dc:title>
</cp:coreProperties>
</file>