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721A-F980-47F2-A70D-2D96E7AA8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9964-D8EA-4A00-9A40-7C381D83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AC08-0683-44C2-AC20-DF7BBE1E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21F0-995D-4F08-A0CF-E3743E86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29B6-B10F-45AA-8908-0F56DB13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7584-A9B0-4142-8FFD-A18EF131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531E-B4B1-4D76-B924-C35C224C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0A4D-EB38-4377-91DB-C4478DC11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D8B7-CD52-469C-B3EC-40BBB6A1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3568-338F-42D1-8EBD-AC4A4A689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6325-338F-4CD4-8309-F9275E912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32C6-9308-44B5-9D93-140E35C0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9520-3798-4534-BF22-29BF1AB61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A4DD-921E-4384-895D-82A56FD6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EBD0-57DD-44A3-B5E3-C25FE251D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20D4-1713-4271-8779-8611E2CCD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5F53-0514-4234-A2CC-783BFF6D7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3875-05DC-41B1-AAFD-593AC363B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545D-9A47-4320-A2BC-B184EAC49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7E51-F9E0-4E04-9ED6-AE91D4E3A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84AD-7E06-487E-84FD-88135DD92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ED63-5258-48C4-87BF-6C3DAB0F7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FFCB-E827-4131-B19E-4A9AB6FCF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2960" y="761760"/>
            <a:ext cx="785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FRANKIE VALLI THE LEAD SINGER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SCIENCE, SCIENCE FICTION, AND FANTASY MAGAZINE WAS PUBLISHED 1978-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CHESS PIECES THAT DO NOT MOVE HORIZONTALLY, VERTICALLY OR DIAGON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NGRI–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PLACE FROM THE NOVEL "LOST HORIZON" HAS BECOME SYNONYMOUS WITH AN EARTHLY PARAD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NAISS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60240" y="781200"/>
            <a:ext cx="782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IOD OF EUROPEAN HISTORY FROM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IES OFTE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EWAN MCGREGOR, GERARD BUTLER, AND ANNIE LENN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28560" y="762120"/>
            <a:ext cx="7886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TYPE "PARIS" INTO GOOGLE AUTOCOMPLETE, WHAT IS THE FIRST WORD SUGGESTED AFTERWARD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RADON-222, THE MOST STABLE ISOTOPE OF THIS GAS, HAVE A HALF-LIFE OF MINUTES, DAYS, OR YEAR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0480" y="762120"/>
            <a:ext cx="722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SCIENCE, SCIENCE FICTION, AND FANTASY MAGAZINE WAS PUBLISHED 1978-19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09640" y="762120"/>
            <a:ext cx="752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NTAL CAR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871720" y="2514600"/>
            <a:ext cx="3398760" cy="23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  SEA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19280" y="762120"/>
            <a:ext cx="7705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FRANKIE VALLI THE LEAD SINGER O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70000" y="4876920"/>
            <a:ext cx="680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EL  OR  INN 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CHESS PIECES THAT DO NOT MOVE HORIZONTALLY, VERTICALLY OR DIAGON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PLACE FROM THE NOVEL "LOST HORIZON" HAS BECOME SYNONYMOUS WITH AN EARTHLY PARAD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IOD OF EUROPEAN HISTORY FROM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IES OFTE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EWAN MCGREGOR, GERARD BUTLER, AND ANNIE LENN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TYPE "PARIS" INTO GOOGLE AUTOCOMPLETE, WHAT IS THE FIRST WORD SUGGESTED AFTER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RADON-222, THE MOST STABLE ISOTOPE OF THIS GAS, HAVE A HALF-LIFE OF MINUTES, DAYS, OR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NTAL CAR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871720" y="2514600"/>
            <a:ext cx="3398760" cy="23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4:21Z</dcterms:modified>
  <cp:revision>360</cp:revision>
  <dc:subject/>
  <dc:title>Slide 1</dc:title>
</cp:coreProperties>
</file>