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4897-925F-442B-B29A-A65046B36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DE00-8FA1-4184-932E-A2593088D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7085-A001-4A24-A0A0-FB580A09B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7283-9ABE-4463-92BC-6DD340C57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2402-3DB2-45D0-A745-012FA2A1F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103A-BA4C-40EF-8DFC-2DDD2D1A6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6CB8-5DEF-469B-9BE2-BDF3625C3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2519-76FE-4049-9773-74F1BCFF5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4C59-C038-493C-AF81-BF0C668DC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33EA-2E4C-49B7-A36D-064DD561F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C36B-56E7-4347-B556-FC7D01BCF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0126-2188-4BD2-B8CD-CC487CB7D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10CE-7270-4680-8275-E1EBB5750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94E5-C866-404E-8351-EE199B13A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9AE3-919E-4910-8FCE-A44462348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AA4E-3213-41EA-BA57-917A870A6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5D00-3E97-4C1B-A560-3B7BFFAD6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770D-3AD3-4CE8-B0D9-DB5FE060D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E45F-FC7B-457F-8E2D-E19FD2D6F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7B2E-C15E-427B-9190-3DC876723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3599-D2EA-4D02-A78A-9551C2378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1159-C223-4F04-954F-A9B1FA43F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A277-D272-46AD-A347-0D58110E6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28720" y="761760"/>
            <a:ext cx="7486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DID B.B. KING GIVE TO HIS GUIT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BEGAN WITH THE SONG "AQUARI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MAKES THE CHALLENGER AND THE CHAR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356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ELEMENTS ARE IN THE SECOND ROW OF THE PERIODIC T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2209680" y="4896000"/>
            <a:ext cx="472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95480" y="768240"/>
            <a:ext cx="6953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800'S, WHAT WAS AMERICA'S LARGEST CROP AND EX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99960" y="762120"/>
            <a:ext cx="8344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ARVEL COMIC UNIVERSE, WHAT WAS THE NAME OF DAREDEVIL'S AND ELEKTRA'S TEAC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28560" y="762120"/>
            <a:ext cx="78868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UNCTION f(x) SATISFYING f(–x) = –f(x) IS CALLED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914400" y="487692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EA  =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½)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BASE  (HEIGH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ATH FORMULA  A=½Bh, WHAT DOES "B" STAND FOR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50800" y="762120"/>
            <a:ext cx="804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BEGAN WITH THE SONG "AQUARI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YSTAL  (GAY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34920" y="762120"/>
            <a:ext cx="727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IRST FEMALE COUNTRY ARTIST THAT HAD A PLATINUM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05040" y="762120"/>
            <a:ext cx="73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DID B.B. KING GIVE TO HIS GUITA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BALL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MAKES THE CHALLENGER AND THE CHAR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ELEMENTS ARE IN THE SECOND ROW OF THE PERIODIC T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800'S, WHAT WAS AMERICA'S LARGEST CROP AND EX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ARVEL COMIC UNIVERSE, WHAT WAS THE NAME OF DAREDEVIL'S AND ELEKTRA'S TEAC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71400" y="762120"/>
            <a:ext cx="7801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UNCTION f(x) SATISFYING f(–x) = –f(x) IS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ATH FORMULA  A=½Bh, WHAT DOES "B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IRST FEMALE COUNTRY ARTIST THAT HAD A PLATINUM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0T17:25:10Z</dcterms:modified>
  <cp:revision>353</cp:revision>
  <dc:subject/>
  <dc:title>Slide 1</dc:title>
</cp:coreProperties>
</file>