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1FA17-B20B-41E5-BC99-9052129F89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6F627-EA44-4CFA-8F78-3AEAD9ABBB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712E3-2423-4E38-A72C-6E8EC4B530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4225A-8CB9-462B-B1C3-A9D6204857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F5275-2EE5-4D13-AC8D-DAB87FDFB6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FC47E-9B76-4350-B71C-2ABE2E5E94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82A85-43F0-4744-AACA-FC6EB40E56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AED9F-23D1-4EDC-B0F7-A68929DC0D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BF7CC-9542-4811-92F4-998BB4C0D7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7A5CD-9D4B-4DE5-949E-54F9224BB7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588C1-6298-4313-B8E8-939B78923E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05552-39B2-4B61-82C1-D967911D55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3D419-9A69-48A8-BFB5-B1810B9EED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F9760-79B8-44AB-9C92-5CEF38B52D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28334-9CD4-4B08-86F6-C816DAF578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8535C-F4DA-4EBE-889F-36707787F4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534FD-5C4B-48A2-B6C9-6FCEA610AF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73BEC-3F24-46B4-949B-00CA62D934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81130-697E-440A-AA40-D1FEC0677B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F62E5-E65E-4C40-BB90-640A39EF41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EEED7-B633-446D-9F31-F3F133BB60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A7C84-1E22-4C74-9B38-F0B3C57B69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6A746-EAD0-4CAD-B3C6-1F8680546C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485720" y="1523880"/>
            <a:ext cx="6172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828720" y="761760"/>
            <a:ext cx="74865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AME DID B.B. KING GIVE TO HIS GUITAR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AI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838080" y="762120"/>
            <a:ext cx="746784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USICAL BEGAN WITH THE SONG "AQUARIU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OD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685800" y="762120"/>
            <a:ext cx="77724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AR COMPANY MAKES THE CHALLENGER AND THE CHARG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IGH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952560" y="763560"/>
            <a:ext cx="7238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ELEMENTS ARE IN THE SECOND ROW OF THE PERIODIC TAB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2209680" y="4896000"/>
            <a:ext cx="4724640" cy="74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TT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1095480" y="768240"/>
            <a:ext cx="69530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1800'S, WHAT WAS AMERICA'S LARGEST CROP AND EXPOR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I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399960" y="762120"/>
            <a:ext cx="83440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MARVEL COMIC UNIVERSE, WHAT WAS THE NAME OF DAREDEVIL'S AND ELEKTRA'S TEACH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1752480" y="4876920"/>
            <a:ext cx="56390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D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628560" y="762120"/>
            <a:ext cx="788688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FUNCTION f(x) SATISFYING f(–x) = –f(x) IS CALLED WHAT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914400" y="4876920"/>
            <a:ext cx="7315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AREA  = 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½)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BASE  (HEIGHT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1066680" y="762120"/>
            <a:ext cx="70106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MATH FORMULA  A=½Bh, WHAT DOES "B" STAND FOR?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550800" y="762120"/>
            <a:ext cx="804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USICAL BEGAN WITH THE SONG "AQUARIU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53352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RYSTAL  (GAYL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934920" y="762120"/>
            <a:ext cx="72741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NAME OF THE FIRST FEMALE COUNTRY ARTIST THAT HAD A PLATINUM ALBU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UCIL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905040" y="762120"/>
            <a:ext cx="733392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AME DID B.B. KING GIVE TO HIS GUITAR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571680" y="4876920"/>
            <a:ext cx="8001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N  BE  FOLLOWED  BY  "BALL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647640" y="7617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AR COMPANY MAKES THE CHALLENGER AND THE CHARG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952560" y="762120"/>
            <a:ext cx="7238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ELEMENTS ARE IN THE SECOND ROW OF THE PERIODIC TAB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990720" y="762120"/>
            <a:ext cx="71625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1800'S, WHAT WAS AMERICA'S LARGEST CROP AND EXPOR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419040" y="76212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MARVEL COMIC UNIVERSE, WHAT WAS THE NAME OF DAREDEVIL'S AND ELEKTRA'S TEACH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671400" y="762120"/>
            <a:ext cx="78012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FUNCTION f(x) SATISFYING f(–x) = –f(x) IS CALLED WHA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581040" y="761760"/>
            <a:ext cx="79819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THE MATH FORMULA  A=½Bh, WHAT DOES "B" STAND FO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914400" y="762120"/>
            <a:ext cx="73152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NAME OF THE FIRST FEMALE COUNTRY ARTIST THAT HAD A PLATINUM ALBU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20:26:15Z</dcterms:created>
  <dc:creator>Jennifer Budzinski</dc:creator>
  <dc:description/>
  <dc:language>en-US</dc:language>
  <cp:lastModifiedBy>Erich Friedman</cp:lastModifiedBy>
  <dcterms:modified xsi:type="dcterms:W3CDTF">2020-08-30T17:25:10Z</dcterms:modified>
  <cp:revision>353</cp:revision>
  <dc:subject/>
  <dc:title>Slide 1</dc:title>
</cp:coreProperties>
</file>