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D198-C186-4ADF-B77C-CD0FCDE51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20DC-30EF-4B01-A141-F2253C3C8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B4BB-9332-4597-8E7C-667334B73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E2F4-65D6-4422-8339-8ED33993D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660D-410B-4AAF-B2B0-32BB3AAD3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F686-4410-43C7-B034-08EFB2FB8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0672-BFAA-40F2-88BB-C0E640696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5471-5ABB-4005-BF64-9564743B6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C615-1964-48F7-BBBA-FF043629B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1993-5E0D-4417-89D1-FCA43567D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A842-CFD8-4C78-B65E-DAD574E86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554B-1EA2-4BF7-86BA-B02C7FCBB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9F06-2A6E-4F9A-9039-04A9EF8B6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CFFC-0321-4467-AF74-E06D2125F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8131-5978-4F64-A55E-A6EFAD1E3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834F-4210-40F2-9A43-7167949D6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FF27-3DB4-4991-AB13-5B19C3418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F3B2-F9B2-4F4F-A791-0542421B1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44C6-1AE6-463C-8CEF-737B14D1C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DD6E-D8EF-48DD-971D-5C6C6C843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AF74-1BED-4F71-9AF7-1F8DEBBD7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242D-6ED2-4F54-A8B9-81DA461A5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6B29-252C-4D0E-9528-F4CAF1E97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28720" y="761760"/>
            <a:ext cx="7486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DID B.B. KING GIVE TO HIS GUIT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BEGAN WITH THE SONG "AQUARI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COMPANY MAKES THE CHALLENGER AND THE CHAR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356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ELEMENTS ARE IN THE SECOND ROW OF THE PERIODIC T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2209680" y="4896000"/>
            <a:ext cx="47246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95480" y="768240"/>
            <a:ext cx="6953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800'S, WHAT WAS AMERICA'S LARGEST CROP AND EX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99960" y="762120"/>
            <a:ext cx="8344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ARVEL COMIC UNIVERSE, WHAT WAS THE NAME OF DAREDEVIL'S AND ELEKTRA'S TEAC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752480" y="48769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28560" y="762120"/>
            <a:ext cx="78868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UNCTION f(x) SATISFYING f(–x) = –f(x) IS CALLED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914400" y="487692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EA  =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½)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BASE  (HEIGH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ATH FORMULA  A=½Bh, WHAT DOES "B" STAND FOR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50800" y="762120"/>
            <a:ext cx="804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BEGAN WITH THE SONG "AQUARI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YSTAL  (GAY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34920" y="762120"/>
            <a:ext cx="727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FIRST FEMALE COUNTRY ARTIST THAT HAD A PLATINUM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I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05040" y="762120"/>
            <a:ext cx="73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DID B.B. KING GIVE TO HIS GUITA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BALL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COMPANY MAKES THE CHALLENGER AND THE CHARG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ELEMENTS ARE IN THE SECOND ROW OF THE PERIODIC T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800'S, WHAT WAS AMERICA'S LARGEST CROP AND EX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ARVEL COMIC UNIVERSE, WHAT WAS THE NAME OF DAREDEVIL'S AND ELEKTRA'S TEAC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71400" y="762120"/>
            <a:ext cx="7801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UNCTION f(x) SATISFYING f(–x) = –f(x) IS CALL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81040" y="761760"/>
            <a:ext cx="7981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ATH FORMULA  A=½Bh, WHAT DOES "B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FIRST FEMALE COUNTRY ARTIST THAT HAD A PLATINUM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0T17:25:10Z</dcterms:modified>
  <cp:revision>353</cp:revision>
  <dc:subject/>
  <dc:title>Slide 1</dc:title>
</cp:coreProperties>
</file>