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F296-A893-4408-93C5-845B5EA42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34B8-4388-490D-B7DE-DB43B0586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C5BA-3C21-4597-A9F0-846E2F3D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79EB-C11C-4952-8819-4D7801912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2409-11FB-4D1A-899B-90D3EFE74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9BFC-84ED-4AEC-B885-AFD165CEC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3A14-D441-436D-99C0-E5ABAA70C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6442-BF72-4995-987D-C14E0BAD6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55AC-4090-4D29-9B98-BF3191734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CD3F-354C-4D08-8538-1670F5F7A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23F1-2C8C-401C-BA6B-22603B64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381B-70CE-43A2-95AD-559ECC244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B42B-98A3-4F4A-86E1-1686AA5DF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817D-0884-4BD3-9FDF-30F0BEA6D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3D70-8C1E-4E08-A804-D9D250F10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40F0-1C2F-478B-92D4-8FCD420AE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3EC4-2FA4-474B-B39C-3E943EA0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C611-1B99-4693-BA37-81D542B8B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C053-3C25-4C6D-9C3E-75F8CA320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8B60-472D-409C-960B-F9369DEF2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ECDB-E0E9-4903-B55E-8B9EFE74B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7DEA-BB56-4D41-A665-8F08D498C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9592-1F95-48DF-84BC-6A7E5E4BE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28720" y="76176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NAME OF THE FEDERAL HOLIDAY NEAREST TO THE MIDDLE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EME SONG FROM THE REALITY TV SHOW "COP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D'S CURRENT COMPACT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JURY IS MUCH MORE LIKELY TO OCCUR IN FOOTBALL THAN ANY OTHER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  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85720" y="781200"/>
            <a:ext cx="797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DO A HUMAN LARGE AND SMALL INTESTINE WE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SIGNATURES ON   THE DECLARATION OF INDEPENDENCE, WHAT LAST NAME IS THE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,  ROB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 ISAAC ASIMOV BOOK OF SHORT STORIES SERVES AS A PREAMBLE FOR HIS 4 R. DANEEL OLIVAW ANDROID MYSTER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UHAMMAD'S COUSIN &amp;   SON-IN-LAW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LE WHO ACCEPTED ISL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0800" y="762120"/>
            <a:ext cx="804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EME SONG FROM THE REALITY TV SHOW "COP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8800" y="762120"/>
            <a:ext cx="7826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KNOT IS TYPICALLY USED TO ATTACH A ROPE TOA FIXED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EPENDENCE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NAME OF THE FEDERAL HOLIDAY NEAREST TO THE MIDDLE OF THE YE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WILL  SMITH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D'S CURRENT COMPACT MOD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JURY IS MUCH MORE LIKELY TO OCCUR IN FOOTBALL THAN ANY OTHER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DO A HUMAN LARGE AND SMALL INTESTINE WE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SIGNATURES ON   THE DECLARATION OF INDEPENDENCE, WHAT LAST NAME IS THE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25600" y="762120"/>
            <a:ext cx="8091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 ISAAC ASIMOV BOOK OF SHORT STORIES SERVES AS A PREAMBLE FOR HIS 4 R. DANEEL OLIVAW ANDROID MYST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UHAMMAD'S COUSIN &amp;   SON-IN-LAW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LE WHO ACCEPTED ISL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KNOT IS TYPICALLY USED TO ATTACH A ROPE TOA FIXED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5:50Z</dcterms:modified>
  <cp:revision>356</cp:revision>
  <dc:subject/>
  <dc:title>Slide 1</dc:title>
</cp:coreProperties>
</file>