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C785-D304-46E6-B2F3-146CF1C38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4F7C-A7B2-4D89-8744-3D1336A87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CCA7-4D94-4B64-961F-7D43E8852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20B4-D451-45A8-AC3C-19BC01433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7BF9-8AD8-421E-9B13-EE471D519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729A-6A45-448A-95A2-C86D3306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2618-7EC0-4BBD-B2F0-3255909AD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1ADC-4C55-4375-ABB3-698C58C01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ED9B-C5EF-4FEB-BE5D-371A76DD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66E5-0EF8-417C-A631-7393AF59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BD7F-4295-4441-A970-773542DC8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6C01-43B7-4A26-839B-EDEE56B13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23CA-75F7-428B-81E1-007782C0F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3D66-41EB-4801-A812-31A79383A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5E99-C7D2-4722-9876-68C74B38D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42A9-E655-40C4-8629-55B4DBF21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8503-3EE5-4DAF-93DE-0D427820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008C-ACFC-403B-BF3E-E682AF804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F13C-539D-4377-BA2B-BD74DE437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4EE5-0C12-40CF-A354-BA8C60A1D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A62E-2552-48B3-B136-46F0036E8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ED0-2494-4025-8C8E-CBEFF7C5B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4A33-64EE-4DF5-9045-40884F339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28720" y="76176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NAME OF THE FEDERAL HOLIDAY NEAREST TO THE MIDDLE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EME SONG FROM THE REALITY TV SHOW "COP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D'S CURRENT COMPACT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JURY IS MUCH MORE LIKELY TO OCCUR IN FOOTBALL THAN ANY OTHER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  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85720" y="781200"/>
            <a:ext cx="797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DO A HUMAN LARGE AND SMALL INTESTINE WE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SIGNATURES ON   THE DECLARATION OF INDEPENDENCE, WHAT LAST NAME IS THE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,  ROB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 ISAAC ASIMOV BOOK OF SHORT STORIES SERVES AS A PREAMBLE FOR HIS 4 R. DANEEL OLIVAW ANDROID MYSTER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UHAMMAD'S COUSIN &amp;   SON-IN-LAW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LE WHO ACCEPTED ISL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0800" y="762120"/>
            <a:ext cx="804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EME SONG FROM THE REALITY TV SHOW "COP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8800" y="762120"/>
            <a:ext cx="7826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KNOT IS TYPICALLY USED TO ATTACH A ROPE TOA FIXED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EPENDENCE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NAME OF THE FEDERAL HOLIDAY NEAREST TO THE MIDDLE OF THE YE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WILL  SMITH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D'S CURRENT COMPACT MOD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JURY IS MUCH MORE LIKELY TO OCCUR IN FOOTBALL THAN ANY OTHER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DO A HUMAN LARGE AND SMALL INTESTINE WE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SIGNATURES ON   THE DECLARATION OF INDEPENDENCE, WHAT LAST NAME IS THE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25600" y="762120"/>
            <a:ext cx="8091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 ISAAC ASIMOV BOOK OF SHORT STORIES SERVES AS A PREAMBLE FOR HIS 4 R. DANEEL OLIVAW ANDROID MYST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UHAMMAD'S COUSIN &amp;   SON-IN-LAW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LE WHO ACCEPTED ISL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KNOT IS TYPICALLY USED TO ATTACH A ROPE TOA FIXED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5:50Z</dcterms:modified>
  <cp:revision>356</cp:revision>
  <dc:subject/>
  <dc:title>Slide 1</dc:title>
</cp:coreProperties>
</file>