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78A6-065A-4C93-91F3-368016593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27C8-DA87-4D41-A703-900A1FCBC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F373-04C2-4E06-A8E0-8F32DBBEA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1B69-9D85-41C3-AE62-751EF7200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1D9C-0745-4057-8B3E-B6ABCBBF7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E835-D9EF-437F-9C15-BC0ECD943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3E65-0991-431B-A4F1-E11ECF2DE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EC60-A8D0-4905-9D83-682757EBA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4C62-7259-4B56-A1B8-9761F28F6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3D94-158F-45A6-98C3-506BEB3B8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C235-5601-4815-A48B-CB6FBCFC6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EA4F-702B-486B-B4CB-18B3A4D3C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7A29-C97B-472F-B2A6-D115559F8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ABBE-C502-4EC7-B9D8-5660E2412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4DED-344A-4E4C-A587-157752705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7125-71D3-4E47-B8CD-2C87E5B3B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83A1-20A4-4209-AA2E-59A35773A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227C-9772-4F4A-8326-349200453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E2F8-2267-406E-B04E-1200CB9EE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F5B3-EBE0-43E7-BFA6-B0A6FCC89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0F1F-D960-466A-AAB5-122176C5C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3320-B82F-4B85-943C-529D7A979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B650-FDFA-49A1-A452-2829634D1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28720" y="761760"/>
            <a:ext cx="7486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FFICIAL NAME OF THE FEDERAL HOLIDAY NEAREST TO THE MIDDLE OF THE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D  BO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HEME SONG FROM THE REALITY TV SHOW "COP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FORD'S CURRENT COMPACT MOD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CU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JURY IS MUCH MORE LIKELY TO OCCUR IN FOOTBALL THAN ANY OTHER S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2209680" y="4896000"/>
            <a:ext cx="47246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  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85720" y="781200"/>
            <a:ext cx="797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ROXIMATELY HOW MUCH DO A HUMAN LARGE AND SMALL INTESTINE WEIG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C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95160" y="762120"/>
            <a:ext cx="7753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SIGNATURES ON   THE DECLARATION OF INDEPENDENCE, WHAT LAST NAME IS THE LARG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752480" y="4876920"/>
            <a:ext cx="5639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,  ROB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28560" y="762120"/>
            <a:ext cx="7886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0 ISAAC ASIMOV BOOK OF SHORT STORIES SERVES AS A PREAMBLE FOR HIS 4 R. DANEEL OLIVAW ANDROID MYSTER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MUHAMMAD'S COUSIN &amp;   SON-IN-LAW,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LE WHO ACCEPTED ISL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50800" y="762120"/>
            <a:ext cx="804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HEME SONG FROM THE REALITY TV SHOW "COP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58800" y="762120"/>
            <a:ext cx="7826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KNOT IS TYPICALLY USED TO ATTACH A ROPE TOA FIXED OBJ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EPENDENCE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05040" y="762120"/>
            <a:ext cx="7333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FFICIAL NAME OF THE FEDERAL HOLIDAY NEAREST TO THE MIDDLE OF THE YE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23960" y="4876920"/>
            <a:ext cx="7696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WILL  SMITH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FORD'S CURRENT COMPACT MOD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JURY IS MUCH MORE LIKELY TO OCCUR IN FOOTBALL THAN ANY OTHER S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ROXIMATELY HOW MUCH DO A HUMAN LARGE AND SMALL INTESTINE WEIG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66720" y="762120"/>
            <a:ext cx="7810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SIGNATURES ON   THE DECLARATION OF INDEPENDENCE, WHAT LAST NAME IS THE LARG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25600" y="762120"/>
            <a:ext cx="8091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0 ISAAC ASIMOV BOOK OF SHORT STORIES SERVES AS A PREAMBLE FOR HIS 4 R. DANEEL OLIVAW ANDROID MYST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80960" y="761760"/>
            <a:ext cx="8182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MUHAMMAD'S COUSIN &amp;   SON-IN-LAW,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LE WHO ACCEPTED ISL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KNOT IS TYPICALLY USED TO ATTACH A ROPE TOA FIXED OBJE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0T17:25:50Z</dcterms:modified>
  <cp:revision>356</cp:revision>
  <dc:subject/>
  <dc:title>Slide 1</dc:title>
</cp:coreProperties>
</file>