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D9CF-606A-4FE6-871C-D4C538EB3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A36C-7C1F-4890-A58E-3A4A7A3ED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6970-C9E4-4AE4-BF73-E790C6287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7273-F3BE-4562-977A-2B3436909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A0E4-507C-46DB-89AB-0E208D4EE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B9D9-FDAB-4ECB-B31C-1ACFC5034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08E2-DDE0-4521-9E79-914C22C91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0328-BA97-441C-AD93-619A85801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D17F-8FB9-4031-8FAF-F023E50FA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098D-B50D-4F69-9109-86F500351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7B55-6AC0-4341-B565-84B7E7595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D061-9D91-47D7-84BA-CB6CEB6AD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A74A-0628-449F-A3D2-9C8E423F7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F5D0-9E5E-4BED-A16F-FF2615325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A302-A66C-43A5-96AE-55CB26857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128F-A229-49BE-A389-1180602DD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B980-D1DD-49C6-9FA7-15B8832FA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64B3-6A79-454B-B0C4-4D3DCCABE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A1CF-A62E-4026-A627-D77207706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B2A8-19A1-46F4-8E40-582C90A56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C9E8-66A2-45D8-AD85-C42E18E38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BA2B-932A-4D04-86AA-8C0072716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0869-8FF0-4228-89D6-DB2D9705E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646200" y="761760"/>
            <a:ext cx="7850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SHUA TREES ARE NATIVE TO WHAT U.S. DESE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ODI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819000" y="762120"/>
            <a:ext cx="7506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ASKAN ISLAND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ISLAND IN THE U.S., AFTER HAWA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ET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95560" y="762120"/>
            <a:ext cx="6752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STEST LAND ANIMAL, CLOCKED AT UP 70 MP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N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85880" y="762120"/>
            <a:ext cx="757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WAS IN THE SUPER BOWL IN 2004 AND 2016, LOSING BOTH T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600200" y="4876920"/>
            <a:ext cx="594360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33640" y="736560"/>
            <a:ext cx="6876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LOGO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3" descr=""/>
          <p:cNvPicPr/>
          <p:nvPr/>
        </p:nvPicPr>
        <p:blipFill>
          <a:blip r:embed="rId1"/>
          <a:stretch/>
        </p:blipFill>
        <p:spPr>
          <a:xfrm>
            <a:off x="2695680" y="1935000"/>
            <a:ext cx="3752640" cy="288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SEM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581040" y="762120"/>
            <a:ext cx="7981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 PARK IS ON THE NATIONAL REGISTER OF HISTORIC PLACES FOR BEING THE BIRTHPLACE OF ROCK CLIMBING AS A S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06640" y="4876920"/>
            <a:ext cx="693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GU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992160" y="762120"/>
            <a:ext cx="7158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LOGO IS TH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1147680" y="1943280"/>
            <a:ext cx="6848640" cy="281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OF THE SPORTS TEAMS OF LSU, CLEMSON, AND AUBUR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4880" y="762120"/>
            <a:ext cx="7551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ASKAN ISLAND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ISLAND IN THE U.S., AFTER HAWAI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752480" y="4876920"/>
            <a:ext cx="563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ER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VIRONMENTAL "CLUB" WAS FOUNDED BY JOHN MUIR, WHO SERVED AS ITS FIRST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J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693720" y="762120"/>
            <a:ext cx="7755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SHUA TREES ARE NATIVE TO WHAT U.S. DESER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1138320" y="4343400"/>
            <a:ext cx="6867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KNAMES  OF  MAC  OS  X  OPERATING 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41560" y="761760"/>
            <a:ext cx="6860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STEST LAND ANIMAL, CLOCKED AT UP 70 MP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09640" y="762120"/>
            <a:ext cx="752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WAS IN THE SUPER BOWL IN 2004 AND 2016, LOSING BOTH T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52040"/>
            <a:ext cx="70106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LOGO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3" descr=""/>
          <p:cNvPicPr/>
          <p:nvPr/>
        </p:nvPicPr>
        <p:blipFill>
          <a:blip r:embed="rId1"/>
          <a:stretch/>
        </p:blipFill>
        <p:spPr>
          <a:xfrm>
            <a:off x="2695680" y="1935000"/>
            <a:ext cx="3752640" cy="28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14440" y="762120"/>
            <a:ext cx="8115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 PARK IS ON THE NATIONAL REGISTER OF HISTORIC PLACES FOR BEING THE BIRTHPLACE OF ROCK CLIMBING AS A SPO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19280" y="762120"/>
            <a:ext cx="770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LOGO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3" descr=""/>
          <p:cNvPicPr/>
          <p:nvPr/>
        </p:nvPicPr>
        <p:blipFill>
          <a:blip r:embed="rId1"/>
          <a:stretch/>
        </p:blipFill>
        <p:spPr>
          <a:xfrm>
            <a:off x="1147680" y="1943280"/>
            <a:ext cx="684864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9440" y="761760"/>
            <a:ext cx="7845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OF THE SPORTS TEAMS OF LSU, CLEMSON, AND AUBUR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VIRONMENTAL "CLUB" WAS FOUNDED BY JOHN MUIR, WHO SERVED AS ITS FIRST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0T17:26:29Z</dcterms:modified>
  <cp:revision>372</cp:revision>
  <dc:subject/>
  <dc:title>Slide 1</dc:title>
</cp:coreProperties>
</file>