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F828-7620-4546-BB1B-3DFFF72CE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2B36-F6FC-4744-B5DB-0FEE87451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93AD-5226-44F4-A485-699505178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5CF8-15F6-4191-A21D-A9E3DCB1A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F544-AA59-4F53-9F14-635F40CD0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8596-F6D7-4A81-95C6-7BF3AFA17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404F-FAE8-41B1-AC9C-61B79EEB7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57DF-3303-48EA-B7FF-26EFAA1C7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A98F-73F1-4991-80A4-F21BC7642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C3DA-B352-4B92-A2DB-3C44DD6D9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D62F-5E94-4CF9-AA0C-7C412806B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4FA9-326A-4831-B92C-83FADDB05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1B1F-A848-43B8-B049-B465F0D88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FB92-EB65-483D-B5DE-4D7C982EF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BF1A-9BDD-4BCF-A5F9-C18F24821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9944-D47A-4E09-92D7-E7BBAF679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1757-3B1E-4DFF-8E9D-85CACEB37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70F8-C3F2-4D10-8F01-9DC726004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EE86-A36F-4363-A853-BD06753A8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FACB-ABB8-4AA9-8F70-0B1F59E4B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D978-6B46-47D2-B4ED-702040F73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F3B6-5CAE-4241-8FC4-C9ACD8135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86DE-075E-4A81-8E6D-FAF9CE86A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SHUA TREES ARE NATIVE TO WHAT U.S. DESE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DI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819000" y="762120"/>
            <a:ext cx="7506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SKAN ISLAND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ISLAND IN THE U.S., AFTER HAWA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T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95560" y="762120"/>
            <a:ext cx="6752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LAND ANIMAL, CLOCKED AT UP 70 M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85880" y="762120"/>
            <a:ext cx="757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WAS IN THE SUPER BOWL IN 2004 AND 2016, LOSING BOTH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600200" y="4876920"/>
            <a:ext cx="59436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33640" y="736560"/>
            <a:ext cx="687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LOGO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1"/>
          <a:stretch/>
        </p:blipFill>
        <p:spPr>
          <a:xfrm>
            <a:off x="2695680" y="1935000"/>
            <a:ext cx="3752640" cy="28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SEM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81040" y="762120"/>
            <a:ext cx="7981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ON THE NATIONAL REGISTER OF HISTORIC PLACES FOR BEING THE BIRTHPLACE OF ROCK CLIMBING AS A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GU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992160" y="762120"/>
            <a:ext cx="7158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LOGO IS TH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147680" y="1943280"/>
            <a:ext cx="684864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SPORTS TEAMS OF LSU, CLEMSON, AND AUBUR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4880" y="762120"/>
            <a:ext cx="7551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SKAN ISLAND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ISLAND IN THE U.S., AFTER HAWA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VIRONMENTAL "CLUB" WAS FOUNDED BY JOHN MUIR, WHO SERVED AS ITS FIRST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J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93720" y="762120"/>
            <a:ext cx="7755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SHUA TREES ARE NATIVE TO WHAT U.S. DESER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138320" y="4343400"/>
            <a:ext cx="6867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NAMES  OF  MAC  OS  X  OPERATING 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1560" y="761760"/>
            <a:ext cx="6860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LAND ANIMAL, CLOCKED AT UP 70 MP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964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WAS IN THE SUPER BOWL IN 2004 AND 2016, LOSING BOTH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52040"/>
            <a:ext cx="7010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LOGO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"/>
          <a:stretch/>
        </p:blipFill>
        <p:spPr>
          <a:xfrm>
            <a:off x="2695680" y="1935000"/>
            <a:ext cx="3752640" cy="28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ON THE NATIONAL REGISTER OF HISTORIC PLACES FOR BEING THE BIRTHPLACE OF ROCK CLIMBING AS A 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LOGO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1147680" y="1943280"/>
            <a:ext cx="68486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9440" y="761760"/>
            <a:ext cx="784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SPORTS TEAMS OF LSU, CLEMSON, AND AUBU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VIRONMENTAL "CLUB" WAS FOUNDED BY JOHN MUIR, WHO SERVED AS ITS FIRST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7:26:29Z</dcterms:modified>
  <cp:revision>372</cp:revision>
  <dc:subject/>
  <dc:title>Slide 1</dc:title>
</cp:coreProperties>
</file>