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DCF8-A4CA-4661-ABA1-9A8DA2C85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8A24-5572-47BF-BE41-39FD2CE62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94F1-E089-4255-AE84-F571B2DC7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D10B-9E63-46BE-91F4-3F3E209F4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9E00-6EEF-4DF7-A069-84E6EB0D0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B2D3-FA31-4D5F-BCD7-CD434F58B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C6CF-F285-45AA-BDE6-5018D75B2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91D1-3FEE-441A-8C81-F3ADF08A2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F432-185F-461B-AEAE-EE2BA4BC0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825B-38A6-470B-A5D0-884E432B2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FCEE-CD1C-4E96-9FA2-FC2E9C66B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6E85-2873-40BE-9C34-4931B4A46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E753-3480-45F9-84CE-3BE2649FB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D3E9-4A03-4ADE-8039-BBF8E6789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18E2-CBED-412F-9EFA-A0CE8D1D6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7A8E-2770-4AEE-9336-64CAB404D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17E7-8B16-49B4-A42E-18B7381E8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1E19-15DB-47EA-A558-866D47C3C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6B7D-E6DA-43DA-B4E1-B8012E7F7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E47D-3D51-41D3-9E16-39085B5B4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4866-D662-4379-9CFD-2FAC9388D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B5CF-7458-4CBB-BDD0-5C3361595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7ACE-F4CA-4AED-BC89-916BAD1E2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46200" y="761760"/>
            <a:ext cx="7850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SHUA TREES ARE NATIVE TO WHAT U.S. DESE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DI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819000" y="762120"/>
            <a:ext cx="7506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ASKAN ISLAND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ISLAND IN THE U.S., AFTER HAWA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T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95560" y="762120"/>
            <a:ext cx="6752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LAND ANIMAL, CLOCKED AT UP 70 M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N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85880" y="762120"/>
            <a:ext cx="757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WAS IN THE SUPER BOWL IN 2004 AND 2016, LOSING BOTH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600200" y="4876920"/>
            <a:ext cx="594360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33640" y="736560"/>
            <a:ext cx="6876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LOGO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3" descr=""/>
          <p:cNvPicPr/>
          <p:nvPr/>
        </p:nvPicPr>
        <p:blipFill>
          <a:blip r:embed="rId1"/>
          <a:stretch/>
        </p:blipFill>
        <p:spPr>
          <a:xfrm>
            <a:off x="2695680" y="1935000"/>
            <a:ext cx="3752640" cy="288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SEM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81040" y="762120"/>
            <a:ext cx="7981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PARK IS ON THE NATIONAL REGISTER OF HISTORIC PLACES FOR BEING THE BIRTHPLACE OF ROCK CLIMBING AS A 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GU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992160" y="762120"/>
            <a:ext cx="7158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LOGO IS TH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1147680" y="1943280"/>
            <a:ext cx="6848640" cy="28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THE SPORTS TEAMS OF LSU, CLEMSON, AND AUBUR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4880" y="762120"/>
            <a:ext cx="7551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ASKAN ISLAND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ISLAND IN THE U.S., AFTER HAWA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52480" y="48769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VIRONMENTAL "CLUB" WAS FOUNDED BY JOHN MUIR, WHO SERVED AS ITS FIRST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J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693720" y="762120"/>
            <a:ext cx="7755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SHUA TREES ARE NATIVE TO WHAT U.S. DESER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138320" y="4343400"/>
            <a:ext cx="6867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KNAMES  OF  MAC  OS  X  OPERATING 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41560" y="761760"/>
            <a:ext cx="6860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LAND ANIMAL, CLOCKED AT UP 70 MP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9640" y="762120"/>
            <a:ext cx="752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WAS IN THE SUPER BOWL IN 2004 AND 2016, LOSING BOTH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52040"/>
            <a:ext cx="70106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LOGO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3" descr=""/>
          <p:cNvPicPr/>
          <p:nvPr/>
        </p:nvPicPr>
        <p:blipFill>
          <a:blip r:embed="rId1"/>
          <a:stretch/>
        </p:blipFill>
        <p:spPr>
          <a:xfrm>
            <a:off x="2695680" y="1935000"/>
            <a:ext cx="3752640" cy="28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PARK IS ON THE NATIONAL REGISTER OF HISTORIC PLACES FOR BEING THE BIRTHPLACE OF ROCK CLIMBING AS A S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19280" y="762120"/>
            <a:ext cx="770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LOGO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tretch/>
        </p:blipFill>
        <p:spPr>
          <a:xfrm>
            <a:off x="1147680" y="1943280"/>
            <a:ext cx="684864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9440" y="761760"/>
            <a:ext cx="7845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THE SPORTS TEAMS OF LSU, CLEMSON, AND AUBU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VIRONMENTAL "CLUB" WAS FOUNDED BY JOHN MUIR, WHO SERVED AS ITS FIRST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0T17:26:29Z</dcterms:modified>
  <cp:revision>372</cp:revision>
  <dc:subject/>
  <dc:title>Slide 1</dc:title>
</cp:coreProperties>
</file>