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1F61-F315-460A-AB1B-84021D0FF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4127-FEFE-4D0A-A7CD-077A266FE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A4D6-9EEC-4832-8C85-03FCC36A5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8FAB-A55A-49E6-A8CF-56AD06ADB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EEBE-5DA7-4653-ACEE-0AAE6CB4D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A139-7592-4621-B57A-DD3B32DAD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A02D-3976-42FD-9301-D80F296CE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70A0-552F-406D-A22A-EF1A895A8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3DE5-67A4-4E1C-B650-3B221ED3E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B8EB-EFCD-4F4E-A43F-41026FC89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F287-50EF-456A-BA15-E772DC301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FCE9-CF58-40C7-A17E-D6A5555B0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0DFB-69F0-4F7C-83B0-ECCD1D42D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1BE3-AE63-4A34-80BE-2756D6547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D284-9C05-445F-9C9C-E98A4494A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B898-77D0-4B18-89BD-B313B13B3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98A1-B705-43A4-BF7F-1BDD7487F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23D4-8429-44A7-9F16-A25461DCD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DB2A-D9D9-49A5-B0BB-D5AA2EEB2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507E-A205-402E-BEF2-DD64046C2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3324-C789-48D4-99D1-330651195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30DE-D2FC-41D6-9023-B57F21DFF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BE6E-AF24-489A-AE7B-A745EC14A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SONG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THE SKY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AN PARSONS PROJEC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OF THE TIGER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URVIV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Y FIRE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DOO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INDED BY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NFRED MAN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0320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AND DIAN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COUGAR MELLENCAM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Y ___ KEROUAC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10000 MANIAC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333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THE WORL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EAG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IXING A 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RE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YNYRD SKYNYR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D YOUR ___ CAN SING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EDDY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NOT MY CROSS TO ___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LMAN BROTHERS BAN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52400"/>
            <a:ext cx="8382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&amp; CHAI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NIS JOPLI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RYSTAL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Y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CARPET RID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PENWOL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A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EA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Y FIRE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DO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INDED BY TH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NFRED MAN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9096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ROULETT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IHAN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LULLABY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COLTRA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THE SKY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AN PARSONS PROJEC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OF THE TIGER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URVIVO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87692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BLA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AND DIAN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COUGAR MELLENCAM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Y ___ KEROUAC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10000 MANIAC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THE WORL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EAG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IXING A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RE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YNYRD SKYNYR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D YOUR ___ CAN SING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EDDY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NOT MY CROSS TO ___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LMAN BROTHERS BAN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&amp; CHAI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NIS JOPLI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RYSTAL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YX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CARPET RID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PENWOLF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A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EAR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ROULETT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IHAN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LULLABY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COLTRAN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8T17:38:55Z</dcterms:created>
  <dc:creator>Jennifer Budzinski</dc:creator>
  <dc:description/>
  <dc:language>en-US</dc:language>
  <cp:lastModifiedBy>Erich Friedman</cp:lastModifiedBy>
  <dcterms:modified xsi:type="dcterms:W3CDTF">2020-08-24T13:31:28Z</dcterms:modified>
  <cp:revision>396</cp:revision>
  <dc:subject/>
  <dc:title>Slide 1</dc:title>
</cp:coreProperties>
</file>