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4FC6-68C9-42CA-920A-3CBA07019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FCFA-D4FD-46EC-B3C8-22E9068E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BB39-5F3C-4615-B775-D1EA5095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97EF-8277-466E-B798-7C3CC631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F606-6848-4FEE-9A47-8040D6658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A4F8-8D10-4D0C-B905-86B276A2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331-559F-4F5F-8955-CFE9DEC1A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D7CB-BD8E-4367-B34F-52F2F310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AD8-3DD5-43B0-9C0E-6B3003992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2B22-D4F1-4D13-924C-0FAF985F2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CAC9-B1F7-4AFB-9C74-6691AC081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907-009C-45A5-BC5B-3BBCAA8FC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0787-AD06-469C-8876-14BAF6FF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DDF1-96AB-4028-AC8E-DB1EF977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6AFD-4F57-4EA0-A94F-8E4CEC9A6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FD58-7E6C-4BFB-AD34-60A41E4C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70CE-0130-4C6E-9947-B362E6EBE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A0E5-386A-4839-8163-5278C950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0BB-E392-46AD-9F1C-678FAD0B1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5FB8-E2BE-4C19-AD84-47B123B7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3E62-6EC2-4758-A4BA-C2F3660BB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B137-AA64-4E0F-A7CE-10B84AE53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A99F-0123-4D51-ABCA-738DF50F1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120" y="10666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SONG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SK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AN PARSONS PROJEC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F THE TIGER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Y FIRE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DOO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NDED BY TH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NFRED MAN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320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AND DIAN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UGAR MELLENCAM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 ___ KEROUAC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0000 MANIAC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333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WORL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XING A 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E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YOUR ___ CAN SING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EDDY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MY CROSS TO ___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LMAN BROTHERS BAN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52400"/>
            <a:ext cx="83822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&amp; CHAI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IS JOPLI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YSTAL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YX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CARPET RID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A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E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Y FIRE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DOO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INDED BY TH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NFRED MAN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ROULETT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HAN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LULLAB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LTRA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SK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AN PARSONS PROJEC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OF THE TIGE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URVIVO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BLA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AND DIAN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UGAR MELLENCAMP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 ___ KEROUAC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10000 MANIAC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IN THE WORL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EAG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IXING A 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E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YNYRD SKYNYR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D YOUR ___ CAN SING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EDDY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LVIS PRES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NOT MY CROSS TO ___"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LMAN BROTHERS BAND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&amp; CHAI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IS JOPLIN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RYSTAL 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YX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CARPET RID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PENWOLF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MA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EAR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ROULETT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HANN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 LULLAB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COLTRA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8T17:38:55Z</dcterms:created>
  <dc:creator>Jennifer Budzinski</dc:creator>
  <dc:description/>
  <dc:language>en-US</dc:language>
  <cp:lastModifiedBy>Erich Friedman</cp:lastModifiedBy>
  <dcterms:modified xsi:type="dcterms:W3CDTF">2020-08-24T13:31:28Z</dcterms:modified>
  <cp:revision>396</cp:revision>
  <dc:subject/>
  <dc:title>Slide 1</dc:title>
</cp:coreProperties>
</file>