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E275-890B-4937-9BB5-D5ABBEA3F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A4DD-EAFD-4E99-9440-18A1458F8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9757-5BFD-4A1D-A1D5-9B236B998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63DB-F81E-47D0-A528-D0D5A0549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F981-1842-4017-A761-5E3CF9E58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3237-C773-4A2F-808E-91E139736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99C4-2625-4251-BBE9-9E43ED43D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0F12-B326-4405-A84B-DEBBA23AF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4CA2-CF77-4A56-A5BB-DB8E81929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04C9-6D2D-41A7-AFFB-39FA5D57A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0F24-F415-4050-AD07-F7054738C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25DE-9718-4270-98BB-84F58D1F8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316C-4D2F-4720-A9AE-B2122236F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047C-CBB9-4A1A-8D8A-7492FA4E5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0F80-4F57-4D92-AEE0-847886040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3137-5248-4E3A-A52F-726478D74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F893-F7A2-4B6F-8CAB-9C0B9D9D4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1D3D-D9F2-475C-914B-B5CB2611E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0877-2E95-409A-8BDD-67C0F98C2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864D-3DC7-47F4-AEF0-BA57448E5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E2BA-90C9-4E26-9A12-48672129D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03BE-759A-4F9E-AD71-76D413D06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21B6-D4B5-45AC-BEB2-AD4EFF032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09120" y="10666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L IN THE BLANK SONGS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N THE SKY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AN PARSONS PROJEC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OF THE TIGER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URVIVO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Y FIRE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DOO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INDED BY T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ANFRED MAN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0320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AND DIAN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COUGAR MELLENCAM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Y ___ KEROUAC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10000 MANIAC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333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N THE WORL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EAG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IXING A 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RE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YNYRD SKYNYR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D YOUR ___ CAN SING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EDDY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VIS PRESLE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'S NOT MY CROSS TO ___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LMAN BROTHERS BAN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228600" y="48769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52400"/>
            <a:ext cx="83822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&amp; CHAI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NIS JOPLI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RYSTAL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Y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CARPET RID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PPENWOL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A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HEAR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Y FIRE"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DO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INDED BY THE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ANFRED MAN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9096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ROULETT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IHAN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LULLABY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COLTRAN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N THE SKY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AN PARSONS PROJEC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OF THE TIGER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URVIVO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87692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BLAC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AND DIAN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COUGAR MELLENCAMP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Y ___ KEROUAC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10000 MANIAC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N THE WORL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EAG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IXING A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REE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YNYRD SKYNYR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D YOUR ___ CAN SING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EDDY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VIS PRESLE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'S NOT MY CROSS TO ___"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LMAN BROTHERS BAN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&amp; CHAI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NIS JOPLI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RYSTAL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YX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CARPET RID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PPENWOLF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A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HEAR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ROULETT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IHAN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LULLABY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COLTRAN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8T17:38:55Z</dcterms:created>
  <dc:creator>Jennifer Budzinski</dc:creator>
  <dc:description/>
  <dc:language>en-US</dc:language>
  <cp:lastModifiedBy>Erich Friedman</cp:lastModifiedBy>
  <dcterms:modified xsi:type="dcterms:W3CDTF">2020-08-24T13:31:28Z</dcterms:modified>
  <cp:revision>396</cp:revision>
  <dc:subject/>
  <dc:title>Slide 1</dc:title>
</cp:coreProperties>
</file>