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226D-D857-4802-8CEB-DEA2B7B66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D76-24EA-4F31-AD4A-FAD91017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2A3-3272-4A29-A047-25845051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3F6-97D1-4AE3-A991-933273AE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638-3BE2-403D-BCB7-9928B47A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78A-EE1A-4490-B186-186C7376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AF6B-2729-47EC-AF1B-7B393F59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964-E525-405D-B5B0-D3161D0F2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35B-C090-4665-8D1B-7676CE5C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D9F5-3C59-42F2-94F9-3C850D9F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B224-7D37-44DF-B343-122ECD6B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3FF-C87D-4A4D-BA68-9F00218B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F845-E547-408D-B827-11839240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62D-7D9A-4619-AF48-2DC5C1BD0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ED5-B67F-442A-BC67-1CA538E5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020-D16B-4D5F-91D0-A506869A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B421-6FEA-417E-A2DB-3C627AE90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711-4109-4581-9AD5-5BAA1716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A79C-D5E6-4EE0-AFE8-9EBFF888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CB2-87E7-4BE7-AA27-BD0ABAA6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F66-EC84-4405-A703-4FB2DBB3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358-BAEC-4F68-9B54-2830BEA9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8A0-65B2-4FDF-94E5-F520E17F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294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914400"/>
            <a:ext cx="396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8200" y="4876920"/>
            <a:ext cx="464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R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31840" y="762120"/>
            <a:ext cx="5254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OEBE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9600" y="762120"/>
            <a:ext cx="7984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351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(ON  THE  ROO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5143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7:12Z</dcterms:modified>
  <cp:revision>386</cp:revision>
  <dc:subject/>
  <dc:title>Slide 1</dc:title>
</cp:coreProperties>
</file>