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FE2E-050D-46C7-A3D0-0BAC8C75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1186-9B91-436A-8E4F-E4EA8F889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DF7C-5DA3-4585-B50B-217690BA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237-97F0-43BF-BD66-8E592BAA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F460-F157-43A7-8A3F-7F5EA5F9F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840E-4E9D-4C12-9650-F4159F26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B550-4EE2-4EA9-9512-49F0B249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AB57-BF93-48CB-BCCA-0E50F3F8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7C46-92E3-4FD7-95D1-80B074956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964E-2210-4A0A-BDF5-112B0B754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975B-0A9D-46B5-BA66-3C9ABB5A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D7B2-72A7-46C8-8F13-57FD15A7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80B8-5C25-4F71-8281-E6EB4CA1C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A4F9-A9BF-4217-A29E-65058502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EFF7-0EB5-4BCC-803F-D8E5E6D8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C3D1-32E9-405A-B76B-65E1BA85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6C3C-34A8-492D-9777-052AB5D55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CF7-AF85-4144-A8B3-096F9D89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EA90-5256-45DB-865C-1C546325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D164-6D75-4C48-A85F-37BC468D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A7B-67A3-40E3-B478-E1098877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97C3-D736-4033-9195-EC42197B4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BFF0-8B95-4262-8E06-DC621EA7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USICAL THAT CONTAINS THE SONG "IF I WERE A RICH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294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80880" y="914400"/>
            <a:ext cx="3962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THRILLER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5207040" y="304920"/>
            <a:ext cx="3581280" cy="513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50800" y="762120"/>
            <a:ext cx="804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IS A "RINGER" WORTH 3 POINTS, A "LEANER" WORTH 2 POINTS, AND A "CLOSER" WORTH 1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BREW PROPHET WAS SUPPOSEDLY SWALLOWED BY A W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8200" y="4876920"/>
            <a:ext cx="464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R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31840" y="762120"/>
            <a:ext cx="525456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ROT CARD IMPLIES YOU ARE IN OR NEED A PERIOD OF INNER REF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3079800" cy="496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OEBE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9600" y="762120"/>
            <a:ext cx="79848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MPERIAL UNIT OF MASS IS EQUAL TO 14 POU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DID NPR CHOOSE AS THE GREATEST ALBUM OF ALL TIME BY A WOM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3516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THRILLER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5207040" y="304920"/>
            <a:ext cx="3581280" cy="51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 RANKING PLAYING CARD UNTIL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R  (ON  THE  ROO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USICAL THAT CONTAINS THE SONG "IF I WERE A RICH MA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IS A "RINGER" WORTH 3 POINTS, A "LEANER" WORTH 2 POINTS, AND A "CLOSER" WORTH 1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BREW PROPHET WAS SUPPOSEDLY SWALLOWED BY A W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5143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ROT CARD IMPLIES YOU ARE IN OR NEED A PERIOD OF INNER REF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5715000" y="380880"/>
            <a:ext cx="3079800" cy="496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MPERIAL UNIT OF MASS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NI MITCHELL ALBUM DID NPR CHOOSE AS THE GREATEST ALBUM OF ALL TIME BY A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 RANKING PLAYING CARD UNTIL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7:12Z</dcterms:modified>
  <cp:revision>386</cp:revision>
  <dc:subject/>
  <dc:title>Slide 1</dc:title>
</cp:coreProperties>
</file>