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45D5-77B9-4CA1-9029-DB7E5F83F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A640-47D8-4302-9B52-320A50713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DBFE-5E6B-43DB-9737-584AA68D1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BE2A-F0A9-4F0C-AC28-E13D012B1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25A4-9CED-4B7E-B13C-A4B850A91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015A-1197-4386-81D2-A12DD8876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3BE2-F4FE-4799-B13C-CBFE51B35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DF62-99A9-4435-8D18-824310F7D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0091-3B11-483E-9A70-FD06F3BF0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B1D1-B4A1-4D23-9D2F-A36A369EB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A7F5-7F26-4E00-883E-B91462569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C095-014A-4C6F-B676-B577F0364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808B-C508-4B66-9D02-AB6FE20B8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DD2B-8C19-420D-840E-B2BA1ABEE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07EB-CB4B-42AA-BB4C-FC93AB7D4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53F8-1D3A-4CAE-9358-D82062D4F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10FA-0054-4910-A24F-7EE56BD89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85B5-75AB-47D3-9A1B-5A6005D4F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6A87-BDBB-4D6F-B7A8-A3EBCA982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B28B-917D-46D4-AF15-9F4AD29B0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C742-C4FD-4BBC-9472-42CDB1E97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5C6E-EAFA-47BA-9425-E10D3B6C5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880C-0CA7-4D58-9680-9951323C3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646200" y="761760"/>
            <a:ext cx="7850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TITLE OF THE MUSICAL THAT CONTAINS THE SONG "IF I WERE A RICH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876920"/>
            <a:ext cx="294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I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380880" y="914400"/>
            <a:ext cx="3962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THRILLER FILM HAD THIS MOVIE PO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5207040" y="304920"/>
            <a:ext cx="3581280" cy="513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RSESH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550800" y="762120"/>
            <a:ext cx="804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GAME IS A "RINGER" WORTH 3 POINTS, A "LEANER" WORTH 2 POINTS, AND A "CLOSER" WORTH 1 POI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730080" y="762120"/>
            <a:ext cx="7683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BREW PROPHET WAS SUPPOSEDLY SWALLOWED BY A WHA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538200" y="4876920"/>
            <a:ext cx="464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HERM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231840" y="762120"/>
            <a:ext cx="525456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ROT CARD IMPLIES YOU ARE IN OR NEED A PERIOD OF INNER REFLE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5715000" y="380880"/>
            <a:ext cx="3079800" cy="496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PHOEBE)  S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12840" y="762120"/>
            <a:ext cx="8518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SINGER OF "POETRY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6640" y="4876920"/>
            <a:ext cx="693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9600" y="762120"/>
            <a:ext cx="79848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MPERIAL UNIT OF MASS IS EQUAL TO 14 POUND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NI MITCHELL ALBUM DID NPR CHOOSE AS THE GREATEST ALBUM OF ALL TIME BY A WOMA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914040"/>
            <a:ext cx="3516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THRILLER FILM HAD THIS MOVIE PO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5207040" y="304920"/>
            <a:ext cx="3581280" cy="51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752480" y="4876920"/>
            <a:ext cx="563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HIGHEST RANKING PLAYING CARD UNTIL THE 1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DDLER  (ON  THE  ROO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693720" y="762120"/>
            <a:ext cx="7755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TITLE OF THE MUSICAL THAT CONTAINS THE SONG "IF I WERE A RICH MAN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836640" y="4876920"/>
            <a:ext cx="747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CR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503280" y="761760"/>
            <a:ext cx="8136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GAME IS A "RINGER" WORTH 3 POINTS, A "LEANER" WORTH 2 POINTS, AND A "CLOSER" WORTH 1 POI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735120" y="762120"/>
            <a:ext cx="767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BREW PROPHET WAS SUPPOSEDLY SWALLOWED BY A WHA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04560" y="838080"/>
            <a:ext cx="5143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ROT CARD IMPLIES YOU ARE IN OR NEED A PERIOD OF INNER REFLE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4" descr=""/>
          <p:cNvPicPr/>
          <p:nvPr/>
        </p:nvPicPr>
        <p:blipFill>
          <a:blip r:embed="rId1"/>
          <a:stretch/>
        </p:blipFill>
        <p:spPr>
          <a:xfrm>
            <a:off x="5715000" y="380880"/>
            <a:ext cx="3079800" cy="496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SINGER OF "POETRY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MPERIAL UNIT OF MASS IS EQUAL TO 14 POU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NI MITCHELL ALBUM DID NPR CHOOSE AS THE GREATEST ALBUM OF ALL TIME BY A WO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HIGHEST RANKING PLAYING CARD UNTIL THE 1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0T17:27:12Z</dcterms:modified>
  <cp:revision>386</cp:revision>
  <dc:subject/>
  <dc:title>Slide 1</dc:title>
</cp:coreProperties>
</file>