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838E-DF33-4D36-9BED-03A765CB0F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19EB-2E7C-4B42-880B-D4F4F604A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8E9A-9344-4C20-92AB-35145F87D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5E5A-4C27-41B3-A126-9601B7E23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5901-944B-42BE-87C5-86CD516D7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9C6F-385A-4682-978B-CD93F565C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5823-A3F8-4BB3-8358-76CC2712F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93A9-4E12-4D1C-894C-F4628278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38AD-62F6-41D5-8EE4-DD7947BFE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E0B4-BDD1-4F74-8079-5B7F045C8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F3FB-72CC-4E7F-B724-E951D7139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DB78-A59E-4B6C-86B4-2D23EF889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07B1-C0B1-4DF3-9350-27A629E91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B528-7E2E-4E4C-88F3-6653862BA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5A0B-4E09-4653-83C7-1FDD9C918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D035-22E6-440B-859A-54DB192E3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1345-C60C-4F32-8935-A4DA20F6A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8786-9AD4-433C-B356-6D477E295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536B-0D1B-43B1-9BCF-ECADD3DAB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A648-2650-4BFC-9C00-F633FFC4A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550B-62BF-4C6C-AB62-4C25CD196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6C99-D552-4CD6-8938-0A3A6023A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4B92-784B-40D4-A5E1-330813C53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43160" y="1066680"/>
            <a:ext cx="6457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NSAS CITY IS THE BIRTHPLACE OF BOTH PIZZA HUT AND WHITE CAS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LAC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85760" y="762120"/>
            <a:ext cx="6972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VADA CITY OF 200,000 PEOPLE IS ONLY 10 MILES FROM THE CALIFORNIA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-VISITED CITY IN THE U.S., AFTER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95240" y="762120"/>
            <a:ext cx="755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DAKOTA CITY WAS KNOWN AS "THE DIVORCE CAPITAL OF THE MIDWEST" IN THE 18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OF THE LOUISIANA PURCHASE, WHAT IS THE ONLY U.S. STATE WHOSE STATE MOTTO IS IN FRE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38160" y="762120"/>
            <a:ext cx="7267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PRO SPORTS TEAMS "BILLS" AND "SAB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O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38400" y="762120"/>
            <a:ext cx="6667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57080" y="762120"/>
            <a:ext cx="7629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IZONA TOWN IS MENTIONED IN THE EAGLES SONG "TAKE IT EAS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31840" y="762120"/>
            <a:ext cx="6880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VADA CITY OF 200,000 PEOPLE IS ONLY 10 MILES FROM THE CALIFORNIA B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1520" y="762120"/>
            <a:ext cx="786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EW COLLEGE OF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CH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9040" y="762120"/>
            <a:ext cx="776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ANSAS CITY IS THE BIRTHPLACE OF BOTH PIZZA HUT AND WHITE CAS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85840" y="3657600"/>
            <a:ext cx="8572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THE  FIRST  9  PLACES  JOHNNY  CASH  MENTIONS  IN  THE  SONG  "I'VE  BEEN  EVERYWHERE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LAC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65120" y="761760"/>
            <a:ext cx="821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-VISITED CITY IN THE U.S., AFTER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3120" y="762120"/>
            <a:ext cx="745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DAKOTA CITY WAS KNOWN AS "THE DIVORCE CAPITAL OF THE MIDWEST" IN THE 180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RT OF THE LOUISIANA PURCHASE, WHAT IS THE ONLY U.S. STATE WHOSE STATE MOTTO IS IN FRE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PRO SPORTS TEAMS "BILLS" AND "SABR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98600" y="761760"/>
            <a:ext cx="634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IZONA TOWN IS MENTIONED IN THE EAGLES SONG "TAKE IT EAS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EW COLLEGE OF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0-08-30T17:27:42Z</dcterms:modified>
  <cp:revision>398</cp:revision>
  <dc:subject/>
  <dc:title>Slide 1</dc:title>
</cp:coreProperties>
</file>