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F44A-660D-4CF5-B3BB-65A9B792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AD4D-9106-4C89-A0CF-3F574625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FECD-B1C9-4261-BA18-D7DCB783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FC1D-9A31-439C-AAA9-6AD4D27EF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CA47-6C8A-45DA-A4AE-680FAC82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6B9-62E0-4B60-9789-F1962E9C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5995-5340-4D3F-B5F4-B5D4E466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1D2F-9201-4154-808B-9D52BB6E9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1C7-45CE-403E-ACB8-0037A953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F161-38EE-4BDB-98F4-B9C6270A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45FE-4915-4E6E-8175-B109F1A0F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B2B2-8C73-4446-88A6-3402D8A1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FD48-D50E-40BB-A3B9-06201FC29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262-F0BC-4096-9AEA-BACF49C87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E45-5FC0-495B-B379-EA5400A2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BE0-987C-4B1F-86D9-B3AC6543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3320-CC79-4A17-B0D5-E8C832F2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B3F-91FE-4332-8050-1E24036F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C008-74FE-4239-90EB-049E12B8C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2BF4-4192-45C7-9D5A-AD2E4BA0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A5CB-DFB0-4DF0-8AEA-97A61F45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EB74-D851-4CCA-9D32-0FCF44A72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0AA2-E9ED-4F42-B19E-2853D2168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43160" y="10666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NSAS CITY IS THE BIRTHPLACE OF BOTH PIZZA HUT AND WHITE CAS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LAC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VADA CITY OF 200,000 PEOPLE IS ONLY 10 MILES FROM THE CALIFORNI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VISITED CITY IN THE U.S.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DAKOTA CITY WAS KNOWN AS "THE DIVORCE CAPITAL OF THE MIDWEST"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OF THE LOUISIANA PURCHASE, WHAT IS THE ONLY U.S. STATE WHOSE STATE MOTTO IS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8160" y="762120"/>
            <a:ext cx="7267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PRO SPORTS TEAMS "BILLS" AND "SAB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57080" y="762120"/>
            <a:ext cx="762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IZONA TOWN IS MENTIONED IN THE EAGLES SONG "TAKE IT E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31840" y="762120"/>
            <a:ext cx="688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VADA CITY OF 200,000 PEOPLE IS ONLY 10 MILES FROM THE CALIFORNIA B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1520" y="762120"/>
            <a:ext cx="786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EW COLLEGE OF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CH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9040" y="762120"/>
            <a:ext cx="776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NSAS CITY IS THE BIRTHPLACE OF BOTH PIZZA HUT AND WHITE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85840" y="3657600"/>
            <a:ext cx="857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THE  FIRST  9  PLACES  JOHNNY  CASH  MENTIONS  IN  THE  SONG  "I'VE  BEEN  EVERYWHERE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LAC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VISITED CITY IN THE U.S.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DAKOTA CITY WAS KNOWN AS "THE DIVORCE CAPITAL OF THE MIDWEST"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OF THE LOUISIANA PURCHASE, WHAT IS THE ONLY U.S. STATE WHOSE STATE MOTTO IS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PRO SPORTS TEAMS "BILLS" AND "SAB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98600" y="761760"/>
            <a:ext cx="634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IZONA TOWN IS MENTIONED IN THE EAGLES SONG "TAKE IT EAS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EW COLLEGE OF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0-08-30T17:27:42Z</dcterms:modified>
  <cp:revision>398</cp:revision>
  <dc:subject/>
  <dc:title>Slide 1</dc:title>
</cp:coreProperties>
</file>