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AAFC-0051-404D-8514-76E595424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13C2-69C6-4A7A-A267-A231E14E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1DEB-DCD6-498F-8C0D-FA108F553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8C80-3594-4225-82CD-7482817D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CDCA-8F33-469E-9C51-9376FAC1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82B0-1896-4BB4-89CC-D306DC163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21FD-7C11-4472-A41E-1C213014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1261-1679-4FEF-9CD8-28AF5ABAC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0AEE-4787-41F2-8811-3B65B294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6A14-27F9-4BB5-8904-9250EA4E2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216-E783-4B13-8F30-3E1E1CEC3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529B-39BE-4F73-81D9-4ACAFCCE3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FA8B-26A6-465B-ABFD-97053B87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019-73B5-441B-90D7-C6F9EE72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E7B4-B3E3-44A9-B66E-F459181B9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35E3-7882-440A-B9A5-AB39119CC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DB20-C1D5-4647-B8D9-29FFE39F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630F-C749-4FB2-B352-76CD747C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9513-CD0B-47F2-B3F5-36C25FE7A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9959-D013-4519-9F1A-28F917840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A105-4CC7-4CF3-AC26-621026701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FD9F-3F47-468F-8384-B6C58F7F4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F780-5DD3-4430-8FEB-CAFB66B4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43160" y="10666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NSAS CITY IS THE BIRTHPLACE OF BOTH PIZZA HUT AND WHITE CAS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LAC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85760" y="762120"/>
            <a:ext cx="697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VADA CITY OF 200,000 PEOPLE IS ONLY 10 MILES FROM THE CALIFORNI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VISITED CITY IN THE U.S., AFTER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DAKOTA CITY WAS KNOWN AS "THE DIVORCE CAPITAL OF THE MIDWEST"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OF THE LOUISIANA PURCHASE, WHAT IS THE ONLY U.S. STATE WHOSE STATE MOTTO IS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38160" y="762120"/>
            <a:ext cx="7267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PRO SPORTS TEAMS "BILLS" AND "SAB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38400" y="762120"/>
            <a:ext cx="666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57080" y="762120"/>
            <a:ext cx="7629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IZONA TOWN IS MENTIONED IN THE EAGLES SONG "TAKE IT E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31840" y="762120"/>
            <a:ext cx="6880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VADA CITY OF 200,000 PEOPLE IS ONLY 10 MILES FROM THE CALIFORNIA B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1520" y="762120"/>
            <a:ext cx="786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EW COLLEGE OF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CH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9040" y="762120"/>
            <a:ext cx="776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NSAS CITY IS THE BIRTHPLACE OF BOTH PIZZA HUT AND WHITE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85840" y="3657600"/>
            <a:ext cx="857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THE  FIRST  9  PLACES  JOHNNY  CASH  MENTIONS  IN  THE  SONG  "I'VE  BEEN  EVERYWHERE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LAC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VISITED CITY IN THE U.S., AFTER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3120" y="762120"/>
            <a:ext cx="745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DAKOTA CITY WAS KNOWN AS "THE DIVORCE CAPITAL OF THE MIDWEST"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OF THE LOUISIANA PURCHASE, WHAT IS THE ONLY U.S. STATE WHOSE STATE MOTTO IS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PRO SPORTS TEAMS "BILLS" AND "SAB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98600" y="761760"/>
            <a:ext cx="634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IZONA TOWN IS MENTIONED IN THE EAGLES SONG "TAKE IT EAS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EW COLLEGE OF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0-08-30T17:27:42Z</dcterms:modified>
  <cp:revision>398</cp:revision>
  <dc:subject/>
  <dc:title>Slide 1</dc:title>
</cp:coreProperties>
</file>