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6280-BF80-4888-94D4-7258E625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780D-E5E4-4E0F-93DE-E14A693A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265-3B48-4B6D-A5A1-C3BF445D3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C3C-42F8-44D8-824E-5EA38C33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82D9-29EA-4113-832A-9747B652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23E-A9FF-4182-9FD5-F8FD06AD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F23-16FD-44D1-9725-99768110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DC0B-C0A6-40C8-8BB9-41BBD0BC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C96-50C1-4582-AC8B-4B68DD55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B13-FDB6-4C30-8A74-76A5B4B7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7E9D-9D78-485A-AAF1-A20E60F0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A0C1-4C5F-4C90-977E-18B2D8FF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3A3-0D31-4794-B54C-52407EF8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BECB-074A-4158-9275-3B51F357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448-6DF3-4FBC-B190-DF29F0EA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17D-5036-4486-A97E-AA662A759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FA6-3F17-4981-9B1B-24F08CD6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711-DCFD-4F39-B1CB-DC7A5009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F5A-2214-48FB-B676-F256DF85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3B6-268B-46A1-A2FE-3BDDFA00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4433-5AC9-40B3-8E38-A3059977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5DE-F590-467F-8ED0-E780B2AA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077-A4DB-4638-AE42-EA1FACE1F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OF  THE  RISING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SAN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324080" y="762120"/>
            <a:ext cx="649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GLASSES  AT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3640" y="76212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14400"/>
            <a:ext cx="4038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343400"/>
            <a:ext cx="693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SY  BITSY  TEENIE  WEENIE  YELLOW  POLKADOT  BIK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2160" y="762120"/>
            <a:ext cx="7158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TTING  ON)  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IL 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74840" y="762120"/>
            <a:ext cx="819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14520" y="4343400"/>
            <a:ext cx="611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YOU  SEE  AT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0600" y="761760"/>
            <a:ext cx="65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19120" y="762120"/>
            <a:ext cx="63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920" y="94464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8:29Z</dcterms:modified>
  <cp:revision>368</cp:revision>
  <dc:subject/>
  <dc:title>Slide 1</dc:title>
</cp:coreProperties>
</file>