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E2EC-44CD-4905-BAD4-6293934A3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E06E-3BC1-44B0-91FF-9F580CCF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3F02-0374-4F8F-BA34-D13E67EA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3968-4E42-4835-A73D-BCF54F037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7C84-3524-4725-BE1E-AAB241B27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6BC3-6D01-4D33-BC6C-640A9354B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60E2-C7A9-42BA-B6B7-58338BD7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ACFC-19BE-426D-A2E9-920A052D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2858-D665-4F76-94FA-A6E47436A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32DD-EAF7-411B-BA32-44437EAB0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256B-8DF8-4335-B9E3-24222AA3A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AC1F-D129-4482-B8A4-B83B5FDA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6F8C-A0D3-4CD6-B163-E8E5262AE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F70B-D869-467D-A59B-2D26592E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8CFA-2EA2-4F83-9A5B-4F54C5D2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5DB1-F493-47EC-B57A-EBF4A67C7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01F8-CBE2-424C-BC0D-BE59A64EF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A85C-3EA7-44BB-928D-8F705337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396D-56C4-4E32-9FE9-D612F686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4092-56B5-4100-93B5-F8AB9262F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71BC-DA50-42BF-BA50-37F19681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5993-346D-42EC-AB80-2E488C47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F750-C3B0-4CE1-B0D6-D53ADC4F2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5760" y="761760"/>
            <a:ext cx="823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Y MIGHT  BE GIANTS BEGINS "SIR HAND, OR IS IT MA'AM, I FELL OUT  OF MY RIGHT PLACE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  OF  THE  RISING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19040" y="762120"/>
            <a:ext cx="8305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LS SONG BEGINS "MY MOTHER, SHE WAS A TAILOR, SEWED THESE NEW BLUEJEANS, MY FATHER WAS A GAMBLIN' MAN, WAY DOWN IN NEW ORLEAN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SAN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324080" y="762120"/>
            <a:ext cx="649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4 SONG SUNG BY THE CHORDETTES, WHO IS SUPPOSED TO "BRING ME A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343160" y="762120"/>
            <a:ext cx="64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600200" y="4876920"/>
            <a:ext cx="59436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GLASSES  AT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33640" y="762120"/>
            <a:ext cx="68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RY HEART'S FIR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52280" y="914400"/>
            <a:ext cx="4038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#1 SINGLE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4233960" cy="42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6640" y="4343400"/>
            <a:ext cx="693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SY  BITSY  TEENIE  WEENIE  YELLOW  POLKADOT  BIK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2160" y="762120"/>
            <a:ext cx="7158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IAN HYLAND'S FIRST AND BIGGEST HIT SO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  THE  BOARD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FTERS HIT SONG BEGINS "WHEN THE SUN BEATS DOWN AND BURNS THE TAR UP ON THE ROOF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LS SONG BEGINS "MY MOTHER, SHE WAS A TAILOR, SEWED THESE NEW BLUEJEANS, MY FATHER WAS A GAMBLIN' MAN, WAY DOWN IN NEW ORLEAN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ITTING  ON)  THE  DOCK  OF  THE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HI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IL 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74840" y="762120"/>
            <a:ext cx="819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Y MIGHT  BE GIANTS BEGINS "SIR HAND, OR IS IT MA'AM, I FELL OUT  OF MY RIGHT PLACE AGAI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14520" y="4343400"/>
            <a:ext cx="611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INGS  YOU  SEE  AT  THE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0600" y="761760"/>
            <a:ext cx="65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4 SONG SUNG BY THE CHORDETTES, WHO IS SUPPOSED TO "BRING ME A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19120" y="762120"/>
            <a:ext cx="63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RY HEART'S FIR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920" y="94464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#1 SINGLE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423396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IAN HYLAND'S FIRST AND BIGGE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FTERS HIT SONG BEGINS "WHEN THE SUN BEATS DOWN AND BURNS THE TAR UP ON THE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HI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8:29Z</dcterms:modified>
  <cp:revision>368</cp:revision>
  <dc:subject/>
  <dc:title>Slide 1</dc:title>
</cp:coreProperties>
</file>