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3183-1C01-4B9A-8503-7D5F9FBF2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CE4A-1441-492A-8A63-C24FA7EA4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7528-9AAB-41A4-A28F-AB0923364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3495-40F5-46BA-9FAC-FACE2A5AA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1E25-6FCE-4E3F-BB8C-F734D8DFC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928A-E385-48E3-AE81-DD6B13598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5DF9-0C50-485F-9ECE-D78E2E461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B46E-C7B5-4675-887F-625D8A892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35B3-90C7-49E1-BC86-AA3B07EE6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0496-728D-44A3-B76E-D3A3BF84D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9042-E7DD-4B0A-B7B3-FB17E3B83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6D98-5098-47F4-A138-E1A4F4FF8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EBD5-86BE-4B47-943A-7ABF11C64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9867-2F73-4944-BD35-5C6782AF9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9B39-42AA-4401-B265-E9CE9FE89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776E-92AF-4BCE-A8B8-3026701E0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D2E1-8555-4B1E-B8E3-EA77D553B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9A39-024C-442C-BE09-789AF954E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547A-D156-40DE-AACE-119277DE8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93B0-A436-4403-8C42-36E7D82B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DBA4-B1C4-4111-8BDF-A5358B1FC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5BB0-8F11-4CE3-A082-EC1240F0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BBAA-E8BC-460C-8D79-C2079C83C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5760" y="761760"/>
            <a:ext cx="823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Y MIGHT  BE GIANTS BEGINS "SIR HAND, OR IS IT MA'AM, I FELL OUT  OF MY RIGHT PLACE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  OF  THE  RISING 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19040" y="762120"/>
            <a:ext cx="8305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NIMALS SONG BEGINS "MY MOTHER, SHE WAS A TAILOR, SEWED THESE NEW BLUEJEANS, MY FATHER WAS A GAMBLIN' MAN, WAY DOWN IN NEW ORLEAN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SAN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324080" y="762120"/>
            <a:ext cx="649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4 SONG SUNG BY THE CHORDETTES, WHO IS SUPPOSED TO "BRING ME A DR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RINA  AND  THE 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343160" y="762120"/>
            <a:ext cx="64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600200" y="4876920"/>
            <a:ext cx="594360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GLASSES  AT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33640" y="762120"/>
            <a:ext cx="68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ORY HEART'S FIR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52280" y="914400"/>
            <a:ext cx="4038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#1 SINGLE HAD THI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tretch/>
        </p:blipFill>
        <p:spPr>
          <a:xfrm>
            <a:off x="4495680" y="457200"/>
            <a:ext cx="4233960" cy="42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6640" y="4343400"/>
            <a:ext cx="693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SY  BITSY  TEENIE  WEENIE  YELLOW  POLKADOT  BIK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2160" y="762120"/>
            <a:ext cx="71582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IAN HYLAND'S FIRST AND BIGGEST HIT SO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  THE  BOARD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FTERS HIT SONG BEGINS "WHEN THE SUN BEATS DOWN AND BURNS THE TAR UP ON THE ROOF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7760" y="762120"/>
            <a:ext cx="844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NIMALS SONG BEGINS "MY MOTHER, SHE WAS A TAILOR, SEWED THESE NEW BLUEJEANS, MY FATHER WAS A GAMBLIN' MAN, WAY DOWN IN NEW ORLEANS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ITTING  ON)  THE  DOCK  OF  THE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FIRST POSTHUMOUS #1 HI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IL 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74840" y="762120"/>
            <a:ext cx="819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Y MIGHT  BE GIANTS BEGINS "SIR HAND, OR IS IT MA'AM, I FELL OUT  OF MY RIGHT PLACE AGAI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14520" y="4343400"/>
            <a:ext cx="6114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INGS  YOU  SEE  AT  THE 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0600" y="761760"/>
            <a:ext cx="65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4 SONG SUNG BY THE CHORDETTES, WHO IS SUPPOSED TO "BRING ME A DR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19120" y="762120"/>
            <a:ext cx="63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ORY HEART'S FIR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920" y="94464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#1 SINGLE HAD THI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4495680" y="457200"/>
            <a:ext cx="423396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IAN HYLAND'S FIRST AND BIGGE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FTERS HIT SONG BEGINS "WHEN THE SUN BEATS DOWN AND BURNS THE TAR UP ON THE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FIRST POSTHUMOUS #1 HI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8:29Z</dcterms:modified>
  <cp:revision>368</cp:revision>
  <dc:subject/>
  <dc:title>Slide 1</dc:title>
</cp:coreProperties>
</file>