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E716-E27E-4547-AFD5-DF80C6D0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200-CF9D-4FFF-AFEF-6A0CBD62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AB1-E3C1-4C0F-B48E-DE47C8E34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ABE6-68B5-41A6-9962-8F3BF4E1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DC08-6C3D-4B46-8B9A-650E8FBD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1C61-21A0-499D-8640-ED405AE4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5A7A-1E97-46CD-B7C1-5DF403A2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C8A-206F-4FB2-B726-43A861FE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A42-4D65-4D52-8294-E96DE247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623-1864-4763-96B8-5557EBE2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4AF-3DAE-4158-8AEC-8A453F29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75D-8F56-4784-825D-34EA57228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70D-97D7-4388-9808-8ED47739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810-5A8D-4D60-BAD2-F94B4EC4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8DB6-357B-44F3-97A6-986E0674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E91-B8EC-43CA-9A05-DCB4B1D8A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8912-3033-4FEC-B250-AF9CA532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B6E1-303F-473C-AE3A-B69D0606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C2D-743C-40AC-BB7B-7866D19F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016B-00E2-4512-B139-5D12352B7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D28-AEC4-4FAD-8D01-7BDCEF7C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ED63-426D-4F20-98F3-1695B9D1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19F-29A2-4521-86C4-E6D36795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ACTION FILM FRANCHISE STARRED MEL GIBSON AND DANNY G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LACK-AND-WHITE FILM WAS SHOT FOR UNDER $30,000 BUT MADE MORE THAN $3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A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5 FILM WITH A FUNNY NAME IS ROBIN WILLIAMS TRAPPED INSIDE OF A GAME FOR 2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DYSTOPIAN ACTION FILM STARRED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"RAMBO"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588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2 FILM STARRING JEFF BRIDGES SPAWNED MULTIPLE VIDEO GAMES, COMIC BOOKS, AND AN ANIMATED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 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FILM DOES AN ALL-GIRL A CAPPELLA GROUP COMPETE TO WIN NATIO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LACK-AND-WHITE FILM WAS SHOT FOR UNDER $30,000 BUT MADE MORE THAN $3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L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ANTASY FILM HAD THE CATCHPHRASE "THERE CAN BE ONLY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HAL  WE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ACTION FILM FRANCHISE STARRED MEL GIBSON AND DANNY G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38098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SEQUELS  DID  MUCH  BETTER  AT  THE  BOX  OFFICE  THAN  THE  ORIG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5 FILM WITH A FUNNY NAME IS ROBIN WILLIAMS TRAPPED INSIDE OF A GAME FOR 2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DYSTOPIAN ACTION FILM STARRED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"RAMBO"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2 FILM STARRING JEFF BRIDGES SPAWNED MULTIPLE VIDEO GAMES, COMIC BOOKS, AND AN ANIMATED TV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FILM DOES AN ALL-GIRL A CAPPELLA GROUP COMPETE TO WIN NATION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ANTASY FILM HAD THE CATCHPHRASE "THERE CAN BE ONLY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3:14:56Z</dcterms:created>
  <dc:creator>Jennifer Budzinski</dc:creator>
  <dc:description/>
  <dc:language>en-US</dc:language>
  <cp:lastModifiedBy>Erich Friedman</cp:lastModifiedBy>
  <dcterms:modified xsi:type="dcterms:W3CDTF">2020-08-30T17:29:10Z</dcterms:modified>
  <cp:revision>438</cp:revision>
  <dc:subject/>
  <dc:title>Slide 1</dc:title>
</cp:coreProperties>
</file>