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4479-5A04-46CF-B23A-314D9BE39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A890-2FDB-444D-824B-35E2F8E17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C699-C968-47DB-B739-27CBB0DF8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A3F1-774E-4981-9D09-04CA59AD4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9F92-BB8D-4C53-B351-42B46C7E4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FB2D-822E-4320-B6FA-BA1DCEB96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6467-24F3-4A0A-9C27-EB04C0970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D0A0-79D7-478C-A106-70C62600D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1A28-62EE-4B83-8E70-8B8414884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0691-D42C-4857-BCC2-2273BAE28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FDD3-0643-4304-B699-AE5FB6A43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B3C9-0B35-4A19-9F57-67AE7120A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47AE-15A1-4081-AC1C-23900DA98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2B06-52DE-4141-A10D-3DD3EFFAE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12D0-A4F7-45B8-995B-C558E6B09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64F2-728C-4DF7-9309-995B34921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D00D-883E-4B13-B6A0-A79A826AD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4608-3BAD-4136-85E0-A57D058D8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355A-61AD-4C63-B942-081CA1A04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0E48-4284-48AB-B5A3-0FC9526C6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4A69-4352-4FB7-921E-52282F866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4E57-6199-4519-A17E-E1FA06ECB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91AB-390A-4FAF-9375-3AD9DFD15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8116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FILM ACTION FILM FRANCHISE STARRED MEL GIBSON AND DANNY GL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BLACK-AND-WHITE FILM WAS SHOT FOR UNDER $30,000 BUT MADE MORE THAN $3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AN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5 FILM WITH A FUNNY NAME IS ROBIN WILLIAMS TRAPPED INSIDE OF A GAME FOR 2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286000" y="4876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  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66680" y="762120"/>
            <a:ext cx="7010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DYSTOPIAN ACTION FILM STARRED MEL GIB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"RAMBO"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RMIN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RNOLD SCHWARZENEGGER'S MOST FAMOUS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5888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2 FILM STARRING JEFF BRIDGES SPAWNED MULTIPLE VIDEO GAMES, COMIC BOOKS, AND AN ANIMATED TV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TCH 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2 FILM DOES AN ALL-GIRL A CAPPELLA GROUP COMPETE TO WIN NATION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BLACK-AND-WHITE FILM WAS SHOT FOR UNDER $30,000 BUT MADE MORE THAN $3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LA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ANTASY FILM HAD THE CATCHPHRASE "THERE CAN BE ONLY 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HAL  WEA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FILM ACTION FILM FRANCHISE STARRED MEL GIBSON AND DANNY GL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3809880"/>
            <a:ext cx="7696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SEQUELS  DID  MUCH  BETTER  AT  THE  BOX  OFFICE  THAN  THE  ORIGI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5 FILM WITH A FUNNY NAME IS ROBIN WILLIAMS TRAPPED INSIDE OF A GAME FOR 2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DYSTOPIAN ACTION FILM STARRED MEL GIB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"RAMBO"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RNOLD SCHWARZENEGGER'S MOST FAMOUS R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2 FILM STARRING JEFF BRIDGES SPAWNED MULTIPLE VIDEO GAMES, COMIC BOOKS, AND AN ANIMATED TV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2 FILM DOES AN ALL-GIRL A CAPPELLA GROUP COMPETE TO WIN NATION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ANTASY FILM HAD THE CATCHPHRASE "THERE CAN BE ONLY 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3:14:56Z</dcterms:created>
  <dc:creator>Jennifer Budzinski</dc:creator>
  <dc:description/>
  <dc:language>en-US</dc:language>
  <cp:lastModifiedBy>Erich Friedman</cp:lastModifiedBy>
  <dcterms:modified xsi:type="dcterms:W3CDTF">2020-08-30T17:29:10Z</dcterms:modified>
  <cp:revision>438</cp:revision>
  <dc:subject/>
  <dc:title>Slide 1</dc:title>
</cp:coreProperties>
</file>