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EC59-E23F-4646-A302-FE3836133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0424-6B5A-45B0-8010-06BBAF5DC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C052-8006-46DE-A8FD-DD946DAD2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441E-BA83-4F77-A569-0CBF7F652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6BEF-11E5-4FE4-AACC-304EFD66F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89B1-2A5A-446B-BDE5-D29AB943D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8123-58F8-468B-ACDE-B5CAE11C5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0A5C-A094-4B1F-988F-B0932185C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FE4B-AC22-43DB-92E2-B5D75A1C3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06B6-4F46-4FC9-A1F8-DD9C548EA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08DE-0C63-405E-89FF-65C24ED25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A10D-9506-4230-932E-6846023AB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1BE3-1B9C-4B78-B90B-E7CC37F9C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2923-0DB4-4E65-9127-84E69942E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1A73-DD8D-4D95-A3FF-1AEF5F170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D5BD-984D-4D67-B800-826F4301F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86BD-92D9-418F-BA12-E11957F80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F6CE-3A5D-4EC5-AA43-A27447893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A2B6-4A6B-48E5-A09C-BEECFBCB5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054A-08D4-49A7-B97B-D3AFC7E43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9352-AF23-4665-B7C4-DFE1E4FE3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FB60-91D5-45F7-BE7E-C107E0B32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FAE9-ACE3-4C1F-84C6-DAE0825D1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8116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7 FILM ACTION FILM FRANCHISE STARRED MEL GIBSON AND DANNY GLO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E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BLACK-AND-WHITE FILM WAS SHOT FOR UNDER $30,000 BUT MADE MORE THAN $3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MAN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5 FILM WITH A FUNNY NAME IS ROBIN WILLIAMS TRAPPED INSIDE OF A GAME FOR 26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286000" y="4876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  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66680" y="762120"/>
            <a:ext cx="7010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DYSTOPIAN ACTION FILM STARRED MEL GIB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"RAMBO"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ERMIN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RNOLD SCHWARZENEGGER'S MOST FAMOUS RO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58880"/>
            <a:ext cx="7772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2 FILM STARRING JEFF BRIDGES SPAWNED MULTIPLE VIDEO GAMES, COMIC BOOKS, AND AN ANIMATED TV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TCH  PER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2 FILM DOES AN ALL-GIRL A CAPPELLA GROUP COMPETE TO WIN NATION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BLACK-AND-WHITE FILM WAS SHOT FOR UNDER $30,000 BUT MADE MORE THAN $3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GHLA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FANTASY FILM HAD THE CATCHPHRASE "THERE CAN BE ONLY O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THAL  WEAP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7 FILM ACTION FILM FRANCHISE STARRED MEL GIBSON AND DANNY GLO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23960" y="3809880"/>
            <a:ext cx="7696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SEQUELS  DID  MUCH  BETTER  AT  THE  BOX  OFFICE  THAN  THE  ORIGI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5 FILM WITH A FUNNY NAME IS ROBIN WILLIAMS TRAPPED INSIDE OF A GAME FOR 26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90720" y="76212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DYSTOPIAN ACTION FILM STARRED MEL GIB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"RAMBO"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RNOLD SCHWARZENEGGER'S MOST FAMOUS RO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2 FILM STARRING JEFF BRIDGES SPAWNED MULTIPLE VIDEO GAMES, COMIC BOOKS, AND AN ANIMATED TV 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2 FILM DOES AN ALL-GIRL A CAPPELLA GROUP COMPETE TO WIN NATION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FANTASY FILM HAD THE CATCHPHRASE "THERE CAN BE ONLY O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1T13:14:56Z</dcterms:created>
  <dc:creator>Jennifer Budzinski</dc:creator>
  <dc:description/>
  <dc:language>en-US</dc:language>
  <cp:lastModifiedBy>Erich Friedman</cp:lastModifiedBy>
  <dcterms:modified xsi:type="dcterms:W3CDTF">2020-08-30T17:29:10Z</dcterms:modified>
  <cp:revision>438</cp:revision>
  <dc:subject/>
  <dc:title>Slide 1</dc:title>
</cp:coreProperties>
</file>