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9EEFF-2F10-4237-8638-E13D19F7C4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74E6A-E800-4ABA-ADA8-B05282831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60539-D6C2-4FBC-B242-359C5348A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9DDE7-5153-47BE-956A-A23DB3B88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16B72-D522-4011-9B5D-05AA170C0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6DF20-A9A5-4BC1-A787-5B5977AB9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CF226-8B81-4661-ADA0-3139B2AC7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526C8-EC05-423E-B96F-522C14953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02067-F39A-4129-A0C1-318156F57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03AFD-CB6B-4EDF-91BF-7C853341E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FD2C4-5474-4148-B5DC-31170DF1C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4A9F0-9FDA-447F-80DD-C919D4772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D1F2C-17D0-47E1-A290-08FDDC6FE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2F9A0-5E4C-472A-9CCC-DF8EF43D5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F8A13-F736-4039-A576-C356B389D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AFF41-9DDC-45AD-9EC5-3D023B752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A47B3-A203-47AE-8849-0456D0F9B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E6881-A5D8-4977-B10E-9288476DA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70AE3-96E7-4014-BBDC-35A7BA0FC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72356-9FC7-4B47-9DDC-E8D773884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DDA2D-4AB5-4FD0-A651-5C80A6C39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810FD-2655-42E4-B832-B7EA338CD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5934F-1FD5-4390-B070-BE1616087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76520" y="914040"/>
            <a:ext cx="5790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RESS FOR "LADY SINGS THE BLU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UL  SIM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WAS MARRIED TO CARRIE FISHER, BUT IS NOW MARRIED TO EDIE BRICKE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Y  JO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WAS MARRIED TO CHRISTIE BRINKLEY AND KATIE LE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2286000" y="4876920"/>
            <a:ext cx="4495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N  AYKROY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257480" y="762120"/>
            <a:ext cx="6629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THE BLUES BROTHERS" WITH JOHN BELUSH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  GELD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"PINK" IN "PINK FLOYD – THE WAL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LL  AND  O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ARE THE BEST-SELLING MUSICAL DUO IN HISTO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JACKSON 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"ABC" AND "I WANT YOU BAC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RY  BELAFO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85800" y="76212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AMAICAN-AMERICAN SINGER, CALLED "THE KING OF CALYPSO", HAD THE FIRST MILLION-SELLING ALBUM BY A SOLO ART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WAS MARRIED TO CARRIE FISHER, BUT IS NOW MARRIED TO EDIE BRICKE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EY  LEWIS  AND  THE  NE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SONGS "BACK IN TIME" AND "THE POWER OF LOVE", WHICH APPEARED IN THE FILM "BACK TO THE FUTU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ANA  R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RESS FOR "LADY SINGS THE BLU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762120" y="4343400"/>
            <a:ext cx="76197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LL  SANG  ON  THE  SONG  "WE  ARE  THE  WORLD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WAS MARRIED TO CHRISTIE BRINKLEY AND KATIE LE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257480" y="762120"/>
            <a:ext cx="6629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THE BLUES BROTHERS" WITH JOHN BELUSH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"PINK" IN  "PINK FLOYD – THE WAL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ARE THE BEST-SELLING MUSICAL DUO IN HISTO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"ABC" AND "I WANT YOU BAC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AMAICAN-AMERICAN SINGER, CALLED "THE KING OF CALYPSO", HAD THE FIRST MILLION-SELLING ALBUM BY A SOLO ARTI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SONGS "BACK IN TIME" AND "THE POWER OF LOVE", WHICH APPEARED IN THE FILM "BACK TO THE FUTUR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31T19:25:01Z</dcterms:created>
  <dc:creator>Jennifer Budzinski</dc:creator>
  <dc:description/>
  <dc:language>en-US</dc:language>
  <cp:lastModifiedBy>Erich Friedman</cp:lastModifiedBy>
  <dcterms:modified xsi:type="dcterms:W3CDTF">2020-08-30T19:03:09Z</dcterms:modified>
  <cp:revision>441</cp:revision>
  <dc:subject/>
  <dc:title>Slide 1</dc:title>
</cp:coreProperties>
</file>