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119E-5166-40B8-90E3-7B89D2D2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8124-1ADE-4AD2-AD5B-792653A2F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9D59-8944-47A1-A6B7-F855A901C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986A-48A8-477A-86DC-720C90D6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CBE-0852-4467-ADA1-DD5ACD61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0334-79A0-4C0A-82B3-84B721DE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0E13-6F0F-4D9A-8960-14F2FA36C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9D28-4D22-41BD-9A65-C822ACF81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3263-1A08-4712-A0B3-F98B847A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F3F0-E637-4770-B60C-E9E8345D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9353-F2D8-4B62-A2C9-591C10C6C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24C7-5AE4-4E55-937C-6947B228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ACF1-9559-489C-8A10-9D5B62AD3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883E-E7A4-4537-94FD-E053C27B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5445-C684-4519-BD2E-047DFF244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E14F-107E-473B-AFD4-82E9F5C4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B716-6256-4E89-896B-C36F30F5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9D1A-4225-419A-A9FF-AA1B9AE8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1866-395C-4196-B8B6-FB49F24F5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E84A-78C8-468E-9995-75105650A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7752-4BDF-4074-A668-FF55C59A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9698-7EC3-486B-8473-E22121421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EB5E-67EF-4C6C-A8FE-7DC1857E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76520" y="914040"/>
            <a:ext cx="579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LADY SINGS THE BLU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ARRIE FISHER, BUT IS NOW MARRIED TO EDIE BRICK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HRISTIE BRINKLEY AND KATIE L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AYKR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57480" y="762120"/>
            <a:ext cx="6629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S BROTHERS" WITH JOHN BELUSH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GELD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INK" IN "PINK FLOYD – THE W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  AND  O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BEST-SELLING MUSICAL DUO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ACKS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BC" AND "I WANT YOU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BELA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AICAN-AMERICAN SINGER, CALLED "THE KING OF CALYPSO", HAD THE FIRST MILLION-SELLING ALBUM BY A SOLO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ARRIE FISHER, BUT IS NOW MARRIED TO EDIE BRICK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EY  LEWIS  AND  THE 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BACK IN TIME" AND "THE POWER OF LOVE", WHICH APPEARED IN THE FILM "BACK TO THE FU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LADY SINGS THE BLU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19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SANG  ON  THE  SONG  "WE  ARE  THE  WOR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HRISTIE BRINKLEY AND KATIE L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7480" y="7621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S BROTHERS" WITH JOHN BELUSH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INK" IN  "PINK FLOYD – THE W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BEST-SELLING MUSICAL DUO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BC" AND "I WANT YOU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AICAN-AMERICAN SINGER, CALLED "THE KING OF CALYPSO", HAD THE FIRST MILLION-SELLING ALBUM BY A SOLO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BACK IN TIME" AND "THE POWER OF LOVE", WHICH APPEARED IN THE FILM "BACK TO THE FUTU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9:25:01Z</dcterms:created>
  <dc:creator>Jennifer Budzinski</dc:creator>
  <dc:description/>
  <dc:language>en-US</dc:language>
  <cp:lastModifiedBy>Erich Friedman</cp:lastModifiedBy>
  <dcterms:modified xsi:type="dcterms:W3CDTF">2020-08-30T19:03:09Z</dcterms:modified>
  <cp:revision>441</cp:revision>
  <dc:subject/>
  <dc:title>Slide 1</dc:title>
</cp:coreProperties>
</file>