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7ED5-1F15-4ABB-B981-E1F6814E8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58B4-EF49-48A2-B4BF-9DAAA9C7D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1E62-0B23-469A-8BC6-67CB7A285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1A47-0302-4C8E-BC6D-FA757F450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FCBF-8985-418F-A1D8-31ECD053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AD0B-015E-425F-BCC8-D19363929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AE17-01D8-4227-BE5C-EF24A04B5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A728-29CC-40F8-9AEC-59765A38B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5761-8277-4EDB-A59F-6833ADC15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67C0-E10A-40FF-9D86-D6CF5A087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4780-487C-423E-A21E-964B774D9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CD92-1BDA-4E7C-B995-B6F91E3E8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CBA9-BF04-4C89-82BC-6ABAE486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9122-7F8C-474B-91AE-92CEE5DB5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4075-424E-4A31-9DE0-A282F0D49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610A-3DDE-4D36-B207-225C4F1CA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C4D-0F33-44CB-9671-310318E5F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D2BA-60C2-48F9-9D14-D918E1EAF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7FAB-65C9-4C80-B619-3DBBF5A4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31AD-8EB5-49E9-8218-47884A66C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3002-C9E9-4E01-8A0A-DDE014DF7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098F-EFAB-4583-BB3B-E45FC82D0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9AB2-F423-4DC9-86F7-AA268EDE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76520" y="914040"/>
            <a:ext cx="579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LADY SINGS THE BLU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ARRIE FISHER, BUT IS NOW MARRIED TO EDIE BRICK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HRISTIE BRINKLEY AND KATIE L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AYKR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57480" y="762120"/>
            <a:ext cx="6629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BLUES BROTHERS" WITH JOHN BELUSH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GELD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PINK" IN "PINK FLOYD – THE W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  AND  O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BEST-SELLING MUSICAL DUO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ACKS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ABC" AND "I WANT YOU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BELA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AICAN-AMERICAN SINGER, CALLED "THE KING OF CALYPSO", HAD THE FIRST MILLION-SELLING ALBUM BY A SOLO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ARRIE FISHER, BUT IS NOW MARRIED TO EDIE BRICK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EY  LEWIS  AND  THE  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S "BACK IN TIME" AND "THE POWER OF LOVE", WHICH APPEARED IN THE FILM "BACK TO THE FU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LADY SINGS THE BLU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19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SANG  ON  THE  SONG  "WE  ARE  THE  WOR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HRISTIE BRINKLEY AND KATIE L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7480" y="7621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BLUES BROTHERS" WITH JOHN BELUSH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PINK" IN  "PINK FLOYD – THE W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BEST-SELLING MUSICAL DUO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ABC" AND "I WANT YOU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AICAN-AMERICAN SINGER, CALLED "THE KING OF CALYPSO", HAD THE FIRST MILLION-SELLING ALBUM BY A SOLO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S "BACK IN TIME" AND "THE POWER OF LOVE", WHICH APPEARED IN THE FILM "BACK TO THE FUTU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9:25:01Z</dcterms:created>
  <dc:creator>Jennifer Budzinski</dc:creator>
  <dc:description/>
  <dc:language>en-US</dc:language>
  <cp:lastModifiedBy>Erich Friedman</cp:lastModifiedBy>
  <dcterms:modified xsi:type="dcterms:W3CDTF">2020-08-30T19:03:09Z</dcterms:modified>
  <cp:revision>441</cp:revision>
  <dc:subject/>
  <dc:title>Slide 1</dc:title>
</cp:coreProperties>
</file>