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33A6-FB84-4F9C-85C0-1A7A9723B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F3B8-8504-40F0-88D2-539779D67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78BB-55EE-4149-B8D9-48C27A23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22BDE-7573-444B-962C-CA450C888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DFCC-938C-4BB2-AA25-8917A659F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1B1-D5A3-41AE-BC05-F69FA1AA2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D1C5-5E2C-44B4-B4E8-7AE1A979B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F92B-0317-4EBA-8ADD-7E6C96E8A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739A-56EA-4949-9361-58EE73F2E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F77-7C6C-47B0-A193-FBE3BB9D8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7166-0189-4919-9234-D23AE1A0D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D81-A61A-467B-A6B0-5A8B2876A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B55F-F89A-45CA-8426-E4CCA5A2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8064-6276-4565-89D1-EB1C5CFE0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664E-8526-4EB8-AD15-2CC856033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74A5-F72B-4CB9-976D-224EF151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7970-1D04-4D7A-9489-A7DAD9D3F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7A97-81C7-4F8A-93E1-AD6521FDE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ED28-7F96-4AF6-9C1A-99DBA7069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1024-392E-4369-91CC-89ADFAC64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82B7-31D6-4965-BFDE-7394B4FEC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CA79-70E3-4260-AB00-080B6188D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CB71-1CD2-43C7-9C23-ACFB1B2B3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8116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PRECISELY ONE WEEK BEFORE ANOTHER FEDERAL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CAT WHILE HE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DID THE ROMANS CALL A "HORSE-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286000" y="48769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14560" y="762120"/>
            <a:ext cx="6914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ABBOTT  AND COSTELLO SKETCH, WHAT WAS THE NAME OF THE FIRST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(NON-MEAT) PIZZA TOPPING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WORD FOR SOFT DRINKS  IN THE NORTHWEST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4-LETTER SLANG POKER TERM FOR AN INEXPERIENCED AND EASILY VICTIMIZED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CARAT (^) CALLED WHEN PLACED ON TOP OF VARI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ILL CLINTON'S CAT WHILE HE WAS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N AMATEUR RADIO OPER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DERAL HOLIDAY IS PRECISELY ONE WEEK BEFORE ANOTHER FEDERAL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343400"/>
            <a:ext cx="784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FINAL  WORDS  OF   DR.  SEUSS  BOOK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IPED CREATURE DID THE ROMANS CALL A "HORSE-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ABBOTT  AND COSTELLO SKETCH, WHAT WAS THE NAME OF THE FIRST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(NON-MEAT) PIZZA TOPPING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WORD FOR SOFT DRINKS   IN THE NORTHWEST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4-LETTER SLANG POKER TERM FOR AN INEXPERIENCED AND EASILY VICTIMIZED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WHAT IS A CARAT (^) CALLED WHEN PLACED ON TOP OF VARI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N AMATEUR RADIO OPER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8:54:21Z</dcterms:created>
  <dc:creator>Jennifer Budzinski</dc:creator>
  <dc:description/>
  <dc:language>en-US</dc:language>
  <cp:lastModifiedBy>Erich Friedman</cp:lastModifiedBy>
  <dcterms:modified xsi:type="dcterms:W3CDTF">2020-08-30T19:03:40Z</dcterms:modified>
  <cp:revision>442</cp:revision>
  <dc:subject/>
  <dc:title>Slide 1</dc:title>
</cp:coreProperties>
</file>