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3E6D-F0C1-4199-89E3-2B7A2E39F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4375-D51A-4B5E-8D77-042F603AD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7167-7388-45B6-AE9D-690C78ECE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57DE-7B2E-4687-BE89-AA420CC0B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F5E-EFC1-45DE-906D-ACC093FF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DF43-36B1-44B8-8AB8-2FA76974A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C49-4B97-43F1-BCA4-85DFE25C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5FB6-836F-4ECC-9451-075DD0DE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F040-625E-4117-B0F4-51B705458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873B-237F-4077-9CD4-B1942C9B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BC9E-FD0F-4FD2-9CE0-9EEC9BE6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CDA7-8945-465D-8442-1B559572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660E-7663-474F-8A74-9F064733A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1460-CE72-4E05-9DD7-4C503BD92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0967-8163-421D-8426-839D7036C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36A0-6663-4B82-AE9C-71BFA8B59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1A96-1DE9-4634-9F29-0E667D0C5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5F4A-A625-4311-95B3-456E5E67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2C12-BC64-4601-882C-3F4E9DC7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7356-2D8F-4A08-AE84-67F0412AB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A47-4D24-4ADB-9846-CACD796FC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20B2-6B41-4CEE-9B94-2FFF4F8C6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DB52-4FAE-4602-959A-063D7463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PRECISELY ONE WEEK BEFORE ANOTHER FEDERAL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CAT WHILE HE WAS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DID THE ROMANS CALL A "HORSE-TI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14560" y="762120"/>
            <a:ext cx="6914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ABBOTT  AND COSTELLO SKETCH, WHAT WAS THE NAME OF THE FIRST BAS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(NON-MEAT) PIZZA TOPPING IN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WORD FOR SOFT DRINKS  IN THE NORTHWEST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4-LETTER SLANG POKER TERM FOR AN INEXPERIENCED AND EASILY VICTIMIZED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CARAT (^) CALLED WHEN PLACED ON TOP OF VARI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CAT WHILE HE WAS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N AMATEUR RADIO OPER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PRECISELY ONE WEEK BEFORE ANOTHER FEDERAL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FINAL  WORDS  OF   DR.  SEUSS  BOOK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DID THE ROMANS CALL A "HORSE-TI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ABBOTT  AND COSTELLO SKETCH, WHAT WAS THE NAME OF THE FIRST BAS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(NON-MEAT) PIZZA TOPPING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WORD FOR SOFT DRINKS   IN THE NORTHWEST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4-LETTER SLANG POKER TERM FOR AN INEXPERIENCED AND EASILY VICTIMIZED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CARAT (^) CALLED WHEN PLACED ON TOP OF VARI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N AMATEUR RADIO OPER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8:54:21Z</dcterms:created>
  <dc:creator>Jennifer Budzinski</dc:creator>
  <dc:description/>
  <dc:language>en-US</dc:language>
  <cp:lastModifiedBy>Erich Friedman</cp:lastModifiedBy>
  <dcterms:modified xsi:type="dcterms:W3CDTF">2020-08-30T19:03:40Z</dcterms:modified>
  <cp:revision>442</cp:revision>
  <dc:subject/>
  <dc:title>Slide 1</dc:title>
</cp:coreProperties>
</file>