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5284-1EDB-487A-A483-6467E541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D445-BB52-48EC-92ED-3A7EE0EB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1883-942C-43AC-BED8-52A99EE2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675-A0DB-4CEE-9F9C-230E16BB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383B-A21C-4325-ADDC-B46A9D18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ED0-7B67-4922-95BB-4989702E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FA4B-0BF1-47B6-BB9F-F9235FA7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8D6-BA11-4D6E-8724-0D5FD993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96E-9734-4518-82B1-08C6609B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AD18-0F12-48DF-A3C8-132A3347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89C-25B4-4F2B-8526-45CDE1E9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3CF0-AE56-4DBF-B80A-B557E565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E9DB-8041-49EB-9886-5BF1E292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6D6-64BA-4751-889E-780C602C7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408C-A39E-4137-92A3-AFDF68B0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0095-928A-42ED-B438-92FBBAED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F239-957B-4360-93C6-28C7AF15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7F3-5B3E-45C9-B5C2-6CD93AB1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F7C6-3B59-4556-AC55-237A0663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1CEA-DC22-44C5-A5FA-2C0149531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D00B-D832-40DF-8910-67FFC4CE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9820-CCE7-4B0E-84D8-DEDDFC13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3EE-E224-4DB5-BAEB-4C8115A5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PRECISELY ONE WEEK BEFORE ANOTHER FEDERAL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CAT WHILE HE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DID THE ROMANS CALL A "HORSE-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14560" y="762120"/>
            <a:ext cx="691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ABBOTT  AND COSTELLO SKETCH, WHAT WAS THE NAME OF THE FIRST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(NON-MEAT) PIZZA TOPPING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WORD FOR SOFT DRINKS  IN THE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4-LETTER SLANG POKER TERM FOR AN INEXPERIENCED AND EASILY VICTIMIZED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CARAT (^) CALLED WHEN PLACED ON TOP OF VARI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CAT WHILE HE WAS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N AMATEUR RADIO OPER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PRECISELY ONE WEEK BEFORE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FINAL  WORDS  OF   DR.  SEUSS  BOOK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DID THE ROMANS CALL A "HORSE-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ABBOTT  AND COSTELLO SKETCH, WHAT WAS THE NAME OF THE FIRST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(NON-MEAT) PIZZA TOPPING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WORD FOR SOFT DRINKS   IN THE NORTHWEST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4-LETTER SLANG POKER TERM FOR AN INEXPERIENCED AND EASILY VICTIMIZED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CARAT (^) CALLED WHEN PLACED ON TOP OF VARI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N AMATEUR RADIO OPER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8:54:21Z</dcterms:created>
  <dc:creator>Jennifer Budzinski</dc:creator>
  <dc:description/>
  <dc:language>en-US</dc:language>
  <cp:lastModifiedBy>Erich Friedman</cp:lastModifiedBy>
  <dcterms:modified xsi:type="dcterms:W3CDTF">2020-08-30T19:03:40Z</dcterms:modified>
  <cp:revision>442</cp:revision>
  <dc:subject/>
  <dc:title>Slide 1</dc:title>
</cp:coreProperties>
</file>