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E69F-C472-466A-A021-EDC69B9AD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2DC0-9FE0-40C7-A6B9-8AC74D679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12A8-14B5-42E8-A254-C5E757EFB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2210-5607-4736-B31E-68E6AE110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69F7-3536-4FFE-8E0D-374FBEE2F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0991-3E51-45B2-A5D8-2DEE5C867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D661-AF75-45AE-B24E-A9D0B8E8E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CBA2-389F-46C4-99E9-D73171059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F5AA-F438-46FF-9043-B35055243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91DD-9C8E-4BA5-BD87-19A8C758F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8503-FECB-40AE-A363-087AABEEF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B51A-CA60-4495-BC1D-D4361CA15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B2D0-5C7C-46FD-93E7-17DDC68E7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C389-2E5F-4C49-BAA6-CD592263D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C200-D38F-4EC5-BE74-BADCF39CB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AF27-CCE7-4A72-B3A0-C20768EE0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5C1B-7A35-42E9-B149-0FFE20E5E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F6F9-7461-4C36-9669-D90DD1691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B0DF-B1C8-4A3D-8FD1-929038590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89A6-5391-443B-A5CF-E2CBEA81E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FA25-7B70-4304-B8F2-15787F905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2348-ED53-4379-980E-B91F66081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9D9C-2DD2-4A68-BC7D-7D0F9FC7E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9903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00200" y="761760"/>
            <a:ext cx="77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URRENT CO-HOST OF "THE TODAY SHOW" HAS BEEN ON THE SHOW FOR MORE THAN 6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ANDRIA  OCASIO–CORT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YOUNGEST WOMAN TO EVER SERVE IN THE HOUSE OF REPRESENTATIVES, REPRESENTING NY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ISON  BUMG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82800" y="762120"/>
            <a:ext cx="71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TCHER FOR THE SAN FRANCISCO GIANTS WAS NAMED WORLD SERIES MVP IN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OTTE  BRONT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JANE EY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800280" y="4876920"/>
            <a:ext cx="754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VER  AND  JOAQUIN  PHOEN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85960" y="762120"/>
            <a:ext cx="73720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THE ONLY BROTHERS TO BOTH BE OSCAR-NOMINATED FOR ACTING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OKLYN  DE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9600" y="762120"/>
            <a:ext cx="8524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AND MODEL IS MARRIED TO FORMER TENNIS PLAYER ANDY RODD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IN  P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ID      MIKE MYERS PLAY THAT LAMPOONED JAMES BON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UGENE  LE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85880" y="762120"/>
            <a:ext cx="757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ACTOR TO APPEAR IN ALL 8 OF THE "AMERICAN PIE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YOUNGEST WOMAN TO EVER SERVE IN THE HOUSE OF REPRESENTATIVES, REPRESENTING NY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0" y="4876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LANDO  BL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EGOLAS IN "THE LORD OF THE RINGS" FILMS, AND WILL TURNER IN THE "PIRATES OF THE CARIBBEAN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VANNAH  GUTH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7240" y="762120"/>
            <a:ext cx="7769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URRENT CO-HOST OF "THE TODAY SHOW" HAS BEEN ON THE SHOW FOR MORE THAN 6 YEA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U.S.  C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685800"/>
            <a:ext cx="8077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44560" y="761760"/>
            <a:ext cx="7454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TCHER FOR THE SAN FRANCISCO GIANTS WAS NAMED WORLD SERIES MVP IN 20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82800" y="762120"/>
            <a:ext cx="71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JANE EY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THE ONLY BROTHERS TO BOTH BE OSCAR-NOMINATED FOR ACTING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AND MODEL IS MARRIED TO FORMER TENNIS PLAYER ANDY RODDI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ID      MIKE MYERS PLAY THAT LAMPOONED JAMES BO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ACTOR TO APPEAR IN ALL 8 OF THE "AMERICAN PIE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43120" y="762120"/>
            <a:ext cx="7457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EGOLAS IN "THE LORD OF THE RINGS" FILMS, AND WILL TURNER IN THE "PIRATES OF THE CARIBBEAN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0T19:04:37Z</dcterms:modified>
  <cp:revision>401</cp:revision>
  <dc:subject/>
  <dc:title>Slide 1</dc:title>
</cp:coreProperties>
</file>