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4EBC-EA15-43CB-B8F7-B44F3FF29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461A-C3B5-4114-BC44-970408424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9724-279D-4624-B768-7CAA93ED8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73A0-D550-4D97-B6E8-DA973ED6E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10B1-FD35-42F3-8EE9-9E545767C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1550-C7D5-4A83-A689-2065D044C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A1D0-3B22-4ED5-A399-7822012A5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3805-CF02-448A-B6F7-D532E5976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3D2C-FC7A-4991-A3A6-82B0B80CC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E80D-70DD-40E9-9AA5-1CC43B099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3AB0-CBB1-4A93-8B0E-BE8DA77F5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8D9F-A95B-475C-B73D-CF6D40DC0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2BB0-06CF-4CBA-9FA0-7732EBC46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03D4-DC6A-4E95-911C-B30994EA3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8671-E64A-4E18-8C44-71A99FCC8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BC1F-015A-4D1A-8131-47FC730E3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9D65-A9B2-48A1-9E9A-7B47E2CEA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BC49-3914-4954-A022-0395CA324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8EF1-9FA8-47E6-B97C-2D0A90A22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5E54-B5FE-45E8-B312-F02D035B8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5B9B-E7BA-4843-8EE7-910C433F6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3A13-0907-442D-BADA-7A4951007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9096-49D9-4612-909D-248968ECD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990360"/>
            <a:ext cx="6172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00200" y="761760"/>
            <a:ext cx="7743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URRENT CO-HOST OF "THE TODAY SHOW" HAS BEEN ON THE SHOW FOR MORE THAN 6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228600" y="48769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XANDRIA  OCASIO–CORT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YOUNGEST WOMAN TO EVER SERVE IN THE HOUSE OF REPRESENTATIVES, REPRESENTING NY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DISON  BUMGA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82800" y="762120"/>
            <a:ext cx="71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ITCHER FOR THE SAN FRANCISCO GIANTS WAS NAMED WORLD SERIES MVP IN 201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OTTE  BRONT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JANE EY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800280" y="487692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VER  AND  JOAQUIN  PHOEN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85960" y="762120"/>
            <a:ext cx="737208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RE THE ONLY BROTHERS TO BOTH BE OSCAR-NOMINATED FOR ACTING AW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OKLYN  DE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09600" y="762120"/>
            <a:ext cx="8524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AND MODEL IS MARRIED TO FORMER TENNIS PLAYER ANDY RODDI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06640" y="4876920"/>
            <a:ext cx="6930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STIN  POW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00280" y="762120"/>
            <a:ext cx="75438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DID      MIKE MYERS PLAY THAT LAMPOONED JAMES BON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UGENE  LE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85880" y="762120"/>
            <a:ext cx="7572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ACTOR TO APPEAR IN ALL 8 OF THE "AMERICAN PIE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YOUNGEST WOMAN TO EVER SERVE IN THE HOUSE OF REPRESENTATIVES, REPRESENTING NY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0" y="4876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LANDO  BL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7621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LEGOLAS IN "THE LORD OF THE RINGS" FILMS, AND WILL TURNER IN THE "PIRATES OF THE CARIBBEAN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VANNAH  GUTHR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7240" y="762120"/>
            <a:ext cx="7769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URRENT CO-HOST OF "THE TODAY SHOW" HAS BEEN ON THE SHOW FOR MORE THAN 6 YEAR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33520" y="4876920"/>
            <a:ext cx="8076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U.S.  C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685800"/>
            <a:ext cx="8077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44560" y="761760"/>
            <a:ext cx="7454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ITCHER FOR THE SAN FRANCISCO GIANTS WAS NAMED WORLD SERIES MVP IN 201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82800" y="762120"/>
            <a:ext cx="71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JANE EY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RE THE ONLY BROTHERS TO BOTH BE OSCAR-NOMINATED FOR ACTING AW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AND MODEL IS MARRIED TO FORMER TENNIS PLAYER ANDY RODDIC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DID      MIKE MYERS PLAY THAT LAMPOONED JAMES BO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ACTOR TO APPEAR IN ALL 8 OF THE "AMERICAN PIE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43120" y="762120"/>
            <a:ext cx="7457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LEGOLAS IN "THE LORD OF THE RINGS" FILMS, AND WILL TURNER IN THE "PIRATES OF THE CARIBBEAN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30T19:04:37Z</dcterms:modified>
  <cp:revision>401</cp:revision>
  <dc:subject/>
  <dc:title>Slide 1</dc:title>
</cp:coreProperties>
</file>