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7A35-E92F-4358-80F7-CB31E4DEF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7063-CE2B-452F-AF36-42E4154E2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4E78-7DAF-444B-97F7-F7271D34D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6E6C-AF58-4C91-B3FB-FCE4E6A6C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875D-0801-4BA8-AE93-0A129ECDC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A2DC-92B3-4C5E-8F46-4CE7FE17B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4DCE-DBCB-493F-A70C-B10608DFF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096F-C4A4-41AD-A178-9BFAC5D09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C6DB-4040-44C6-B7C4-369F09EA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D2CA-93FE-48E8-840C-8E00DDF38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21B3-0CBE-4354-8BDF-71CBA2C8F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4836-6126-4C30-8B7A-5AAF31D9A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B2C2-331F-4DAA-B00C-EB934BFAF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02A7-62A6-4E3F-82D7-209F8F0C5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93CA-EB3B-4FF8-BB18-142150866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CA74-DFE1-4502-B3D9-22032E282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A854-B0D2-440E-98D7-4B42A0565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E8DF-B541-4EB8-938D-D140DE452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9FE2-61A5-4D95-9770-517DBC504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6B73-FAAA-49EB-B5FB-F85602246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0D7B-FEAC-4166-9ED3-CCFEA2ECF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5142-0830-4B93-B5C8-6E855338A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897D-2AB5-4412-81B5-2B418BB60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0200" y="761760"/>
            <a:ext cx="77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URRENT CO-HOST OF "THE TODAY SHOW" HAS BEEN ON THE SHOW FOR MORE THAN 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RIA  OCASIO–CORT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WOMAN TO EVER SERVE IN THE HOUSE OF REPRESENTATIVES, REPRESENTING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ISON  BUM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82800" y="762120"/>
            <a:ext cx="71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TCHER FOR THE SAN FRANCISCO GIANTS WAS NAMED WORLD SERIES MVP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  BRONT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JANE EY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800280" y="4876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VER  AND  JOAQUIN 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85960" y="762120"/>
            <a:ext cx="7372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ONLY BROTHERS TO BOTH BE OSCAR-NOMINATED FOR ACTING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LYN  D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9600" y="762120"/>
            <a:ext cx="8524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MODEL IS MARRIED TO FORMER TENNIS PLAYER ANDY RODD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IN  P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     MIKE MYERS PLAY THAT LAMPOONED JAMES BO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GENE  LE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5880" y="762120"/>
            <a:ext cx="757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OR TO APPEAR IN ALL 8 OF THE "AMERICAN PIE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WOMAN TO EVER SERVE IN THE HOUSE OF REPRESENTATIVES, REPRESENTING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  BL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GOLAS IN "THE LORD OF THE RINGS" FILMS, AND WILL TURNER IN THE "PIRATES OF THE CARIBBEA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VANNAH  GUTH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7240" y="762120"/>
            <a:ext cx="7769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URRENT CO-HOST OF "THE TODAY SHOW" HAS BEEN ON THE SHOW FOR MORE THAN 6 YEA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U.S.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68580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44560" y="761760"/>
            <a:ext cx="745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TCHER FOR THE SAN FRANCISCO GIANTS WAS NAMED WORLD SERIES MVP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82800" y="762120"/>
            <a:ext cx="71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JANE EY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ONLY BROTHERS TO BOTH BE OSCAR-NOMINATED FOR ACTING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MODEL IS MARRIED TO FORMER TENNIS PLAYER ANDY RODDI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     MIKE MYERS PLAY THAT LAMPOONED JAMES B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OR TO APPEAR IN ALL 8 OF THE "AMERICAN PIE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43120" y="762120"/>
            <a:ext cx="745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GOLAS IN "THE LORD OF THE RINGS" FILMS, AND WILL TURNER IN THE "PIRATES OF THE CARIBBEA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9:04:37Z</dcterms:modified>
  <cp:revision>401</cp:revision>
  <dc:subject/>
  <dc:title>Slide 1</dc:title>
</cp:coreProperties>
</file>