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2826-583D-4E1D-B465-E62E02DB8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F554-7F76-44EB-BB27-24838BD4C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3364-A944-4E3B-80DB-9C2C323A1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237E-A791-4F5B-A5DF-4990F1DA7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74DC-BF53-45EF-9525-B3DAAF0CD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507F-272F-42E4-9B1D-9D281660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0CA0-2719-40CD-ACCA-1C8011BC1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72AA-9ACD-4BA2-BC11-0B9120052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A4C1-C012-4D79-8254-F24C44A0E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F241-08EF-45EE-95FA-BFE4C9BB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4C7F-77AC-4D38-8BE9-99407A87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7898-52FA-498C-A9ED-126723D0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BD6E-038F-49A6-A732-A32B91A67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17E3-0997-4A1C-9EEA-736F51CC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77FF-143D-4CC3-BF48-6F6ACB6D8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B603-0F0B-48D9-BDB7-73966B488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10F7-B686-4686-A726-44B855C2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6641-48DB-4B00-A6EE-AE80A353D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5CC5-7DC7-458F-BB57-A0AEA1381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2D7D-A48F-491B-8FA5-3F01B18CC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B481-C5F3-4F80-BFFB-EB33B2D49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09EF-8CE5-4D48-B296-2C7A234CF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58CD-A9F4-4FAD-AAFB-9CB37CB4D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ARE THE BALLS ONLY USED FOR AN AVERAGE OF 3 MINU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CELEBRATE ON "TET", NEW YEAR'S DAY I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HAS THE LYRICS "SAVIOR OF THE UNIVERSE, HE'LL SAVE EVERY ONE OF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MALLEABLE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03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NO PREVIOUS GOVERNMENT OR MILITARY EXPER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E FLAG OF TENNESSEE IS MOSTLY WHAT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BANS THE DENIAL OF VOTING OF CITIZENS BASED O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REESE WITHERSPOON HIKE FOR 94 DAYS AND REFLECT ABOUT HER MOTHER, PLAYED BY LAURA DE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CELEBRATE ON "TET", NEW YEAR'S DAY IN VIETN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RANCIS  SCOTT) 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THE U.S. NATIONAL AN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ARE THE BALLS ONLY USED FOR AN AVERAGE OF 3 MIN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76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CA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HAS THE LYRICS "SAVIOR OF THE UNIVERSE, HE'LL SAVE EVERY ONE OF 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MALLEABLE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NO PREVIOUS GOVERNMENT OR MILITARY EXPER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E FLAG OF TENNESSEE IS MOSTLY WHAT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BANS THE DENIAL OF VOTING OF CITIZENS BASED O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REESE WITHERSPOON HIKE FOR 94 DAYS AND REFLECT ABOUT HER MOTHER, PLAYED BY LAURA DE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THE U.S. NATIONAL AN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9:10:57Z</dcterms:created>
  <dc:creator>Jennifer Budzinski</dc:creator>
  <dc:description/>
  <dc:language>en-US</dc:language>
  <cp:lastModifiedBy>Erich Friedman</cp:lastModifiedBy>
  <dcterms:modified xsi:type="dcterms:W3CDTF">2020-08-30T19:05:25Z</dcterms:modified>
  <cp:revision>432</cp:revision>
  <dc:subject/>
  <dc:title>Slide 1</dc:title>
</cp:coreProperties>
</file>