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4509-4D6C-441F-B2EE-5A85C3B09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76DB-8A09-42C8-B57F-B61DDCFDB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5050-8EBA-46DF-ABF5-C218E4535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2586-98E7-41A7-AE7D-63E72E269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6AFC-16CD-4EA6-9410-5DA0D489B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2EB1-65E5-48E0-AF11-1E18DB5CE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5080-E5A6-489D-BBD4-F3A55EF1C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623E-BA30-4A2F-B9D8-F0370B3C4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01CA-F098-4706-8B11-D051DD5FB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C220-916A-4D22-9786-0A9EAABEA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7748-F898-415A-9827-8EDAF35F0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F664-1BC0-495D-A503-0E95E292D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D678-BF9D-45F4-9592-D6D21D39F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70E8-F015-4791-A471-BD750C765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C413-3F35-4D5E-BD80-4F79056F4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B94E-DE71-4A39-A96A-4DCD3AED6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6CDD-A831-4A18-A31D-AB7E8BA4B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56F9-F8A5-40B5-9513-2159D974F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82D2-CAE3-46A1-8D89-DA2B02000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1122-C2E1-480C-A66B-2DB8EC5C6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87CB-BDC5-400A-A251-FD39A1259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3CAB-3FAD-4486-9971-B3087E688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2B54-C431-4066-B34A-7C297E8AC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ARE THE BALLS ONLY USED FOR AN AVERAGE OF 3 MINU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TH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19000" y="762120"/>
            <a:ext cx="750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EVERYONE CELEBRATE ON "TET", NEW YEAR'S DAY IN VIET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EEN SONG HAS THE LYRICS "SAVIOR OF THE UNIVERSE, HE'LL SAVE EVERY ONE OF 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MALLEABLE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03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HAD NO PREVIOUS GOVERNMENT OR MILITARY EXPER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E FLAG OF TENNESSEE IS MOSTLY WHAT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 TO THE U.S. CONSTITUTION BANS THE DENIAL OF VOTING OF CITIZENS BASED ON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REESE WITHERSPOON HIKE FOR 94 DAYS AND REFLECT ABOUT HER MOTHER, PLAYED BY LAURA DE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EVERYONE CELEBRATE ON "TET", NEW YEAR'S DAY IN VIETN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FRANCIS  SCOTT)  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THE U.S. NATIONAL AN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ARE THE BALLS ONLY USED FOR AN AVERAGE OF 3 MINU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4876920"/>
            <a:ext cx="7696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CAR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EEN SONG HAS THE LYRICS "SAVIOR OF THE UNIVERSE, HE'LL SAVE EVERY ONE OF 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MALLEABLE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PRESIDENT HAD NO PREVIOUS GOVERNMENT OR MILITARY EXPERI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TE FLAG OF TENNESSEE IS MOSTLY WHAT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 TO THE U.S. CONSTITUTION BANS THE DENIAL OF VOTING OF CITIZENS BASED ON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FILM DOES REESE WITHERSPOON HIKE FOR 94 DAYS AND REFLECT ABOUT HER MOTHER, PLAYED BY LAURA DE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THE U.S. NATIONAL ANTH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9T19:10:57Z</dcterms:created>
  <dc:creator>Jennifer Budzinski</dc:creator>
  <dc:description/>
  <dc:language>en-US</dc:language>
  <cp:lastModifiedBy>Erich Friedman</cp:lastModifiedBy>
  <dcterms:modified xsi:type="dcterms:W3CDTF">2020-08-30T19:05:25Z</dcterms:modified>
  <cp:revision>432</cp:revision>
  <dc:subject/>
  <dc:title>Slide 1</dc:title>
</cp:coreProperties>
</file>