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693F-00FC-4956-B714-3CA770E52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B2F3-0CFC-439D-A95D-7445F2386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43B4-EB58-4FBA-8C2B-EF448B6FB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8FF0-4D76-4094-9FAE-CE5D7FC7C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DB89-9A08-4DB0-A786-745EC75D6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CA61-9ED4-46D2-8C73-78E14A40D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4DEF-5416-414A-AC02-3CA713A39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24DF-08EA-4B4F-A058-B373EBE34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2071-A050-472E-BEBE-001FE2198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B15A-78D2-4199-A727-4978ADE93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ABFB-2C87-4D25-BCE7-940D60639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B55A-67F0-4225-9D2F-E8A1661E6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D54C-5BC1-4FD6-8237-2176E54D2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7BB9-8664-496C-8432-257700816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C573-42FF-4D7A-AAD3-9D1F365B2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5C17-597B-47B5-BA75-727E3849D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26A4-CCA1-4342-BEA5-E0CBC3298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F337-EDBE-4B08-8038-979EECEFE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2A0F-70AD-4BAE-ABD5-8ADB69300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4A88-2463-402E-A178-103C123DB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3DD0-BAEE-46E2-ACFE-19E7D814F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FC79-FAC3-4ABA-87FA-528396831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9324-2A82-49A7-998A-FB9FB0665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PORT ARE THE BALLS ONLY USED FOR AN AVERAGE OF 3 MINU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RTH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19000" y="762120"/>
            <a:ext cx="7506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EVERYONE CELEBRATE ON "TET", NEW YEAR'S DAY IN VIETN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EEN SONG HAS THE LYRICS "SAVIOR OF THE UNIVERSE, HE'LL SAVE EVERY ONE OF U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95280" y="762120"/>
            <a:ext cx="6553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MALLEABLE ME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03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.S. PRESIDENT HAD NO PREVIOUS GOVERNMENT OR MILITARY EXPERI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ATE FLAG OF TENNESSEE IS MOSTLY WHAT COL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MENDMENT TO THE U.S. CONSTITUTION BANS THE DENIAL OF VOTING OF CITIZENS BASED ON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4 FILM DOES REESE WITHERSPOON HIKE FOR 94 DAYS AND REFLECT ABOUT HER MOTHER, PLAYED BY LAURA DE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EVERYONE CELEBRATE ON "TET", NEW YEAR'S DAY IN VIETN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FRANCIS  SCOTT)  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OF THE U.S. NATIONAL ANTH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E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PORT ARE THE BALLS ONLY USED FOR AN AVERAGE OF 3 MINU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23960" y="487692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CAR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EEN SONG HAS THE LYRICS "SAVIOR OF THE UNIVERSE, HE'LL SAVE EVERY ONE OF U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04840" y="762120"/>
            <a:ext cx="6934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MALLEABLE ME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.S. PRESIDENT HAD NO PREVIOUS GOVERNMENT OR MILITARY EXPERIE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ATE FLAG OF TENNESSEE IS MOSTLY WHAT COL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MENDMENT TO THE U.S. CONSTITUTION BANS THE DENIAL OF VOTING OF CITIZENS BASED ON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4 FILM DOES REESE WITHERSPOON HIKE FOR 94 DAYS AND REFLECT ABOUT HER MOTHER, PLAYED BY LAURA DER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OF THE U.S. NATIONAL ANTH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9T19:10:57Z</dcterms:created>
  <dc:creator>Jennifer Budzinski</dc:creator>
  <dc:description/>
  <dc:language>en-US</dc:language>
  <cp:lastModifiedBy>Erich Friedman</cp:lastModifiedBy>
  <dcterms:modified xsi:type="dcterms:W3CDTF">2020-08-30T19:05:25Z</dcterms:modified>
  <cp:revision>432</cp:revision>
  <dc:subject/>
  <dc:title>Slide 1</dc:title>
</cp:coreProperties>
</file>