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06DC-C106-46C5-AAF9-AE7013D4B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9D3F-EFFF-4A17-BB4D-FAE883B2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8AA-F74D-444C-B427-9BD249AE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AB13-FCB6-4688-B77A-A55022D08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DBC7-D9DB-496D-A3BF-58221383E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F55C-044B-4B67-8297-E3008726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7BF9-68FA-483C-AACE-677133E8E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629D-27B5-45DD-A75B-B3C54C606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046-85C4-4EE4-ADFF-AA76471F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E3EE-122B-41CC-BA0D-76F1C97EE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589E-99BB-4177-8E1A-EBC8814F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5E10-688D-49AF-B2C0-0EED5B281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BD2-B6A8-418B-876A-3215F027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43F6-F5A7-47C1-BD18-407C71CE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E982-8C58-480F-9DA2-4E28D062E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06C4-D421-49A4-9C8A-AB47C9AC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8780-14BB-4CC8-8884-AD7F63513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DC98-B8B0-459E-9B5B-CF1ABFBB2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DA4C-E50E-4EC1-9A0D-A53AC53D8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C282-D974-415D-A261-5787754B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1A1C-9292-4523-805E-41135A4C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650-75D2-47AC-BCF2-B2661ACB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FAB5-13EC-457E-83B5-9DF7E8C9E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-LETTER WORD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LE BAILEY'S SISTER IS NAMED LOIS FLAGSTON.  WHAT IS HER HUSBAND'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838080"/>
            <a:ext cx="76197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-LETTER WORD IN THE DECLARATION OF INDEPEN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–LETTER WORD IN THE STAR-SPANGLED BA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  &amp; 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"DO", 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NES IN THE TONIC SOLFA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MUND FREUD'S   MODEL OF THE PSYCHE CONTAINS THE EGO, SUPER-EGO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  &amp; 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TWO MAIN CHARACTERS IN 10 FILMS ABOUT THE KETTLE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TWO-LETTER COORDINATING CONJ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CAN IS THE MOST COMMON MEDICAL IMAGING PERFORM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-LETTER WORD IN THE DECLARATION OF INDEPEND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7680" y="762120"/>
            <a:ext cx="810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SIMON'S BEST-SELLING SINGLE WAS WRITTEN AFTER SOMEONE MISTAKENLY CALLED HIM WHAT NAME AT A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LE BAILEY'S SISTER IS NAMED LOIS FLAGSTON.  WHAT IS HER HUSBAND'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3434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STATE  POSTAL ABBREVI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–LETTER WORD IN THE STAR-SPANGLED BAN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"DO", 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NES IN THE TONIC SOLFA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MUND FREUD'S  MODEL OF THE PSYCHE CONTAINS THE EGO, SUPER-EGO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TWO MAIN CHARACTERS IN 10 FILMS ABOUT THE KETTLE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TWO-LETTER COORDINATING CONJUN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CAN IS THE MOST COMMON MEDICAL IMAGING PER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SIMON'S BEST-SELLING SINGLE WAS WRITTEN AFTER SOMEONE MISTAKENLY CALLED HIM WHAT NAME AT A PA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9:18:06Z</dcterms:created>
  <dc:creator>Jennifer Budzinski</dc:creator>
  <dc:description/>
  <dc:language>en-US</dc:language>
  <cp:lastModifiedBy>Erich Friedman</cp:lastModifiedBy>
  <dcterms:modified xsi:type="dcterms:W3CDTF">2020-08-31T00:04:31Z</dcterms:modified>
  <cp:revision>391</cp:revision>
  <dc:subject/>
  <dc:title>Slide 1</dc:title>
</cp:coreProperties>
</file>