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CD54-CA5B-4449-96BC-0F18202D0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454C-F045-4787-B485-672A13733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A8AC-983E-49CE-86FB-85460405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E8B1-7FDF-4F85-8354-6974FB553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6B1E-EFC9-4F58-8CB9-455CF3C57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AD1D-6E73-4DDB-9C76-D244262A3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045A-3613-4277-9FE0-32E49EED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1C83-07E7-402A-B001-90E5DCE2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9109-2462-489A-9F56-0C689039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43C-2F98-426E-8E7F-62EDBB65E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9DF05-1BD5-4366-8277-89613DDE4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56A8-1125-4159-83FA-C9890EF0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6412-3A4C-4BD4-A04B-0BD03B55B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333C-690E-4F8B-BF54-AEF3146F4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E63-1078-4D29-9C7B-F84546B5D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220-EF91-41D5-8096-BC0CB061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0BFB-6F10-446B-A7E9-643BEDC7B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BB4F-56E9-4023-BED7-457B6B3C6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3C3D-C423-4D35-9399-2408B488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86E5-E778-41FB-A26D-2E0DB2FF4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1A4C-8A2C-405C-8EFB-06F7D427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083-A9AE-427E-9364-8BC6CFA68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C888-7D8D-4714-80FF-F1F8C9CE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-LETTER WOR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838080"/>
            <a:ext cx="76197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  &amp; 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 MODEL OF THE PSYCHE CONTAINS THE EGO, SUPER-EG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  &amp;  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-LETTER WORD IN THE DECLARATION OF INDEPEND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7680" y="762120"/>
            <a:ext cx="810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LE BAILEY'S SISTER IS NAMED LOIS FLAGSTON.  WHAT IS HER HUSBAN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STATE  POSTAL ABBREV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TWO–LETTER WORD IN THE STAR-SPANGLED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"DO", 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NES IN THE TONIC SOLFA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MUND FREUD'S  MODEL OF THE PSYCHE CONTAINS THE EGO, SUPER-EGO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TWO MAIN CHARACTERS IN 10 FILMS ABOUT THE KETTLE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TWO-LETTER COORDINATING CONJUN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CAN IS THE MOST COMMON MEDICAL IMAGING PER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SIMON'S BEST-SELLING SINGLE WAS WRITTEN AFTER SOMEONE MISTAKENLY CALLED HIM WHAT NAME AT A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18:06Z</dcterms:created>
  <dc:creator>Jennifer Budzinski</dc:creator>
  <dc:description/>
  <dc:language>en-US</dc:language>
  <cp:lastModifiedBy>Erich Friedman</cp:lastModifiedBy>
  <dcterms:modified xsi:type="dcterms:W3CDTF">2020-08-31T00:04:31Z</dcterms:modified>
  <cp:revision>391</cp:revision>
  <dc:subject/>
  <dc:title>Slide 1</dc:title>
</cp:coreProperties>
</file>