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71A5-7A88-4CC2-BAE9-EE1174621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AC13-6DF9-4CF8-B832-7F6A3206D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704B-1834-4B2C-BCB3-616AAB6E7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66F0-D6F3-4959-8523-629E3366F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BE97-B10E-4644-A158-048DCF2D0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FCDC-35F8-4900-B60D-D7385BE42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ACAA-72C4-4FA1-A6AC-183E8B779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32E8-B51B-49B8-BA7A-41F0364FF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481F-203D-4A2B-917F-2D2982FBC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B6CA-432F-43C0-B5E2-9C0F06C50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7DA0-44F6-4A85-AF2E-7BF08522A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F66C-A2EA-4717-91EE-86E73E724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BE01-DE33-418E-8BF7-D1A235945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B22F-B47C-479F-980C-B2F509474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A4AF-6256-4D6C-9823-8D0771DCA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49FC-C1B2-49B9-AECA-AB436FDA3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5631-0CFE-4E61-84DF-A33BDFA36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9BA3-B61A-4C62-B7B6-1DC73BC63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2BD0-67D9-402F-9F5A-DE8738DF1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A70D-F2C1-4EB1-881A-E3B3D9996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5A6B-FA5B-497E-A081-DA1CEED97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8134-7441-4153-9CAC-A3DDF3F89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2B68-9BB9-4867-BC83-6905ACEFE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-LETTER WORD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ETLE BAILEY'S SISTER IS NAMED LOIS FLAGSTON.  WHAT IS HER HUSBAND'S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838080"/>
            <a:ext cx="76197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TWO-LETTER WORD IN THE DECLARATION OF INDEPEND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TWO–LETTER WORD IN THE STAR-SPANGLED BAN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  &amp;  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RTING WITH "DO", WHAT ARE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NES IN THE TONIC SOLFA SC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GMUND FREUD'S   MODEL OF THE PSYCHE CONTAINS THE EGO, SUPER-EGO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  &amp;  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TWO MAIN CHARACTERS IN 10 FILMS ABOUT THE KETTLE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TWO-LETTER COORDINATING CONJUN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CAN IS THE MOST COMMON MEDICAL IMAGING PERFORM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TWO-LETTER WORD IN THE DECLARATION OF INDEPEND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17680" y="762120"/>
            <a:ext cx="8108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SIMON'S BEST-SELLING SINGLE WAS WRITTEN AFTER SOMEONE MISTAKENLY CALLED HIM WHAT NAME AT A PA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420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ETLE BAILEY'S SISTER IS NAMED LOIS FLAGSTON.  WHAT IS HER HUSBAND'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57480" y="434340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S.  STATE  POSTAL ABBREVI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0720" y="762120"/>
            <a:ext cx="7162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TWO–LETTER WORD IN THE STAR-SPANGLED BAN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RTING WITH "DO", WHAT ARE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NES IN THE TONIC SOLFA SC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GMUND FREUD'S  MODEL OF THE PSYCHE CONTAINS THE EGO, SUPER-EGO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TWO MAIN CHARACTERS IN 10 FILMS ABOUT THE KETTLE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TWO-LETTER COORDINATING CONJUN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CAN IS THE MOST COMMON MEDICAL IMAGING PERFORM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SIMON'S BEST-SELLING SINGLE WAS WRITTEN AFTER SOMEONE MISTAKENLY CALLED HIM WHAT NAME AT A PAR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19:18:06Z</dcterms:created>
  <dc:creator>Jennifer Budzinski</dc:creator>
  <dc:description/>
  <dc:language>en-US</dc:language>
  <cp:lastModifiedBy>Erich Friedman</cp:lastModifiedBy>
  <dcterms:modified xsi:type="dcterms:W3CDTF">2020-08-31T00:04:31Z</dcterms:modified>
  <cp:revision>391</cp:revision>
  <dc:subject/>
  <dc:title>Slide 1</dc:title>
</cp:coreProperties>
</file>