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CD8C-2524-42D3-87E2-5413ECB2B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0B03-6A2F-4747-9DFA-607A84EEE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F9C0-D648-4888-B2B0-76EE56D14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2947-1490-468F-AAB5-EEBA1F071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1F35-EA98-4EA4-91E5-1035F648D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D36D-5A49-4C78-B17D-FC76867BF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6024-E74D-463F-BEEF-4AA5051A9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960E-2AAF-4541-B881-DB131335F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120E-9AD7-43A7-BE89-F88642506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A2FF-AE5A-45C3-9809-F453651B7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99B8-4EEC-4B77-9310-8F5BDBF58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0DC6-B857-4AAA-A152-825CE21D7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D726-059D-468C-9E76-09C355B1D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1886-2B00-4E7D-89AF-8C16C0505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DA51-2349-4F06-9AA0-0954A8015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0ABB-441B-417A-9748-987EAA478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B399-E261-473C-A2C5-824908E9C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E7FC-ADB4-4C05-99B8-A8D31F458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7627-F957-4B0A-849F-5DD5195C6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3D35-F75D-4726-AE60-63F019061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9AA4-EC86-46FB-B593-901D5E88D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9D39-3D11-4062-A0A0-251697CC4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E810-6B0E-46AA-BC08-E1080BBB4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428840" y="762120"/>
            <a:ext cx="6286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EACH RING OF THE OLYMPIC  FLAG REPRES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WAR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52600" y="762120"/>
            <a:ext cx="8038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THEY ARE SMALL COMPARED TO RED GIANTS, WHAT ARE MAIN SEQUENCE STARS ALSO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CRA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333440" y="762120"/>
            <a:ext cx="6477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A STATE CAPITAL IF YOU ADD AN "O" AT THE END OF THE W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19000" y="762120"/>
            <a:ext cx="7506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THEMATICAL NOTATION FOR THE TRIG FUNCTION THAT IS THE RATIO "OPPOSITE OVER HYPOTENU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DORIS)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52560" y="74628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BIGGEST FEMALE FILM STAR OF THE EARLY 1960'S, WHO STARRED IN "MOVE OVER DARL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WS  OF  THE  PERIODIC  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LANTHANIDES AND ACTINID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695600" y="762120"/>
            <a:ext cx="5752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KISS FROM A RO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STEVIE)  WO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MUSICIAN WHO SANG "YOU ARE THE SUNSHINE OF MY LIF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THEY ARE SMALL COMPARED TO RED GIANTS, WHAT ARE MAIN SEQUENCE STARS ALSO KNOWN 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3-LETTER CODE FOR THE AIRPORT 20 MILES NORTH OF TACOMA, WASHING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IN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428840" y="762120"/>
            <a:ext cx="6286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EACH RING OF THE OLYMPIC FLAG RE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57480" y="4876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THERE  ARE  7 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57120" y="7617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A STATE CAPITAL IF YOU ADD AN "O" AT THE END OF THE W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THEMATICAL NOTATION FOR THE TRIG FUNCTION THAT IS THE RATIO "OPPOSITE OVER HYPOTENU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BIGGEST FEMALE FILM STAR OF THE EARLY 1960'S, WHO STARRED IN "MOVE OVER DARL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LANTHANIDES AND ACTINID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562040" y="761760"/>
            <a:ext cx="6019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KISS FROM A RO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MUSICIAN WHO SANG "YOU ARE THE SUNSHINE OF MY LIF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3-LETTER CODE FOR THE AIRPORT 20 MILES NORTH OF TACOMA, WASHINGT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1T16:14:35Z</dcterms:created>
  <dc:creator>Jennifer Budzinski</dc:creator>
  <dc:description/>
  <dc:language>en-US</dc:language>
  <cp:lastModifiedBy>Erich Friedman</cp:lastModifiedBy>
  <dcterms:modified xsi:type="dcterms:W3CDTF">2020-08-31T00:05:00Z</dcterms:modified>
  <cp:revision>445</cp:revision>
  <dc:subject/>
  <dc:title>Slide 1</dc:title>
</cp:coreProperties>
</file>