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36FA-4827-48D2-AC46-A4D2DEFA0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5FE2-F9A6-426C-BF5E-32ECF580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F942-BFD8-4FF3-A482-48326076F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D1B5-3520-4B74-824B-D3D3CF738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7181-B93C-41CE-A8E0-9EC262762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F4C3-1E12-4643-884E-3D5716BB5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1AB6-FE58-4138-83B0-1DDB98718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E21D-204F-4749-AAB6-9C377F3AD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652D-6D0D-4498-98B0-E7C5A56F7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6FA0-1B2A-4E69-8413-92B4D9A91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B106-6369-41D4-993F-83EAF472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1A2F-AFE1-4E0C-B4C3-A40EC0FDC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AA2-A949-403D-95CF-E4BFD667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3563-3E3D-427C-A20A-9D8F93DB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572A-E657-44C2-B737-CB2B71A0C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C525-34A7-448E-A48C-C1B37C4D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07A8-88D3-43D0-8ADF-DE118CF40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BAED-12BD-4540-8A80-3FF2A2A7B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CA53-D8C2-4045-AB7A-24F26D2A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1AB-737F-40E9-B38B-35A50104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9EA6-F4EB-424D-8A3B-96B04EF7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C7B0-322A-48DC-B40D-FD253368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A5D-0793-4B99-B12E-D74C0802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28840" y="762120"/>
            <a:ext cx="6286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ACH RING OF THE OLYMPIC  FLAG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ARE SMALL COMPARED TO RED GIANTS, WHAT ARE MAIN SEQUENCE STARS ALSO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CR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STATE CAPITAL IF YOU ADD AN "O" AT THE END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19000" y="762120"/>
            <a:ext cx="750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OTATION FOR THE TRIG FUNCTION THAT IS THE RATIO "OPPOSITE OVER HYPOTEN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RIS)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4628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IGGEST FEMALE FILM STAR OF THE EARLY 1960'S, WHO STARRED IN "MOVE OVER DAR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WS  OF  THE  PERIODIC 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ANTHANIDES AND ACTINI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95600" y="762120"/>
            <a:ext cx="5752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SS FROM A R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EVIE)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YOU ARE THE SUNSHINE OF MY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ARE SMALL COMPARED TO RED GIANTS, WHAT ARE MAIN SEQUENCE STARS ALSO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CODE FOR THE AIRPORT 20 MILES NORTH OF TACOMA,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28840" y="762120"/>
            <a:ext cx="6286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ACH RING OF THE OLYMPIC FLAG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876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ERE  ARE  7 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STATE CAPITAL IF YOU ADD AN "O" AT THE END OF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OTATION FOR THE TRIG FUNCTION THAT IS THE RATIO "OPPOSITE OVER HYPOTEN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IGGEST FEMALE FILM STAR OF THE EARLY 1960'S, WHO STARRED IN "MOVE OVER DAR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ANTHANIDES AND ACTINI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62040" y="7617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SS FROM A R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YOU ARE THE SUNSHINE OF MY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CODE FOR THE AIRPORT 20 MILES NORTH OF TACOMA,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6:14:35Z</dcterms:created>
  <dc:creator>Jennifer Budzinski</dc:creator>
  <dc:description/>
  <dc:language>en-US</dc:language>
  <cp:lastModifiedBy>Erich Friedman</cp:lastModifiedBy>
  <dcterms:modified xsi:type="dcterms:W3CDTF">2020-08-31T00:05:00Z</dcterms:modified>
  <cp:revision>445</cp:revision>
  <dc:subject/>
  <dc:title>Slide 1</dc:title>
</cp:coreProperties>
</file>