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607-0B09-4FB0-9598-6654855E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6F7E-3D74-4270-88F4-362EB94D6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2796-9BC7-4954-8764-68173292C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17CE-0B71-46AF-9ECE-4D353527F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F22B-9199-4585-BD3D-ED631D9D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0C02-8563-4A3E-A5B0-DEA53DC57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1849-8BC6-4C5B-8CE6-BB73415C6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FC6C-9CF6-48D9-9DD8-FAA7A1FA2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934-62BC-4FF3-81F0-F80C598FA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E9FC-5227-45B5-BB25-0811B2541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5A0C-A301-43E5-9BC7-3EB5F661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64F2-6652-43AA-A0CF-4B47CB210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A7E-CA34-4D5D-8031-F442F33DC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D88A-6539-4526-B4F6-B21709901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B3E-6F61-4BB9-9435-CFD52AF90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4022-5EDC-4246-9409-7E30CEDBD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CBE7-BB29-445A-9F80-07B85ECBA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7AC0-2819-4E78-9ED3-FAFA750E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BBDB-0649-4CD8-A9F9-272826A4E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CF8C-7CC8-46DD-883F-E73C0036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CC70-9808-4BB0-9402-53D99AF88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1F79-D13D-4FDD-BF8F-A0EB5D47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3992-F049-48D6-8A70-C3665FCD3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 FLAG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R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19000" y="762120"/>
            <a:ext cx="7506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ORIS)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4628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S  OF  THE  PERIODIC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95600" y="762120"/>
            <a:ext cx="5752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TEVIE)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ARE SMALL COMPARED TO RED GIANTS, WHAT ARE MAIN SEQUENCE STAR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28840" y="762120"/>
            <a:ext cx="628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ACH RING OF THE OLYMPIC FLAG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57480" y="4876920"/>
            <a:ext cx="6629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ERE  ARE  7 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STATE CAPITAL IF YOU ADD AN "O" AT THE END OF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THEMATICAL NOTATION FOR THE TRIG FUNCTION THAT IS THE RATIO "OPPOSITE OVER HYPOTEN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IGGEST FEMALE FILM STAR OF THE EARLY 1960'S, WHO STARRED IN "MOVE OVER DAR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ANTHANIDES AND ACTINI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SS FROM A RO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USICIAN WHO SANG 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CODE FOR THE AIRPORT 20 MILES NORTH OF TACOMA,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6:14:35Z</dcterms:created>
  <dc:creator>Jennifer Budzinski</dc:creator>
  <dc:description/>
  <dc:language>en-US</dc:language>
  <cp:lastModifiedBy>Erich Friedman</cp:lastModifiedBy>
  <dcterms:modified xsi:type="dcterms:W3CDTF">2020-08-31T00:05:00Z</dcterms:modified>
  <cp:revision>445</cp:revision>
  <dc:subject/>
  <dc:title>Slide 1</dc:title>
</cp:coreProperties>
</file>